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33F81-0766-4350-8C74-E580FCA35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AF917-7A71-44EB-AB72-BC8E16BD7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8CDB4-122A-4E03-A2EC-DC4E0DE4FF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2FBF6-E483-458B-A3FC-45E86620F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63BF24-1D27-4E01-B68F-3D83398C8B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AF3226-9C96-4E9B-83B8-327EB444B1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454CE-6958-4877-8B06-792F29F9AB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4A159D-DA38-4AAB-80F3-B29322C86D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F6BF11-5833-4FB9-8A81-A27551F4D6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22420-59C4-4A21-8484-6AD5619620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9A287-ACB2-42E3-9103-1D62BB5932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C91C4-E076-46D8-BC0F-CDAAD03166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CD33E-3058-4696-9C69-3EF4407D39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495AA-BA52-4BAD-B94F-B5042595C7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91C80A-0E71-475E-B3A3-564268FB46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ACE3AD-18E6-454B-96EE-A318BA16FC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2200B9-0D5D-49A3-84B3-FC08B9647E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6F503-13D7-4798-A194-821B24A8BD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A59BB-AA01-4552-BFCC-91D4252763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6494F-2F3C-46BA-BDCF-C1F2308C0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37638-9C37-440A-8318-E0854F8814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E403F-CDE9-404F-A33B-29AB4A2A3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07C8A-B564-4231-ADC9-C5225615FE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57DF2-7BB2-4F13-959E-F262F4A26E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AEC88C8C-DE7C-4264-BEC7-A4550FEA545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FBA7ABD0-5169-4C80-8040-E65BFFA0E2B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1C610AC-F5C7-43A1-B60A-7E55036D43F1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9F66998-072E-449D-9F51-950E50E16F3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6-12-02T11:33:15Z</dcterms:modified>
  <cp:revision>255</cp:revision>
  <dc:subject/>
  <dc:title>8: SAMPLE SIZE DETERMINATION</dc:title>
</cp:coreProperties>
</file>