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C4B6-5DF6-42B8-B611-3F6899346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8705-5141-4125-B80B-919AFA183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8C80-FE02-455F-9F60-A0EEE49F5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9FF9-586F-4BAE-ADC7-8B31DD132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3D4E8-BA2A-491F-B9C4-13D6B7A725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B0264-FC91-4C7C-90E6-1FCA6D3DB5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A84F1-65E9-490F-B458-E683322E0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6E992-4F27-4D86-881B-10CB6DC18E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B3A7C-8BBD-4C69-A9A7-28EF2D9B38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EB722-954D-4766-B7BA-EDAECCD6A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825D9-63A2-4406-A3C5-339F8FD96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927D-1ABD-4D8C-AFAB-9CB64F092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0F179-38B9-4BA9-ABB8-FF064FF91D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EB5A-10BD-4F39-B9AD-6E7951D1D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AB541-1583-41B9-8279-E5EA2BD705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D062-7746-493B-92A5-3475FC1F2A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2176C-4FE4-4628-9051-7E1F585696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6E12-8CDD-4BD3-B2D1-94FB765D7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E6CF-6472-468D-A5DD-C5A3B3D17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AD8B-5442-4A47-AE43-79CBB0791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0317-9752-4776-8E51-FF1F71B43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7141-86EE-4DAB-9A1B-E824DFFCB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03698-E624-46F6-912E-0FE8F4CB0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82C5-C03C-4DF6-8373-054EA2E33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FF27ACF-C3F3-41FA-B671-E881C1B3A56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348BD67-F5EB-4AAF-A987-A62D4F91554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C26FDBC-243A-4842-9BC8-C70456988C4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0C65B0A-E84A-4650-91BA-744E631247F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6-12-02T11:33:15Z</dcterms:modified>
  <cp:revision>255</cp:revision>
  <dc:subject/>
  <dc:title>8: SAMPLE SIZE DETERMINATION</dc:title>
</cp:coreProperties>
</file>