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74CB3-9785-4591-829B-4A8B56C11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45B1-9343-44FE-A503-965F54762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1CF5-8235-4371-BBE9-2AE795F3D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CE09-29DA-4F1D-8735-58B7EC17B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7A5F0-F6C6-41A5-9AD1-AF5F5A22BB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01F52-114D-48F5-AB49-298DFBEDE4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9D2F7-108C-4CFB-AC47-CB1A540D2A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4637B-A8A4-4363-BD96-2573284C88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66971-BB04-4ED8-A903-7BB8C9B9DE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579FD-C98C-40E5-9115-60C033F869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F34CF-429E-4E12-97CE-C7F444D44E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75D53-375F-4585-BC9E-881040ED1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017EC-E7C6-48EC-9521-53C0C9B3A4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2FB77-2205-4666-A071-9B2F59E525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CD138-23A1-4828-B8BB-7738428C30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E5BF7-13DB-4226-A658-5CC4E6532A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C8149-D914-4942-9FDD-9A7CFDA501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724B-D59F-496B-8D70-58C2ACC88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1B002-1D14-485A-AB27-418829DF1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7058B-EB41-43A1-AA41-E8FE1FB2A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E3DA-D862-437A-B825-35DCF44B3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2D28D-2E29-49F8-9200-322AB4EAA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2224-2A4F-4403-9684-2D4E10C4E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1BAEA-03F1-439E-8065-F0C0118C1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3CA44AA-4958-4847-A51B-698B6043543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984DFB7-7A52-4C70-B4F8-DC3B764A439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40840D9-A8CB-4054-8452-32C6E40967D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5A11A08-32A0-4E18-AA42-FAAD128CDEB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6-05-03T14:43:52Z</dcterms:modified>
  <cp:revision>310</cp:revision>
  <dc:subject/>
  <dc:title>REGRESSION ANALYSIS</dc:title>
</cp:coreProperties>
</file>