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0BAD0-4815-45CF-BCC8-B5919D210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B1F86-AFDA-481D-BA86-72EF3C95C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50843-12E7-4541-B807-8CB29F006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B6120-8C1C-4833-B222-839C0ABC84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CE37F-E177-441B-9E14-D56852B63F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1C012-75C8-479E-89B7-D65728B3D6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BB80E-1374-4903-8B1D-6FDDA620C1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B9317-D20D-426B-8DAA-5A6F215626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5B5A7-3318-4896-A561-869354C510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66153-3676-41D1-9379-AA260FA9D3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69CBF-3309-4D90-8F9A-4847348FCF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E2430-19A1-4A51-9999-1C1D1A71D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010AF-1489-4852-9FDA-566AC0FDC5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CB52A-A502-44CF-B6CD-D907E9338E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EA212-469B-493F-A976-348159403C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E70DD-0AA7-464E-83F8-7120C020FA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EA4F7-8BF9-4673-9161-11D2F00CE6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745F6-E7B8-4415-A09E-5946281BE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C373C-92F8-4DB9-97A3-0E3EAD0EC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770B8-D360-4CD8-A02B-D410BA303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D2AEA-CED1-4FFC-8CFE-774FDBB348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92225-1D20-4E59-9E58-27A980919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B0154-4BCB-49AE-9A9C-88EC65D30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216A9-042B-4B45-9707-699226BC1F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8C7ACAA-50FE-4C79-976E-FA69BFFE15BE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2D6AD73-8235-4B17-B7E5-5E6C09960CD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499AEC6-CAF2-4155-90D1-3116AB408B0D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B0EBA76-3919-45F6-AA0E-A9424A07563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n TWO weeks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6-05-03T14:43:52Z</dcterms:modified>
  <cp:revision>310</cp:revision>
  <dc:subject/>
  <dc:title>REGRESSION ANALYSIS</dc:title>
</cp:coreProperties>
</file>