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97A0-8343-40A1-A2F7-7DF16601B85B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0B96-5B02-47BC-9264-AD2858EE74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F78-E628-40FF-858E-7AA2DD44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A7B-3AEF-4D43-B634-1FFA4E3A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6BD-CEFF-4B2A-B649-15FE94E2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5D3-FEA5-4899-BA2E-11F3ACA4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CD3-AC14-4E31-8D2A-BBD7A458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D40-99A8-42D1-9C8F-FB64B77D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B2F-30F7-42A7-8CDA-EE7354A6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439-E53E-4F12-BBFA-DB6BE802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CAA-4D45-4E5B-A231-7E77D55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D0E-D955-421D-9069-B84EC6BD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486-28B9-4346-8395-7DCDBA1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E21-3170-4520-9054-CE4EE21F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D454-3343-415D-8A54-6184D075F5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7" name="AutoShape 16"/>
          <p:cNvCxnSpPr>
            <a:stCxn id="172" idx="2"/>
            <a:endCxn id="173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8" name="AutoShape 17"/>
          <p:cNvCxnSpPr>
            <a:stCxn id="172" idx="2"/>
            <a:endCxn id="174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9" name="AutoShape 18"/>
          <p:cNvCxnSpPr>
            <a:stCxn id="172" idx="2"/>
            <a:endCxn id="175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0" name="AutoShape 19"/>
          <p:cNvCxnSpPr>
            <a:stCxn id="172" idx="2"/>
            <a:endCxn id="176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1" name="AutoShape 20"/>
          <p:cNvCxnSpPr>
            <a:stCxn id="170" idx="2"/>
            <a:endCxn id="171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2" name="AutoShape 21"/>
          <p:cNvCxnSpPr>
            <a:stCxn id="170" idx="2"/>
            <a:endCxn id="172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83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4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20" name="AutoShape 9"/>
          <p:cNvCxnSpPr>
            <a:stCxn id="219" idx="2"/>
            <a:endCxn id="215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1" name="AutoShape 10"/>
          <p:cNvCxnSpPr>
            <a:stCxn id="219" idx="2"/>
            <a:endCxn id="216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6" idx="2"/>
            <a:endCxn id="217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3" name="AutoShape 12"/>
          <p:cNvCxnSpPr>
            <a:stCxn id="216" idx="2"/>
            <a:endCxn id="218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24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8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46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53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66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6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8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8" name="AutoShape 7"/>
          <p:cNvCxnSpPr>
            <a:stCxn id="297" idx="2"/>
            <a:endCxn id="293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9" name="AutoShape 8"/>
          <p:cNvCxnSpPr>
            <a:stCxn id="297" idx="2"/>
            <a:endCxn id="294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0" name="AutoShape 9"/>
          <p:cNvCxnSpPr>
            <a:stCxn id="294" idx="2"/>
            <a:endCxn id="295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1" name="AutoShape 10"/>
          <p:cNvCxnSpPr>
            <a:stCxn id="294" idx="2"/>
            <a:endCxn id="296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02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65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9" name="AutoShape 4"/>
          <p:cNvCxnSpPr>
            <a:endCxn id="380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1" name="AutoShape 5"/>
          <p:cNvCxnSpPr>
            <a:stCxn id="378" idx="3"/>
            <a:endCxn id="382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3" name="AutoShape 6"/>
          <p:cNvCxnSpPr>
            <a:stCxn id="378" idx="3"/>
            <a:endCxn id="384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80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5" name="AutoShape 7"/>
          <p:cNvCxnSpPr>
            <a:stCxn id="394" idx="2"/>
            <a:endCxn id="390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6" name="AutoShape 8"/>
          <p:cNvCxnSpPr>
            <a:stCxn id="394" idx="2"/>
            <a:endCxn id="391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7" name="AutoShape 9"/>
          <p:cNvCxnSpPr>
            <a:stCxn id="391" idx="2"/>
            <a:endCxn id="392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8" name="AutoShape 10"/>
          <p:cNvCxnSpPr>
            <a:stCxn id="391" idx="2"/>
            <a:endCxn id="393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9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05" name="AutoShape 18"/>
          <p:cNvCxnSpPr>
            <a:stCxn id="392" idx="2"/>
            <a:endCxn id="399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6" name="AutoShape 19"/>
          <p:cNvCxnSpPr>
            <a:stCxn id="392" idx="2"/>
            <a:endCxn id="400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7" name="AutoShape 20"/>
          <p:cNvCxnSpPr>
            <a:stCxn id="392" idx="2"/>
            <a:endCxn id="401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8" name="AutoShape 21"/>
          <p:cNvCxnSpPr>
            <a:stCxn id="393" idx="2"/>
            <a:endCxn id="402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9" name="AutoShape 22"/>
          <p:cNvCxnSpPr>
            <a:stCxn id="393" idx="2"/>
            <a:endCxn id="403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10" name="AutoShape 23"/>
          <p:cNvCxnSpPr>
            <a:stCxn id="393" idx="2"/>
            <a:endCxn id="404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4" name="AutoShape 7"/>
          <p:cNvCxnSpPr>
            <a:stCxn id="443" idx="2"/>
            <a:endCxn id="439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5" name="AutoShape 8"/>
          <p:cNvCxnSpPr>
            <a:stCxn id="443" idx="2"/>
            <a:endCxn id="440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9"/>
          <p:cNvCxnSpPr>
            <a:stCxn id="440" idx="2"/>
            <a:endCxn id="441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10"/>
          <p:cNvCxnSpPr>
            <a:stCxn id="440" idx="2"/>
            <a:endCxn id="442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8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2" name="AutoShape 24"/>
          <p:cNvCxnSpPr>
            <a:stCxn id="439" idx="2"/>
            <a:endCxn id="451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25"/>
          <p:cNvCxnSpPr>
            <a:stCxn id="439" idx="2"/>
            <a:endCxn id="450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26"/>
          <p:cNvCxnSpPr>
            <a:stCxn id="442" idx="2"/>
            <a:endCxn id="448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5" name="AutoShape 27"/>
          <p:cNvCxnSpPr>
            <a:stCxn id="442" idx="2"/>
            <a:endCxn id="449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6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7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3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24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7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1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4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7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6-05-03T14:52:09Z</dcterms:modified>
  <cp:revision>85</cp:revision>
  <dc:subject/>
  <dc:title>No Slide Title</dc:title>
</cp:coreProperties>
</file>