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BAF37C-31A6-48EA-9DB5-07361D2EA66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56AB4E-7926-485C-94C6-97E2E4ECD0E7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7F9517-B288-45D1-8A31-27683A7725EA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4DFE-D69F-4220-9159-02936E66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CE71-6FF4-44CB-8FC5-87A6DFE4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0CE93-2769-48F7-BC8E-5152D3D3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365B0-B129-4C43-9D75-EDB273DC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698F9-9362-4C0F-AFD6-155E3654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6AE55-3C63-4D98-86AE-F53561F4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B6210-8CE1-48FE-9AF0-2342CAD1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7FF69-C383-43A3-933A-8EB9E5F2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909C0-1691-416F-B0DA-A45EDC97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F949E-B822-497D-A2DD-31A1BF9A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2B8C3-F73E-4CDA-9F49-EB88732F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81223-8081-4B2B-85B2-9069D011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BD09-031D-4355-A26C-DDF8A8FB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BF344-11FA-466C-8C52-9AE315DE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E5914-C2C2-4315-B369-08A3B716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A461C-13DC-4D48-A503-06932F82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E7F8C-AED9-4287-8B01-2035CA9F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65050-9B99-41D3-90B2-B4E3C7CF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A5BDB-E584-4E6E-96B0-DC87E370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38C9D-E097-4E15-B0C8-8E6813F4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1B211-FF41-4932-8009-6A9A273F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17DD1-4248-4D11-A465-1883A8B6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42DEF-F1D8-4191-BE92-629E20A8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11A4-C37C-4E73-8DFE-37619B45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52B2F-C075-45A8-A1BF-6676BE64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62977-DE93-416D-80EF-C3823EFC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881FD-652D-4C3C-BA26-27D0F484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CA0FA-C937-4B47-AB6A-86858874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3E8FA-3444-4929-9D13-2B70DFE4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D1933-02F0-4BC2-9962-CE73509E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A8769-D1F9-4319-8B03-BD540FC1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E9599-80A5-4B02-8FBF-00AB3981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94140-5584-44ED-ACBF-AD37EB95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C3A90-C506-4C45-A791-B70D1C05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42010-271D-4F7E-BE98-77D6751B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5A24B-CA8C-4FED-B400-B0F9F0B9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BF01B-46F7-4171-A2D0-82ACB9B5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621FE-8063-460C-9F8A-758D2648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8FA4B-035B-40DF-B9B1-166E5467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7E5CE-35AB-4F40-97CC-411371B0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C9341-427D-4D23-AD23-6278DB52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316BC-2B77-4F3A-AD04-7C2B5D55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D59A0-4CE4-4DDE-BBD5-23443E2E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629FA-9AE8-4174-A8F9-6469D975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59F7F-D247-4302-ABC0-451EAD48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29A02-B4F2-45A4-87BE-7AF35C20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4DE64-45DE-477D-AED0-C1B8E284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08644-22FB-47D5-9623-C6E0EBAA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094C7-D69E-42FA-8B1B-699F0AFA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C1BD6-5115-4B95-ADA9-007EE8FC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2FF75-1829-41F6-A2B9-9D7491AD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D0EB3-9B1C-439D-B503-011F033C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9767A-342D-4CE0-A47F-F13E5062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5F279-35A5-4D0D-958D-460279E9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731C0-E0C7-40AF-A190-B29D76C1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4F3B8-6425-47BF-AED5-C2C23073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FA51C-5D03-475C-A57C-9052A7DE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DA44F-3905-41DC-B868-E53951AD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59EFB-85B2-4C48-A879-3F8E094B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FE0AF-47F8-4AB3-8656-AE9BDE41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7DB9E-C7A0-4953-8FF2-435A409D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5C2026-EE7E-4908-96E3-CA6F66BB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92CE6A-8BED-407A-954A-6C808AD4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D5127B-32CB-44FF-B9D4-AD4E3983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53A9A-D25A-45DA-939D-F14E0EA5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5E2FD1-F168-43F6-9097-9718CF3F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7F680-3732-4880-B969-B0BE6DAE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B59F7-04EF-41EB-9E61-C9DD1434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E4B81C-FDD4-4CBE-B0AE-979345BE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6BB8C4-4CB7-4B13-BF5C-6E421B41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777AE8-CAFF-45DF-8314-4F110CC6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EDFE1F-1CB6-4107-85B1-B3A16810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661C8-DF24-4A57-9EA2-4D589ADE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22CFAA-1A3C-44C4-AE27-06DF0374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4F8675-7EFB-4276-A19F-543CB1A6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B1CBD-143C-4196-A884-4EC78220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FF3EAF-8451-40BF-98C9-C09129DB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353543-01FF-47AB-96DD-EF144F36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397A60-3B68-4865-B43F-20CBD41E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C15211-18D2-47BF-97AF-FE8BD511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07DCC8-3D89-4EEA-A602-B9BEFF66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CE33B6-40FD-4AAB-8243-9444113A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3A2D4C-E1E2-4AAB-B33F-123E897B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1A09F0-7856-4F57-974F-DED4677F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F2DC8E-095E-4C64-9853-920A34A4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1D1DF3-3C80-4AF5-9F4F-2949BC1E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C98E0F-05E5-4F79-8E0F-CA7E24AC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6CC97D-51B3-4D3C-9CD0-E3B91EFD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036B1C-C0A7-477F-B5D1-0E8F5737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DC44FE-C773-4C62-855E-97CB517D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4229BD-D5D4-4764-8F5A-FD0A0CDA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49ADE0-C413-4CE4-B56D-2F313E1D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CC14F5-F3F5-4192-9878-0F8CFA52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9AFC83-8B7D-47F6-8B4E-5DBF692F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0C7AED-1D4B-4994-9E6F-B57FA150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502488-690B-42FE-82FD-B5F7896B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D9D6C4-7025-4E2E-883A-C86C4ED8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E261DA-858F-4D1F-AADA-C800262E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2378DD-4765-4404-842A-6CC11214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11F22F-5125-4987-B851-41423AFB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3B643B-E8E1-4777-B0B4-0BAAB5E1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402F46-073D-491D-B9AB-B351E0D2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408ACF-5C93-4097-924E-D9073E78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6444B9-56D2-4821-9123-DABF3179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A1D-2740-45FA-B72E-0B14CE62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33E68A-4EC6-428C-AE33-462E6208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8922C4-3613-473F-8151-FF0B5C7F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FED387-F9D3-4FC2-933C-8223DC8D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6C5AA3-CECD-4A26-86E6-96C1B06C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619098-EBAB-490D-894D-05BA72AF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525E36-EECE-4417-8832-79EE603B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1EF4A9-9695-4879-BA37-5FDA5B16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FEBE6E-CDF9-4F3A-9924-57547DEB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C102FF-B295-4FA6-8B99-D796B472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A98086-0804-442A-B8EE-975526D7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E30BDE-AABA-43D0-A431-CD73EC1C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A5BC68-C811-4A03-8DEE-EDF8991E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FE27BE-8D66-4E1C-901B-34361BBB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8A91E2-169F-49EE-A59D-1305FE98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62F8E4-C218-4CF2-B5E2-4FF8F481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FD34AB-1AC2-4587-9BAD-2D034E32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3915F1-6C7C-416C-90AA-24C3ED22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C01-142A-4E17-A2E2-79AAABD5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E816-1A5F-49C2-99B0-8D1BEA83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E8A56-9BA0-45D6-8FB1-3285B602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56CA-DDDC-4817-8803-031089CF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88F41-BEEC-451D-80E1-500A3E28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B73B5-06AF-43F1-ADE8-832E6CE3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696E5-2DFC-4A6C-87F8-BF852422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9A082-A03D-4965-A2A9-4AEDEE9E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4F979-5B33-4028-9F4E-4153C63B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A782B-0E92-4C9B-8422-82FBB49C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19098-A02C-492A-BD76-1CD5DBAA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8CF77-48E5-4C94-92E0-AC0B9F87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79024-DC0F-4F74-BA1B-99E53C19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26792-1BCC-4CCC-BB95-80699486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E685-DBDA-4DE4-99B7-EBF4FA1E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58289-048F-4A81-A954-70B2F69B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E062C-5BE3-4C1A-B335-499D9EB5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9E96C-4A65-485B-8FF1-91F0AEFC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33473-833D-4D64-8029-C9BAF1F9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208D2-6CC4-41B0-A309-92D76848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8856C-5C6B-4F6E-84AA-90780976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2E664-D62B-4415-8446-23542451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2700E-31DE-4D3D-B0EF-DFBD9558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9938E-FA06-492B-B3FE-4277E145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87DD2-048C-41D7-9649-B2C568D4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35A8-AC58-4E44-92E8-9AFFAAF6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55865-5489-492E-808E-E6BBFB56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9DAB8-AC42-476E-85DE-6B071481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AE07B-5E0E-4313-A30E-53CC7EEF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F2A86-C401-4CDF-AF23-E21B7B94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DE03B-5E35-45F7-A470-7CDA9804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0BADD-A433-4459-95FC-E938FA77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EC478-C57C-4DD2-972E-94DB57D7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1CFFD-E968-4EC5-9B9C-B920021E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47E7B-CB4F-4E08-B442-187BB508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608AD-C5ED-49A9-AC14-20B4B033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3F7C-F962-4B83-A859-32EC2504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CB9C8-E8C4-4FC5-BBB8-96206FEA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7DB15-27CA-4FCA-AE80-A9F9B714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073B9-9F1A-48BD-9910-C762589B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5ADF2-5ED2-4CBA-8C56-EBD14ABD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3B0B8-41BE-4B7B-85BC-9327FFF1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7A321-7D51-4676-B551-4088226F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4634A-92DE-4923-A40C-0B8E844F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BACDE-F884-43E8-9A15-B295709E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8D5B6-65A7-4EF6-8A65-79F9C4D8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E3316-8330-4399-B140-861F4B78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C44-F04F-4DE0-8B2C-19F9E1DA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CBC0B-C7DF-49D0-A41F-D1DB39A9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4C0DF-B87E-4DD7-B9BB-299425DA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24109-B5EB-46DE-97C7-9E00E5EC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871A1-3901-4FAD-9EE0-5B1EFEFC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F1B70-BD13-462F-B87E-359F888A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E9376-CBD3-4875-A304-57CD6DE7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23228-F806-4F3D-A3A0-5240D930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FC3FE-DBCD-45D2-8F72-C80B64D6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FB225-3F47-4AA3-AA5C-CF0F7CB2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E5DE2-B33D-45B8-8EA7-E6803B03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08A0-2F1F-4DA6-B1CB-EB9F566DF70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67F0-5E82-4DCF-A28E-FFBBB0A912A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5DD8-E586-4331-98E5-3693E7451C9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C160-8EB2-44D1-9E35-6F2B87C015E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498B-079A-4BDD-8927-300D27D3F48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F69C-FEC1-4248-9B20-7B67E2FE86B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3419-8C07-4DF4-8264-69917404367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E7CF-ED9F-4888-A511-A51A531D699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EA91-2D76-4945-A964-1082521CCEF7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455C-03BD-48A6-BF1A-D52F2AA85E3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5EA4-FB56-4BD7-ADFB-CB1AC8CAF89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30AF-F6D2-4ABF-B0C4-15859FB29E1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DDBA-B3FC-44A4-A0B8-C66B0BFE1DC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D138-6F35-4059-A8AE-1C5F5DE7A7F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F215-8F28-48B9-AB25-A650CC03858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7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7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DD65-9E16-47E3-A395-F7BA613C697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EA31-5911-42AE-9DEB-DC0A4C4B201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CACD-2ED6-4189-8AEA-7F0AF9428A1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DA1B-F014-4FAA-B907-2B699BDF95B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8C1A-ED6D-4799-8C1D-9EB0233631A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6C63-D05D-4B27-81A0-5CF85814153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6B3F-47F2-412A-B07B-2206661E7CB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39E4-9874-4698-9043-9ED7543356A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5836-F1EA-4CD2-BFA7-DB5D22A7063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041C-84FB-4F45-A3C7-1B654ECC241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DDD1-2EB0-4F8F-84FE-76011B4D7F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02 November 2017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1C5F-D3E0-4AF4-AFA6-342A1673AAC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1071-1FC4-4D82-9D0A-B3F89A64B34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D9D9-4ACA-4587-B98D-AD07B91AE8A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23C3-1535-45D8-A29D-F325A7F8E33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9DB6-B2A3-4879-AC98-BBD30E565F1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20CD-45D0-4D6C-8AD7-18984C0DF27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408E-C319-46CD-8E65-A5A03370A9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F99F-F8FF-4E6E-BD08-9B1CBBD4182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71D2-EA3A-4B76-BD7B-0412C9497AE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8A17-AAA3-4229-B50E-4CD05E94B0D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693E-E38E-4085-AC75-94173CD7BEB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6E4D-A411-4A45-866D-783D589D5B3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56D2-B1B6-42E3-B8B7-C292BDA6866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CCA2-A59B-461A-B8C9-DB0932065D2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DB3B-E1A4-4524-AA00-41CBAB70FDB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9733-2B29-4DC6-B376-2A31C502960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F077-6C78-4CE4-8623-22E18FF9CC7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396F-7284-4AAE-92AC-2D7E137EFF4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79C1-3474-47CE-8A92-BB093E1A1A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A0DC-3F62-4519-B0C4-CF1DA132897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4CF8-0D2E-4D59-9CB5-D9272D41E6D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A540-ECEF-4577-BC80-BD36783EDE3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2CB3-EC9F-467E-A5BB-E2E93F68347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2C3A-A94B-46CD-BFD2-013B0080CA9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CC6F-CDD5-4934-82F4-D059F9AB918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8E41-F0DD-4AE6-86EF-462D8D1AC21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FDA8-153B-4829-B14E-FF5BEF0581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8305-7AB4-4EA7-9E42-D01F6D49043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9967-3B33-4224-A30F-5F10043D856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7E9C-1EB0-42D2-AB79-90E766689BD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8ABE-1997-4CC9-A0C4-E8D9E9AC2F4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76B1-2F67-4A6F-AC63-2B8024B07A1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7128-CAF9-43DF-BB4C-51CA7692DC1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7911-53AA-481F-96E1-4FDDC0EE9F0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2F63-F366-4FCB-9B55-C7ACB91D827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0A04-F53F-46CE-9B47-409232DC950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BD32-CD14-4C28-985C-7E26BB4C597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1903-78BF-4287-A6C2-2EF71AB940E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3D64-F554-40E7-AEC3-3995CA0A116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C893-AD15-4BDC-B731-2EB2741A73A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4EAD-C950-4009-A851-7DD3B72D06E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A96C-1FED-41B2-B029-6DB131FB4DA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E10B-D760-4636-9A04-31C95CD4256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8F13-4336-405C-AD98-35EB2CD6DA7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079F-7F84-442C-9D12-ECF7716D4C9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6F1E-D627-4217-A693-76B58136D0A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7-07-03T09:06:17Z</dcterms:modified>
  <cp:revision>114</cp:revision>
  <dc:subject/>
  <dc:title>Aims and Objectives</dc:title>
</cp:coreProperties>
</file>