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9BA121-1176-42C1-9AC4-76524240F0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5708D-4CC4-4B04-89F3-8B6A97D8A290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4E771C-C042-4815-B964-A15BF0B1E0FD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02F-0316-4493-BDFC-C9C8125D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5CC-D82D-4A5D-912B-E35FEA55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1C35A-A7F3-4A0E-9CCD-A54967CC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2834F-92F8-4134-8400-2761C557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33B18-4D1B-4417-AC7C-95ACB3D3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742E3-024E-4148-8C05-C9ACACE7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A0FB8-C6FA-4494-916B-EC979A3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79D94-D52D-4B17-8046-B127AD3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83FD0-F8F5-407C-B918-5054CBB0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60BFE-18B7-4F25-B887-5E40400F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2248D-BEFC-430D-9131-B5DC2753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58ABD-DF88-4383-BF99-F4697CAA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877-FB43-4A1C-93B4-7FB68E88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2FD06-3900-4E7B-9A74-1492B2A3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ECE8B-4B08-4AD0-995E-34CD5AFE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DD24E-61DC-4079-8A12-C91E8F55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296E7-98F6-4BC1-9FD6-69D91B2E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6C846-F8F2-47CC-AC64-DF71859C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C0A4F-92A7-439E-8380-8BD09C08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F8683-4533-45A7-8F13-1D318024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52EE8-AB6D-4BD1-853B-6B906F10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FEA0C-7885-4595-AB4B-92364B3D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0BC48-9062-4BCD-A85D-DA87012F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C0D-E635-46F4-9A96-1AB9AD3A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33DB8-6E0A-48DD-B236-9A65E685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B0E72-9C81-4070-90ED-9D751C66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CD30A-DE04-4652-8CAE-1266C6B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0B063-60B5-42AA-BD93-5AD897CF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90D76-3E9A-4AB8-8E2A-6BCC09A9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9B0CB-FAF2-47EE-B5CE-39A21BDF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E5A5C-7C6C-4DEF-8599-F56A2872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C1EE6-1FD8-4651-A50E-7C6165A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0CA38-FFA1-490C-A155-BC9854CA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8084A-F8EE-4CCC-BB28-035DCBEB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88927-7140-4FAB-B451-FEE5E9E1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D73AB-B82F-4029-AD02-E8C6B323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B9CE2-A16D-4A47-807C-3E96D185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EF6C1-F101-404C-A010-DDF0E0D5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4BF77-7641-47E4-9CBD-054FCD46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4F232-8DD0-4653-A9A6-BB646FB6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3D519-E412-4E10-AAD9-CB6051DF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827C4-031E-4C7E-9FAC-C4854ABA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D3872-1CEF-4451-9AB3-908F96C8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E8A0F-FC99-47D4-8048-E77E9160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10191-5C87-4EA3-88C6-CDD02C53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9CDC9-6C5D-4299-9211-BD35FDE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5C697-8562-4825-9DD5-1F2B3D32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1989E-84A0-40E5-B840-F49E2C0A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E3BD8-223C-4513-BC39-2E2EEC50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BA289-46F6-4616-958D-33726D6A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5EF6C-E249-4E3A-8171-2310863A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25129-FCF4-4A1E-B46C-BB56227C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DA636-0DDF-488D-98DE-0DD1DEC6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B9952-EFB4-4BAF-840E-63514BB4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3D601-51D8-40A6-8B24-5C6DEB8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838B9-3CBF-4514-9EC2-8606FBD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B5DD0-E054-4056-9885-A2E0B9E2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863C1-2781-4402-B87D-342AB41E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F7944-8806-4DF7-A938-44E5A327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CF49A-9239-42B4-BE0E-D952F029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1F296-0EC4-4EBA-B1B0-D277D1A0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E23F0-FF08-4436-B83F-97BB8AB7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6C91F-4D7F-4FAE-827F-2F958B21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99B28-F011-4922-8598-F0CE3438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7C4F4-669F-419B-818F-14DF1653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66299-20BA-49AE-83B3-D82E6630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A455C-8C47-4230-BEAC-1F8A94AD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205A5-8B29-4249-AC09-57AF2136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0A0CC-B961-4A2F-8D78-C096246A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D8AF0-F134-43B8-85B5-1DEA5BB7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D85D4-1AB5-4D02-A26C-3A11B7CB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91237-B186-4E7F-ADA5-458C5AA3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DD557-637D-4B54-8C8B-452CA662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C846A-1210-43DB-B1E3-3D24C223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7AD46-B277-4274-B0E2-800FDC5B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4FE96-0F9B-47EA-A7BE-31301035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64B10-3441-41D1-AAC8-4B111BC9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618DF-A1E6-42FF-B1FF-43DC19A7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382E0-EC3F-4DB2-A450-491945A8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16B7F-06E2-44EE-AF32-10643482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52293-1053-4F6F-95C9-BC83AA71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FCEAA-92EE-45B3-8CD0-EA52CCE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13426-1169-4CEF-8782-2EEB904C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F89BA-3737-4C01-8E50-62C0B711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F23D4-CEF3-43C2-A39C-D443461C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7B94B-06EB-4A2C-BECC-73D2AE84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270DD-E1F5-49BC-A1E1-40B0431B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41F42-0E6A-46BC-B3E9-EC4C59E4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9D53D-0622-4F59-A4DE-F2F9BB93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A2B17-8FD7-4D7C-A0C4-370111B8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4393D-8273-48BD-842D-5FCC1BA9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538EB-57FC-417E-AEAD-506F9B4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AF621-BB79-4DB0-B704-BC092C15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5ABC0-0C37-4344-83E1-82E53A7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232EC-B5C3-4EB7-B8EE-710555E9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70781-DB20-416C-BF58-EEE1E667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C20AF-ADC6-497D-83D7-3C26C872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D4A56-5751-4B1B-9079-24FC2A45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2A336-1990-48A1-B7B5-02EB224F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040ED-55FD-4968-908C-C8A59075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A4C0AD-45BF-49D5-93EC-1220C67F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0F7BC8-DE2A-44CF-A50E-30A10C02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7A7D6-F485-47BD-97D6-50DADB33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3932D-D9C6-4346-B00D-D146D38E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C85-7543-407E-98F4-397D9E47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D519B-A41D-469E-A429-5723147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197C9-18C4-40D3-95E2-BC80D72B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709E3-A7A3-40D7-B977-E6FCC96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CD6AE-4AA7-4A1B-B992-83F0A875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37822-92CF-4FA2-B132-3AFC85EB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A9575-384A-4208-9FC4-F53487B2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CA9A5-A908-4E63-9D27-25E04F6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ECAD4-794E-43C2-B546-4D72CAE2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2017B-4D80-4AEA-9F56-36E2B9F6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1F49B-5F14-4F2B-8A12-6124113E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C743B-F296-426D-A26A-6BE6D699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88E28-BA7E-4208-905D-F081E908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AC8DF-0A69-431B-82B2-3E7EAA6B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6443C-1D9C-474D-AD33-FB92AA02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819F1-7C76-47B2-AC77-94FF6983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CEFB02-9D98-4683-8F22-8FEAEA78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43025-6A89-4CE4-A538-58C3A044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6A3-6F13-4BA2-992A-81AEB29F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B43-51A8-4B80-AD62-B66E69AA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1B70-2D44-481E-A0AB-E835A6A2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47D-3992-48FE-B0B8-FEF406C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3A49-6F62-4927-ABDB-F83CC4A5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F44A-26DD-4A12-A68F-518289A9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95BB-70D0-4B62-BABC-DC942076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BE1D6-F14F-43C7-8DD0-2166A2E6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ADF42-952C-4D3D-8F56-7389797B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077B-5BDD-4FE7-8818-EFA265F6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57C8-C9A5-40CF-934B-84691D0A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E97E-7BB6-404B-8D62-BC16622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A794-E0FA-4A23-9437-573EB76D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A614-C493-4B96-8998-D7C52BB5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EAD-2092-428D-9A9A-F5843DDF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79D8-35F9-460D-B5A5-A0F46158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30D69-D47C-4259-B3A4-AD969CDF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87BBD-4C66-438F-9AB4-69F59E71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689C-63DA-4419-8ADC-D0E2CA0A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437A-3F36-480F-B693-29CD79D7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120AE-F20C-46D6-825B-20747897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0EB5-32D9-4295-B245-E8BFF64B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45091-4C20-451E-AB6B-0A538751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7C2C4-FFDB-47D2-B011-0AEBF1AE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DFFC-F0F6-490B-AA64-880ED761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377-48DE-40A4-AECB-7A91B232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FEDF4-88B9-4303-AEE8-CC866335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EB31E-128B-4F43-8F74-EC7E7E90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EAD6E-75FC-421B-B1C5-C91804B6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51882-BB8C-4A77-90E3-95156DE8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86453-1488-4BE7-94B3-0DC20A7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38763-CD72-4406-92C8-FDC633D5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C06A0-4F30-4CF8-969B-7043AEAB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CA69-28F5-4D4E-8576-5A434D38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93A41-0E8F-4E1C-AAA1-183C8608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42979-A325-4E86-B6FF-79B302B6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DA3-D0F4-4F01-90E3-D316828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B942-C7A7-4955-AB0A-6DF7C48D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6F64-FEB5-4835-87DB-22BC200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6A2E-7ABC-4DC0-9A68-513996F2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DBA87-F7C3-435B-9103-B6C9DDBD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65436-7958-416D-A1A8-13A01530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0A1FC-A896-409E-8A2B-66AE20BD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3774-3A63-4150-9B1F-51FD4439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9AB34-7C41-4223-8E61-7EEEB57D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19800-655A-4CA6-9435-BC9DA22F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EA6B3-B64B-4ED5-9F42-4AD9414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BA2-4BE3-47D9-B259-0C77254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2A661-CAF8-4C28-AC10-46BFD1B9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86A7E-41D6-44C7-82B1-8348F98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FD6AE-35DF-4C42-A049-E941AD3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674E5-6543-4B50-9CEE-202E80F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9787-FD36-4D2E-A57E-9E15BFA8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80AB2-1397-4CD2-8ACC-4896BE3F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FD9A-C041-477E-B7FC-F54F13AC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4D5C4-0B52-448D-8E8F-A59CE01C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10358-15BA-4548-9B8A-614D362C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4F09-A150-46AA-ADC5-CAD8BCD2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8C26-CF84-4960-A2C7-3550800F87F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623D-F472-4E8A-A2A6-8541A6E28BE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F6B4-5355-4858-82B2-C95929BBE93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25F1-BB9C-482A-A9F5-7BEF6C8E85A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3850-7827-46F5-839D-21C6B5873F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B120-D017-4C2E-8319-569A5DE5CA2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B63C-A80B-4CF3-B067-EC4877D4FE1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B4DF-DD3E-4601-984A-A36A43FEEC4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C31-93D0-4DDA-85CC-3A315DD8AD41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6AF8-5A45-4C6B-A92B-366670758ED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0693-26AA-4259-93B4-596012673A5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81EE-1CC1-4D57-88D1-865BFC225F8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3155-9ADA-469A-9237-DDBF2CE885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247E-EFCC-4661-9625-8F47F746E7D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74E-E696-438E-AF58-5F30D7659B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7B4D-2D8E-4370-8D1A-361BDAFE20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6EDA-7337-4DA1-ADEF-B66F9EC1B8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F4D1-E1B6-4C0B-A290-168777B771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8023-D33A-4ADB-AB8A-70DED6D0E7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BF35-7A9F-4D09-9CE9-298198F34D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8E3C-5BF0-4F3C-B277-F359EE30BD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01BD-D21C-4666-B459-0CF274BEBF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E8AA-9571-4003-9C2B-D92B3713B4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BAA1-CD7E-4C09-B793-5899B0D5D8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35DC-FD2E-44D8-9364-9D203515C6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4016-C585-47F8-B38C-837B9EF6809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B35B-4F5A-40B1-8988-D07711AACE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697-B34E-42C7-A5BF-3CBD103992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029B-C32E-4C10-B60A-BBEB71C751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B9D-9453-4A31-AF7F-086168B39E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44B7-B12C-4CF4-9E07-951F562628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5FB0-B90F-4D95-9BDE-567E94A201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6F29-0986-4D2D-8694-8369CE1398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9C8A-8A4A-4E5E-AA10-204C146FBB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C5B0-5ED6-4D0F-820C-0D4F61AD02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4513-FE20-4179-AD9E-7E33514251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6A9-A7C1-4729-B005-3527BC322C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E9DD-933A-4E30-8152-8A8C2B8EF4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518-4649-4BC5-AFEB-75C7333F53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0355-D6A4-4CB9-BE78-317EC158D3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DBAF-491F-47A4-8BC4-F5158519AD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7FB4-3D47-4A3B-9669-F026ECF281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6872-2898-49DC-9FCF-5176930699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D17E-40C2-4833-8262-5F4B3E65B0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9E28-249B-44CA-8D42-863755E90B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24A0-130E-4185-9A50-1A5A0AB6A8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A28C-D249-473D-949A-C9EA98640B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1570-6D9D-4135-8BD7-702D84AA94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F3BC-4EFE-42D1-90B7-8C98CD9EB0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432D-F718-415B-BEAE-D3D5860748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9405-1D94-4AA3-921D-8033CB355B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A702-EFE8-447D-9762-21404C2507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4866-9A0C-4F4D-B25C-8439BB32CA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BA65-F068-436A-A1A9-1F3336173E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AD6E-F701-4339-A96F-3897D938E0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11EC-E6FA-44BA-9042-0308896FDC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A73-96CD-4A67-A6AC-3FBB639634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BF38-689B-4235-90D6-3DAD155210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3FFD-A863-49B9-9DEA-66274A60A3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55D8-9A59-4BC8-A90C-AC7B089EE3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02B7-9561-4BE6-BC22-B6D6F6C782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E3CF-7BC9-47CD-AAD1-B1076CA525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2C63-16E5-4C53-843B-FF54861395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C701-9C73-463F-9AF4-22DF1B8942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E936-CF37-4E11-800F-B28760BFCE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F5F9-2B29-4991-B9C3-C3762D804E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C685-39EE-4D25-8522-82525734D1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4BC5-AD51-42A9-8A91-9792F3F82E9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9284-B129-43CF-9510-72CB336651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075F-3912-4261-89F1-D68CBF2920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988E-7220-4AC9-8BBF-CD51F5310A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423E-A43F-461A-8E17-4647638844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7-07-03T09:06:17Z</dcterms:modified>
  <cp:revision>114</cp:revision>
  <dc:subject/>
  <dc:title>Aims and Objectives</dc:title>
</cp:coreProperties>
</file>