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8A02-A4FC-444C-88A3-9847CE4F8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5F450-F24E-426B-883D-E109ED0B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8A1D-D22D-4A21-B480-50272EB7E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58DC-A1E8-429C-848F-684D79A8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48AB-B853-4CD7-9F80-F4219C615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1833-7131-456B-BD99-DED712CF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149A-6302-4884-860B-E10B3BD9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FD07-4D69-444D-9206-A09F049DA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17D5-2709-4973-A8E6-B86D2EEB7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7E10-5854-4433-97C4-CC186169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6D66-C43A-4392-A567-4FD3A97A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7F16-B284-40FA-8CC9-BDDEA410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76E72-2E08-43ED-AFDD-472BE3B03A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FROM R BITM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tretch/>
        </p:blipFill>
        <p:spPr>
          <a:xfrm>
            <a:off x="2305080" y="1600200"/>
            <a:ext cx="45338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5T13:05:45Z</dcterms:created>
  <dc:creator>Peter Watson</dc:creator>
  <dc:description/>
  <dc:language>en-US</dc:language>
  <cp:lastModifiedBy>Peter Watson</cp:lastModifiedBy>
  <dcterms:modified xsi:type="dcterms:W3CDTF">2011-07-05T13:11:43Z</dcterms:modified>
  <cp:revision>1</cp:revision>
  <dc:subject/>
  <dc:title>SLIDE FROM R BITMAP</dc:title>
</cp:coreProperties>
</file>