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6DC66-81A9-457B-832A-1D6BAC66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ACD2-EF64-4324-A2A4-2B3EC42F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BC48-E55D-44D3-A4BC-4875EADA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C796-7658-4863-8C55-3F9127616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C7E-0548-4DC1-967E-C91C2528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198-638B-4F39-A643-5043E1B59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E2B-1A9B-410F-A0C5-804D2ADC5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6C59-41BD-476D-9F41-A33A53A3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D8A0-D59A-4F10-8C25-33961ACD5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FCBC8-ECBD-4A46-BDD5-99BBF7714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AAD5-A49C-4699-8503-32648B6CB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0870-7F2D-449C-8DF1-9BA885B6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E88C-1749-4E74-B0B5-A37DFCDB39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g_name~ 11.tif"/>
          <p:cNvPicPr/>
          <p:nvPr/>
        </p:nvPicPr>
        <p:blipFill>
          <a:blip r:embed="rId1"/>
          <a:stretch/>
        </p:blipFill>
        <p:spPr>
          <a:xfrm>
            <a:off x="585720" y="507960"/>
            <a:ext cx="795996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4:09:04Z</dcterms:created>
  <dc:creator>Peter Watson</dc:creator>
  <dc:description/>
  <dc:language>en-US</dc:language>
  <cp:lastModifiedBy>Peter Watson</cp:lastModifiedBy>
  <dcterms:modified xsi:type="dcterms:W3CDTF">2010-10-04T14:09:05Z</dcterms:modified>
  <cp:revision>1</cp:revision>
  <dc:subject/>
  <dc:title>Slide 1</dc:title>
</cp:coreProperties>
</file>