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4.wmf" ContentType="image/x-wmf"/>
  <Override PartName="/ppt/media/image23.png" ContentType="image/png"/>
  <Override PartName="/ppt/media/image22.wmf" ContentType="image/x-wmf"/>
  <Override PartName="/ppt/media/image6.wmf" ContentType="image/x-wmf"/>
  <Override PartName="/ppt/media/image29.wmf" ContentType="image/x-wmf"/>
  <Override PartName="/ppt/media/image31.wmf" ContentType="image/x-wmf"/>
  <Override PartName="/ppt/media/image7.jpeg" ContentType="image/jpeg"/>
  <Override PartName="/ppt/media/image10.wmf" ContentType="image/x-wmf"/>
  <Override PartName="/ppt/media/image11.wmf" ContentType="image/x-wmf"/>
  <Override PartName="/ppt/media/image12.png" ContentType="image/png"/>
  <Override PartName="/ppt/media/image32.wmf" ContentType="image/x-wmf"/>
  <Override PartName="/ppt/media/image17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png" ContentType="image/png"/>
  <Override PartName="/ppt/media/image16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move the slid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158A-AEEF-4031-A821-E611622265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07747-9AD7-4A3D-8DC8-106296913A2E}" type="slidenum">
              <a:rPr b="0" lang="en-GB" sz="1200" spc="-1" strike="noStrike">
                <a:solidFill>
                  <a:srgbClr val="9a044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A9C30-4AD6-41FD-B5DB-E2584D27D9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FB7E3-0D8C-4C60-ABBF-091D619DE6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25461-BC76-4A92-A44C-72D7B034ED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431F4-D321-4433-A4EE-E79FE1EAC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35474E-892B-4B8C-B442-CF5081D4E99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68B2C3-771F-4B6B-B4CB-93AB73E5E1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8AE46C-472E-41CC-8B20-19E47681FF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DC6A13-6B83-4262-A1F2-BD48B10C0A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331AB-3994-4B28-AD20-09EC19795B6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1435B-C9B2-4898-82F5-1968AD14722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32DE1-270A-48AF-9ED1-AC603B15DF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F7BAA-A495-432B-9FF7-603DE6F712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66165-CB35-488C-8E40-27AC4A5B4A2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BB5D5-AE49-4114-8E24-F66BB481BD2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FD846-C782-4731-8AE8-5BCF545F635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11DED-0B7A-41DC-BF51-D9306EC0822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37D572-493D-4941-ADC2-F5B49D080E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23A14C-EF55-447C-BC65-897EC2C28B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482277-1938-4ACB-9298-A75D4398D7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71806-3FF4-48D4-992B-AE3D8AC988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B3DD3-7A68-4441-8266-AB48043137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9094B-D276-4281-88E2-D562558CEF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295E-888C-4658-AF54-71193D15AC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FF57BC-8EEC-4011-A30F-87B2F5CF59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61DF9E8-BCAB-48AB-9B1A-051721D9B54A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736C2EE-480B-413F-9938-58FAD98C869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4267080" y="301680"/>
            <a:ext cx="4572000" cy="691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8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59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0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1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2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3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4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5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6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7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8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9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0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1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2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73" name="Picture 38" descr=""/>
          <p:cNvPicPr/>
          <p:nvPr/>
        </p:nvPicPr>
        <p:blipFill>
          <a:blip r:embed="rId2"/>
          <a:stretch/>
        </p:blipFill>
        <p:spPr>
          <a:xfrm>
            <a:off x="4356000" y="301680"/>
            <a:ext cx="4616640" cy="807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B651A5C-C560-4448-B199-D4D8DDC06348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0866116-27A1-437B-A943-2FC52A4D65C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ted.com/talks/lang/eng/hans_rosling_shows_the_best_stats_you_ve_ever_seen.html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i="1" lang="en-GB" sz="3200" spc="-1" strike="noStrike">
                <a:solidFill>
                  <a:srgbClr val="9a044b"/>
                </a:solidFill>
                <a:latin typeface="Verdana"/>
              </a:rPr>
              <a:t>1. </a:t>
            </a:r>
            <a:r>
              <a:rPr b="1" i="1" lang="en-GB" sz="2800" spc="-1" strike="noStrike">
                <a:solidFill>
                  <a:srgbClr val="9a044b"/>
                </a:solidFill>
                <a:latin typeface="Verdana"/>
              </a:rPr>
              <a:t>Exploratory Data Analy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OR </a:t>
            </a:r>
            <a:r>
              <a:rPr b="0" i="1" lang="en-GB" sz="3200" spc="-1" strike="noStrike">
                <a:solidFill>
                  <a:srgbClr val="9a044b"/>
                </a:solidFill>
                <a:latin typeface="Verdana"/>
              </a:rPr>
              <a:t>An ABC of EDA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graph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24" name="Object 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hecking for 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rankland and Zumbo (2002)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1/sqrt(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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) exp( -  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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(x –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Symbol"/>
                <a:ea typeface="Symbol"/>
              </a:rPr>
              <a:t>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)</a:t>
            </a:r>
            <a:r>
              <a:rPr b="0" lang="en-GB" sz="1400" spc="-1" strike="noStrike" u="sng" baseline="30000">
                <a:solidFill>
                  <a:srgbClr val="9a044b"/>
                </a:solidFill>
                <a:uFillTx/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                                                                              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4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4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For proportions, 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Probability of being in interval [a,b] = P x N(mean1,sd1) + (1-P) x N(mean2,sd2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nd use SPSS CNLR to estimate p, mean1, mean2, sd1 and sd2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NORMAL MIXTURES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xample featuring two normal distributions with means 2.5 and 5 both having sds of 0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Line 4"/>
          <p:cNvSpPr/>
          <p:nvPr/>
        </p:nvSpPr>
        <p:spPr>
          <a:xfrm flipH="1">
            <a:off x="5651640" y="2205000"/>
            <a:ext cx="288720" cy="576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0" name="Line 5"/>
          <p:cNvSpPr/>
          <p:nvPr/>
        </p:nvSpPr>
        <p:spPr>
          <a:xfrm>
            <a:off x="6804000" y="2276640"/>
            <a:ext cx="576360" cy="57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 (&gt;1.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ost scores around zer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s above 13 - clinically depress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ne score of 46!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x=63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4" name="Object 1024"/>
          <p:cNvGraphicFramePr/>
          <p:nvPr/>
        </p:nvGraphicFramePr>
        <p:xfrm>
          <a:off x="4648320" y="2567160"/>
          <a:ext cx="4038480" cy="2788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5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567160"/>
                    <a:ext cx="4038480" cy="278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Oval 6"/>
          <p:cNvSpPr/>
          <p:nvPr/>
        </p:nvSpPr>
        <p:spPr>
          <a:xfrm>
            <a:off x="7391520" y="4572000"/>
            <a:ext cx="838080" cy="9144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69" name="Picture 1027" descr="boxplot"/>
          <p:cNvPicPr/>
          <p:nvPr/>
        </p:nvPicPr>
        <p:blipFill>
          <a:blip r:embed="rId1"/>
          <a:stretch/>
        </p:blipFill>
        <p:spPr>
          <a:xfrm>
            <a:off x="934920" y="1600200"/>
            <a:ext cx="727416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n = line in red bo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ddle half in red box (=1.3 sd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utliers = circles and sta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hape of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73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utliers in box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Inn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moderately weird. Over 1.5 boxlengths from upper/lower quartiles; Circles in 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uter fenc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- decidedly weird. Over 3 boxlengths from upper/lower quartiles; Asterisks in SPSS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.67 sds from mean in normal data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Boxplot of Beck sco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centration of outliers above median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BECK.SAV W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BECK.SAV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1" name="Object 0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of an outli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iases mean (green lin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lates variance of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 more robus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86" name="Object 6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obustness to outlie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mber of positive responses (max=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,0,0,4,4,5,5,5,6,6,6,6,6,6,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1000 random samples of size equal to original sample (N=15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9a044b"/>
                </a:solidFill>
                <a:uFillTx/>
                <a:latin typeface="Times New Roman"/>
              </a:rPr>
              <a:t>Results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Point estimates :Mean=4.37; Median=5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95% CIs: Mean [3.07, 5.40];  Median [4, 6]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Outliers exerting undue influence on the mean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1001"/>
              </a:spcBef>
              <a:buClr>
                <a:srgbClr val="9a044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Times New Roman"/>
              </a:rPr>
              <a:t>See: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boo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btaining 95% CIs for skewed data: Bootstrapping (Efron &amp; Tibshirani, 1993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93" name="Picture 3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58164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2"/>
          <a:stretch/>
        </p:blipFill>
        <p:spPr>
          <a:xfrm>
            <a:off x="685800" y="1905120"/>
            <a:ext cx="3733920" cy="3695760"/>
          </a:xfrm>
          <a:prstGeom prst="rect">
            <a:avLst/>
          </a:prstGeom>
          <a:ln w="0">
            <a:noFill/>
          </a:ln>
        </p:spPr>
      </p:pic>
      <p:sp>
        <p:nvSpPr>
          <p:cNvPr id="195" name="AutoShape 6"/>
          <p:cNvSpPr/>
          <p:nvPr/>
        </p:nvSpPr>
        <p:spPr>
          <a:xfrm>
            <a:off x="3809880" y="3200400"/>
            <a:ext cx="1143000" cy="914400"/>
          </a:xfrm>
          <a:prstGeom prst="rightArrow">
            <a:avLst>
              <a:gd name="adj1" fmla="val 50000"/>
              <a:gd name="adj2" fmla="val 31250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6" name="Text Box 7"/>
          <p:cNvSpPr/>
          <p:nvPr/>
        </p:nvSpPr>
        <p:spPr>
          <a:xfrm>
            <a:off x="762120" y="5486400"/>
            <a:ext cx="7467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Rectangle 10"/>
          <p:cNvSpPr/>
          <p:nvPr/>
        </p:nvSpPr>
        <p:spPr>
          <a:xfrm>
            <a:off x="900000" y="5877000"/>
            <a:ext cx="70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imes New Roman"/>
              </a:rPr>
              <a:t>See also: http://www.ruf.rice.edu/~lane/stat_sim/sampling_dist/index.html</a:t>
            </a:r>
            <a:endParaRPr b="0" lang="en-US" sz="18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he sampling distribution of the variance follows a chisquare which tends to N(n-1,2(n-1)) as n increases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0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201" name="Oval 4"/>
          <p:cNvSpPr/>
          <p:nvPr/>
        </p:nvSpPr>
        <p:spPr>
          <a:xfrm>
            <a:off x="6588000" y="5084640"/>
            <a:ext cx="1656000" cy="1008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2" name="Oval 5"/>
          <p:cNvSpPr/>
          <p:nvPr/>
        </p:nvSpPr>
        <p:spPr>
          <a:xfrm>
            <a:off x="539640" y="5300640"/>
            <a:ext cx="1440000" cy="144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3" name="Oval 6"/>
          <p:cNvSpPr/>
          <p:nvPr/>
        </p:nvSpPr>
        <p:spPr>
          <a:xfrm>
            <a:off x="611280" y="5516640"/>
            <a:ext cx="1439640" cy="288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2771640" y="3141720"/>
            <a:ext cx="331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N=25; normal(24,48); observed mean is 23.75, observed variance=6.82*6.82=46.5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5" name="Oval 10"/>
          <p:cNvSpPr/>
          <p:nvPr/>
        </p:nvSpPr>
        <p:spPr>
          <a:xfrm>
            <a:off x="611280" y="4365720"/>
            <a:ext cx="1224000" cy="3585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6" name="Line 11"/>
          <p:cNvSpPr/>
          <p:nvPr/>
        </p:nvSpPr>
        <p:spPr>
          <a:xfrm>
            <a:off x="1116000" y="3141720"/>
            <a:ext cx="0" cy="1295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95280" y="2924280"/>
            <a:ext cx="1944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Times New Roman"/>
              </a:rPr>
              <a:t>should=s.e.(mean) =5/sqrt(25)=1</a:t>
            </a:r>
            <a:endParaRPr b="0" lang="en-US" sz="1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8" name="Line 13"/>
          <p:cNvSpPr/>
          <p:nvPr/>
        </p:nvSpPr>
        <p:spPr>
          <a:xfrm>
            <a:off x="3203640" y="3357720"/>
            <a:ext cx="3673440" cy="187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9" name="Line 14"/>
          <p:cNvSpPr/>
          <p:nvPr/>
        </p:nvSpPr>
        <p:spPr>
          <a:xfrm flipH="1">
            <a:off x="1835280" y="3357720"/>
            <a:ext cx="3744720" cy="19429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0" name="Line 15"/>
          <p:cNvSpPr/>
          <p:nvPr/>
        </p:nvSpPr>
        <p:spPr>
          <a:xfrm flipH="1">
            <a:off x="1835280" y="3573360"/>
            <a:ext cx="2952720" cy="2087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Oval 16"/>
          <p:cNvSpPr/>
          <p:nvPr/>
        </p:nvSpPr>
        <p:spPr>
          <a:xfrm>
            <a:off x="6877080" y="3500280"/>
            <a:ext cx="1224000" cy="36036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o apriori ideas (model) in EDA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lassical analysi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Model =&gt; Analysis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ED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the sequence i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lem =&gt; Data =&gt; Analysis =&gt; Model =&gt; Conclus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DEMO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STRAP IN R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For more about R (primer)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ttp://www.spssusers.co.uk/Events/2012/confprog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ther approaches to identifying outliers (besides boxplot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ses with z-scores exceeding 2.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z-score subtracts mean and divides by s.d.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ubb’s test (http://imaging.mrc-cbu.cam.ac.uk/statswiki/FAQ/RegressionOutlie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w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viates from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tantial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s choice of statistical tests we can use to analyse beck sco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mp above line = 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1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verse scored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eck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nega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kew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bump is now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under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the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6" name="Object 5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 sha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ymptoms of Kurtos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iformit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31" name="Object 4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esting normality more formall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olmogorov-Smirnov 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Micceri (1989) "The unicorn, the normal distribution, and other mythical beasts". Psych Bulletin 105(1) 156-166 says if you have a sample of over 200, you will NEVER pass the K-S test of normality, in a real dataset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hapiro-Wilk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verly sensitive for large sampl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BECK.SP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R EDA PLOTS.TX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36" name="Picture 5" descr=""/>
          <p:cNvPicPr/>
          <p:nvPr/>
        </p:nvPicPr>
        <p:blipFill>
          <a:blip r:embed="rId1"/>
          <a:stretch/>
        </p:blipFill>
        <p:spPr>
          <a:xfrm>
            <a:off x="4648320" y="3056040"/>
            <a:ext cx="4038480" cy="1812960"/>
          </a:xfrm>
          <a:prstGeom prst="rect">
            <a:avLst/>
          </a:prstGeom>
          <a:ln w="0">
            <a:noFill/>
          </a:ln>
        </p:spPr>
      </p:pic>
      <p:sp>
        <p:nvSpPr>
          <p:cNvPr id="237" name="Oval 6"/>
          <p:cNvSpPr/>
          <p:nvPr/>
        </p:nvSpPr>
        <p:spPr>
          <a:xfrm>
            <a:off x="8001000" y="3657600"/>
            <a:ext cx="685800" cy="99072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8" name="Oval 7"/>
          <p:cNvSpPr/>
          <p:nvPr/>
        </p:nvSpPr>
        <p:spPr>
          <a:xfrm>
            <a:off x="6400800" y="3733920"/>
            <a:ext cx="685800" cy="990360"/>
          </a:xfrm>
          <a:prstGeom prst="ellipse">
            <a:avLst/>
          </a:prstGeom>
          <a:noFill/>
          <a:ln w="38160">
            <a:solidFill>
              <a:srgbClr val="32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Line 9"/>
          <p:cNvSpPr/>
          <p:nvPr/>
        </p:nvSpPr>
        <p:spPr>
          <a:xfrm flipH="1" flipV="1">
            <a:off x="6858000" y="4648320"/>
            <a:ext cx="457200" cy="91440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0" name="Line 10"/>
          <p:cNvSpPr/>
          <p:nvPr/>
        </p:nvSpPr>
        <p:spPr>
          <a:xfrm flipV="1">
            <a:off x="7924680" y="4343040"/>
            <a:ext cx="304920" cy="1066680"/>
          </a:xfrm>
          <a:prstGeom prst="line">
            <a:avLst/>
          </a:prstGeom>
          <a:ln w="38160">
            <a:solidFill>
              <a:srgbClr val="32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6400800" y="5410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299cc"/>
                </a:solidFill>
                <a:latin typeface="Times New Roman"/>
              </a:rPr>
              <a:t>Non-Normal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bababa"/>
                </a:solidFill>
                <a:latin typeface="Verdana"/>
              </a:rPr>
              <a:t>Stem and Leaf of Beck Score</a:t>
            </a:r>
            <a:endParaRPr b="1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  Leaf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6      .   0        =6.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4 cas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45" name="Object 5"/>
          <p:cNvGraphicFramePr/>
          <p:nvPr/>
        </p:nvGraphicFramePr>
        <p:xfrm>
          <a:off x="4495680" y="1600200"/>
          <a:ext cx="426744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600200"/>
                    <a:ext cx="4267440" cy="4572000"/>
                  </a:xfrm>
                  <a:prstGeom prst="rect">
                    <a:avLst/>
                  </a:prstGeom>
                  <a:ln w="9360">
                    <a:solidFill>
                      <a:srgbClr val="9a044b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Temperature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hat is unusual about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stribution? (Exercis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ue: spacing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leaf=two temperatur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LEAF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6      6     = -6.6 Degrees C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48320" y="2133720"/>
            <a:ext cx="4038480" cy="4038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Frequency    Stem &amp;  Leaf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2.00       -6 .  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4.00       -5 .  00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0.00       -4 .  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-3 .  33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2 .  222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-1 .  111666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8.00       -0 .  00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2.00        0 .  005555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1 .  616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2 .  777777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6.00        3 . 33333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4.00        4 .  4444444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3.00        5 .  555555 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11.00        7 .  22227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7.00        8 .  888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     </a:t>
            </a:r>
            <a:r>
              <a:rPr b="0" lang="en-GB" sz="1200" spc="-1" strike="noStrike">
                <a:solidFill>
                  <a:srgbClr val="191919"/>
                </a:solidFill>
                <a:latin typeface="Courier New"/>
              </a:rPr>
              <a:t>6.00        9 .  444 </a:t>
            </a: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Error Bar Charts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Interactive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Bar char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ar length represents 95% Confidence interval for the mea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males have higher depression scores than m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S_BECK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R_EDA PLOTS.TX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54" name="Picture 7" descr=""/>
          <p:cNvPicPr/>
          <p:nvPr/>
        </p:nvPicPr>
        <p:blipFill>
          <a:blip r:embed="rId1"/>
          <a:stretch/>
        </p:blipFill>
        <p:spPr>
          <a:xfrm>
            <a:off x="4343400" y="2028960"/>
            <a:ext cx="4800600" cy="48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Bubble Plots (in R) years in education related to income/prestige</a:t>
            </a:r>
            <a:br>
              <a:rPr sz="1800"/>
            </a:b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Hans Rosling – bubble plots over years (</a:t>
            </a:r>
            <a:r>
              <a:rPr b="1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ted.com/talks/lang/eng/hans_rosling_shows_the_best_stats_you_ve_ever_seen.html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7" name="Object 3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8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DA - Exploratory data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formal graphical techniques (Tukey, 1977) which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at underlying struct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dentify outli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eck assumptions in later formal analyses (Normality, equality of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st of the EDA techniques are graphical and quite si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“</a:t>
            </a:r>
            <a:r>
              <a:rPr b="0" i="1" lang="en-GB" sz="1800" spc="-1" strike="noStrike">
                <a:solidFill>
                  <a:srgbClr val="3299cc"/>
                </a:solidFill>
                <a:latin typeface="Verdana"/>
              </a:rPr>
              <a:t>A picture is worth more than ten thousand words” Chinese proverb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ultiple scatter plots (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61" name="Object 0"/>
          <p:cNvGraphicFramePr/>
          <p:nvPr/>
        </p:nvGraphicFramePr>
        <p:xfrm>
          <a:off x="1514520" y="1600200"/>
          <a:ext cx="611352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4520" y="1600200"/>
                    <a:ext cx="6113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Oval 4"/>
          <p:cNvSpPr/>
          <p:nvPr/>
        </p:nvSpPr>
        <p:spPr>
          <a:xfrm>
            <a:off x="1828800" y="3809880"/>
            <a:ext cx="1523880" cy="1295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4" name="Oval 5"/>
          <p:cNvSpPr/>
          <p:nvPr/>
        </p:nvSpPr>
        <p:spPr>
          <a:xfrm>
            <a:off x="5867280" y="3581280"/>
            <a:ext cx="1600200" cy="16765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one using PRISM software (Thanks to Kate McAlister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68" name="Picture 5" descr="Eyefitting_SIPT"/>
          <p:cNvPicPr/>
          <p:nvPr/>
        </p:nvPicPr>
        <p:blipFill>
          <a:blip r:embed="rId1"/>
          <a:stretch/>
        </p:blipFill>
        <p:spPr>
          <a:xfrm>
            <a:off x="3294000" y="1600200"/>
            <a:ext cx="2554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adder of Powers (Marsh,1988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s (double star function in SPSS COMPUTE) e.g. 3**2=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2    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1     untransformed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.5 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0     (natural) log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0.5  inverse square root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1     reciprocal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-2     inverse squar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Verdana"/>
              </a:rPr>
              <a:t>Choosing a power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rial and Error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Box-Cox transformatio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SPSS Box-Cox macro available at: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http://stat.tamu.edu/ftp/pub/mspeed/stat653/spss/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ox-Cox rationa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ikelihood for regression with predictor weights, B and error variance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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/n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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t known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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, predictors X and outcome 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g L(B,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Symbol"/>
                <a:ea typeface="Symbol"/>
              </a:rPr>
              <a:t>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| X; Y ) = - n/2 (log(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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+ log </a:t>
            </a:r>
            <a:r>
              <a:rPr b="0" lang="en-GB" sz="1800" spc="-1" strike="noStrike">
                <a:solidFill>
                  <a:srgbClr val="3299cc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– 1/2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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Y-XB)</a:t>
            </a:r>
            <a:r>
              <a:rPr b="0" lang="en-GB" sz="1800" spc="-1" strike="noStrike" baseline="30000">
                <a:solidFill>
                  <a:srgbClr val="3299cc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inimizing the error variance increases the likelihood of it being normally distribu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e also assume the errors Y-BX are random (Normally distributed with a mean of zero and constant varianc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-Cox applied to Beck sco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s for a power that minimises Beck score 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a power of 0.3 (near to log transform (power=0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improve fit of a covariate to predict a test score   Box-Cox can flag up a non-linear relationshi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be used to help determine z-scores and means but can be misleading for very skewed data e.g. when floor and ceiling effects are pre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ed test score using a covariate vs actual test score (raw and square roote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83" name="Object 1024"/>
          <p:cNvGraphicFramePr/>
          <p:nvPr/>
        </p:nvGraphicFramePr>
        <p:xfrm>
          <a:off x="4724280" y="2057400"/>
          <a:ext cx="403884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025"/>
          <p:cNvGraphicFramePr/>
          <p:nvPr/>
        </p:nvGraphicFramePr>
        <p:xfrm>
          <a:off x="380880" y="2057400"/>
          <a:ext cx="4038840" cy="331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6" name="Object 10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403884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Text Box 1030"/>
          <p:cNvSpPr/>
          <p:nvPr/>
        </p:nvSpPr>
        <p:spPr>
          <a:xfrm>
            <a:off x="228600" y="5486400"/>
            <a:ext cx="82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a044b"/>
                </a:solidFill>
                <a:latin typeface="Times New Roman"/>
              </a:rPr>
              <a:t>More linear relationship taking square root (right hand side picture)</a:t>
            </a: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x Cox on residual varia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est score = constant + A*item score + residual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an use boxcox on residuals of fitting item score on test scor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uggests using square root of y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This is the transform of test score which minimizes the residual varia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      </a:t>
            </a:r>
            <a:r>
              <a:rPr b="1" lang="en-GB" sz="1400" spc="-1" strike="noStrike">
                <a:solidFill>
                  <a:srgbClr val="3299cc"/>
                </a:solidFill>
                <a:latin typeface="Verdana"/>
              </a:rPr>
              <a:t>BOXCOX.SPS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1" name="Object 0"/>
          <p:cNvGraphicFramePr/>
          <p:nvPr/>
        </p:nvGraphicFramePr>
        <p:xfrm>
          <a:off x="4419720" y="2362320"/>
          <a:ext cx="403848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9720" y="2362320"/>
                    <a:ext cx="403848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Line 11"/>
          <p:cNvSpPr/>
          <p:nvPr/>
        </p:nvSpPr>
        <p:spPr>
          <a:xfrm>
            <a:off x="3505320" y="3200400"/>
            <a:ext cx="3809880" cy="16002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ponentia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licks = AE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-B A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(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Clicks = log A – B Ag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ther type of non-linear relationship. Characterised by  ever increasing rates of changes as you get 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97" name="Object 5"/>
          <p:cNvGraphicFramePr/>
          <p:nvPr/>
        </p:nvGraphicFramePr>
        <p:xfrm>
          <a:off x="4648320" y="2305080"/>
          <a:ext cx="4038480" cy="331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05080"/>
                    <a:ext cx="4038480" cy="33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Log Beck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ew=0.6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=-0.0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cceptable using rule of thumb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02" name="Picture 4" descr=""/>
          <p:cNvPicPr/>
          <p:nvPr/>
        </p:nvPicPr>
        <p:blipFill>
          <a:blip r:embed="rId1"/>
          <a:stretch/>
        </p:blipFill>
        <p:spPr>
          <a:xfrm>
            <a:off x="4648320" y="1820880"/>
            <a:ext cx="403848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Graphical display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509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istogram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xplo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rror Bar plots (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em and Leaf Displ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tterplots (especially for checking linearity of correlations, residual plots from regress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ee also regression talk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der SPSS EXPL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Quantile plot - log Beck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s closer to a straight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has made the distribution more Norma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g transform enables the use of more powerful statistical test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06" name="Object 0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ank transfor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wnweight outlie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if power transformations fai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ful summary measu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di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quartile ranges (Boxplo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sums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Non-parametric test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ing ranks -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cost (in £) of two care cent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re Centres O &amp;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y patient cost saving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entre O stem &amp; leaf displa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EM WIDTH=20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 EXTREM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17" name="Object 5"/>
          <p:cNvGraphicFramePr/>
          <p:nvPr/>
        </p:nvGraphicFramePr>
        <p:xfrm>
          <a:off x="4648320" y="2209680"/>
          <a:ext cx="4038480" cy="35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209680"/>
                    <a:ext cx="4038480" cy="35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Centre R - Stem and Leaf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stem width=10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utliers presen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sitive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 test need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22" name="Object 5"/>
          <p:cNvGraphicFramePr/>
          <p:nvPr/>
        </p:nvGraphicFramePr>
        <p:xfrm>
          <a:off x="4648320" y="2057400"/>
          <a:ext cx="4038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057400"/>
                    <a:ext cx="4038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(147) = 0.30, p=.7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costs the sam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ea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NK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ean Ran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O       65.11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tudy R       85.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-W: Z=-2.94,p=.00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Centre R costli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rank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DEM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600" spc="-1" strike="noStrike">
                <a:solidFill>
                  <a:srgbClr val="3299cc"/>
                </a:solidFill>
                <a:latin typeface="Verdana"/>
              </a:rPr>
              <a:t>EDA_CENTRE.S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nparametric 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wnweight outlie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ewer assumption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eful for skewed distributions (See Lantz (2013) for Kruskal-Wallis for three or more group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ess powerfu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se inform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mited range of tests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qual Group Varia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for t-tests and ANOVA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covariate by group interaction in ANCOVA; Quade’s (1967) method is a nonparametric equival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need to transform outcom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s available to identify problems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Levene’s tes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re group variances equal?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ets slope of spread vs loc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mpares slope to 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produces F-test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5144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bbie et al (2012) in Br J Math Stat Psych suggest a variety of adjusted tests including Welch’s (1951) adjustment for use with one-way ANOVA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38" name="Picture 5" descr=""/>
          <p:cNvPicPr/>
          <p:nvPr/>
        </p:nvPicPr>
        <p:blipFill>
          <a:blip r:embed="rId1"/>
          <a:stretch/>
        </p:blipFill>
        <p:spPr>
          <a:xfrm>
            <a:off x="4648320" y="1862280"/>
            <a:ext cx="40384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opor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ance of a proportion depends on value of proportion!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rcsine transform resolves thi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se function in COMPUTE to do transform 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* arsin(sqrt(p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c8ab9"/>
                </a:solidFill>
                <a:latin typeface="Verdana"/>
              </a:rPr>
              <a:t>howev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aeger TF (2008) Categorical data analysis:away from ANOVAs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J Mem Lang 59(4) 434-446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difficulties using arcsines on proportions near 0 or 1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rcsine also may be used when correlating proportio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bababa"/>
                </a:solidFill>
                <a:latin typeface="Verdana"/>
              </a:rPr>
              <a:t>Symmetry</a:t>
            </a:r>
            <a:endParaRPr b="1" lang="en-US" sz="32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lustered around median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median=mean=mode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no skewnes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CIs of mean assume symmetry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37" name="Object 5"/>
          <p:cNvGraphicFramePr/>
          <p:nvPr/>
        </p:nvGraphicFramePr>
        <p:xfrm>
          <a:off x="4648320" y="2344680"/>
          <a:ext cx="4038480" cy="323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44680"/>
                    <a:ext cx="4038480" cy="323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d Finally...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“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 Statistician is someone who can have their head in an oven and their feet in an ice box and say that on the whole they are feeling perfectly normal”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Check you are using appropriate summary measure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xplot illustrations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Lane, DM and Sandor, A (2009) Designing better graphs by including distributional information and integrating words, numbers and images. Psychological Methods 14(3) 239-257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419720" y="1599840"/>
            <a:ext cx="449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urther details including references on EDA at: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www.itl.nist.gov/div898/handbook/eda/eda.ht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Thanks to Frank Duckworth [RSS News article on scales]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Allan Reese (CEFAS, graphical comment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Barney Dunn (Bimodality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xt week (Thursday)…11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imple and Multiple Linear Regres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3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Skew and kurtosi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ke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upper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symmetr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downward stragg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Hair et al,1998;Simon,2002)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skew &lt;-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Skew &gt;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Kurto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lt;0 flat (Plati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 normal peak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&gt;0 peaked about mean (Leptokurt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ules of Thumb (Simon, 200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sitive Kurtosis   &gt;  3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gative Kurtosis &lt; -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bababa"/>
                </a:solidFill>
                <a:latin typeface="Tahoma"/>
              </a:rPr>
              <a:t>Peakedness</a:t>
            </a:r>
            <a:endParaRPr b="1" lang="en-US" sz="2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Kurtosis measures peakednes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Carlo in his 1997 Psychological Methods paper shows kurtosis influenced by the tails of the distribu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n’t want too peaked or too uniform distribu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peaked -no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flat - no one ‘typical’ valu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6" name="Object 1029"/>
          <p:cNvGraphicFramePr/>
          <p:nvPr/>
        </p:nvGraphicFramePr>
        <p:xfrm>
          <a:off x="4648320" y="2314440"/>
          <a:ext cx="4038480" cy="329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14440"/>
                    <a:ext cx="4038480" cy="32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ypes of Kurtosis (Miles &amp; Shevlin, 200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50" name="Object 2051"/>
          <p:cNvGraphicFramePr/>
          <p:nvPr/>
        </p:nvGraphicFramePr>
        <p:xfrm>
          <a:off x="395280" y="184464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205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84464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imodalit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is is a mixture of two distributions (clear dip around the middle; multipeak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istograms are usually good at spotting th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ggests modelling the first half and second half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55" name="Picture 1031" descr="BIMOD~BS"/>
          <p:cNvPicPr/>
          <p:nvPr/>
        </p:nvPicPr>
        <p:blipFill>
          <a:blip r:embed="rId1"/>
          <a:stretch/>
        </p:blipFill>
        <p:spPr>
          <a:xfrm>
            <a:off x="4648320" y="2448000"/>
            <a:ext cx="40384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2T13:07:24Z</dcterms:created>
  <dc:creator>peter</dc:creator>
  <dc:description/>
  <dc:language>en-US</dc:language>
  <cp:lastModifiedBy>Peter Watson</cp:lastModifiedBy>
  <dcterms:modified xsi:type="dcterms:W3CDTF">2017-07-03T08:52:35Z</dcterms:modified>
  <cp:revision>350</cp:revision>
  <dc:subject/>
  <dc:title>Exploratory Data Analysis</dc:title>
</cp:coreProperties>
</file>