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E356-6AC6-4834-A5FD-93CC1E559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F0CB-311B-47E4-9D6F-0F417B65E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FE6-DD58-41E4-871D-BAD12B2AF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3174-83F0-4D2A-89D8-9F72717E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4210-8CE6-4FF6-9A67-E96951F3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B62E-16D8-4126-9F58-4A7729F81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120-4514-46BB-87E9-12E423359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AEEE-B829-4203-A189-79028B89E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506-EBD4-45A5-896C-12ED61B18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8DB9-6851-4280-8B0E-F6B986C52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1A29-96B7-47B7-A464-2A039E7C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F382-46F2-40A1-8DAF-AF59B040F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849A-49A2-4565-A69D-8F1798A0E16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50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15:07Z</dcterms:created>
  <dc:creator>Peter Watson</dc:creator>
  <dc:description/>
  <dc:language>en-US</dc:language>
  <cp:lastModifiedBy>Peter Watson</cp:lastModifiedBy>
  <dcterms:modified xsi:type="dcterms:W3CDTF">2010-10-04T14:15:07Z</dcterms:modified>
  <cp:revision>1</cp:revision>
  <dc:subject/>
  <dc:title>Slide 1</dc:title>
</cp:coreProperties>
</file>