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png" ContentType="image/png"/>
  <Override PartName="/ppt/media/image22.wmf" ContentType="image/x-wmf"/>
  <Override PartName="/ppt/media/image6.wmf" ContentType="image/x-wmf"/>
  <Override PartName="/ppt/media/image29.wmf" ContentType="image/x-wmf"/>
  <Override PartName="/ppt/media/image31.wmf" ContentType="image/x-wmf"/>
  <Override PartName="/ppt/media/image7.jpeg" ContentType="image/jpeg"/>
  <Override PartName="/ppt/media/image10.wmf" ContentType="image/x-wmf"/>
  <Override PartName="/ppt/media/image11.wmf" ContentType="image/x-wmf"/>
  <Override PartName="/ppt/media/image12.png" ContentType="image/png"/>
  <Override PartName="/ppt/media/image32.wmf" ContentType="image/x-wmf"/>
  <Override PartName="/ppt/media/image1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3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png" ContentType="image/png"/>
  <Override PartName="/ppt/media/image16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A006-3887-4FB6-A921-C59460D487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C625-7193-4B68-BB35-18462FF4C1BC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966EF-FA8C-4B32-9C31-975FA6011E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A6F48-E46F-479C-B402-5C7D455544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612C2-1E94-4CE0-955B-A495E75169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6166E-9C50-410F-9838-AC847951FC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6EAE3E-3DCF-43AF-86A0-205B3435AE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892BE-9E51-4046-A7B2-CEB4C9B1F5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5D742B-ADE1-4B7C-BA8D-DA34CAB3A9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722FB3-7E14-46D8-9C36-1F797DB457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E06FF-75EF-4E91-9610-FAD632549C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3A008-AA9C-4ACA-8BD9-2506EE865C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BE576-6F24-40F8-9241-ED64B7328D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0E0E4-2FED-4553-A3E4-13FD67218C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C094E-ED7D-441B-BCF3-B312B9174C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4E1B4-A5AE-48CC-9195-D6ABEA5D69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04703-D922-48FD-AB7A-E843D4D349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1B6DB-C0D8-4407-BCC5-B545142EC8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51EF0-78D4-44E5-80F6-AA0CA0CE94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457D3-99DC-47CD-BF83-A747C13CC9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468CF-A9A0-45FF-9CD6-04C4E7D4E3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A5427-C0AB-403C-8F93-E7F42C3A95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6B159-D43B-4719-815E-741CD10DA5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23483-CED4-406E-A176-1717683CD7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A9E1E-8838-424D-8186-7D0045D66A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A50C0-A540-4BB2-A51F-2516773D64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96544BD5-8D33-4F07-AFD2-BF6EED99F257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13CF7D9B-266F-46C4-ABA4-8EAC540FC31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4267080" y="301680"/>
            <a:ext cx="4572000" cy="69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59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73" name="Picture 38" descr=""/>
          <p:cNvPicPr/>
          <p:nvPr/>
        </p:nvPicPr>
        <p:blipFill>
          <a:blip r:embed="rId2"/>
          <a:stretch/>
        </p:blipFill>
        <p:spPr>
          <a:xfrm>
            <a:off x="4356000" y="301680"/>
            <a:ext cx="4616640" cy="807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492BA2E-E17A-4F28-9FEA-70280B65FE7A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A31CA8B-809A-4111-8328-D10596E0B437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4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x=63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4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9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3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1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201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0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 (primer)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pssusers.co.uk/Events/2012/confprog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1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6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1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7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8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5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54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7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8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3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1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7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2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06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7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2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 (See Lantz (2013) for Kruskal-Wallis for three or more group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bbie et al (2012) in Br J Math Stat Psych suggest a variety of adjusted tests including Welch’s (1951) adjustment for use with one-way ANOVA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howev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aeger TF (2008) Categorical data analysis:away from ANOVAs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 Mem Lang 59(4) 434-446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difficulties using arcsines on proportions near 0 or 1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rcsine also may be used when correlating propor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7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6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0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5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17-07-03T08:52:35Z</dcterms:modified>
  <cp:revision>350</cp:revision>
  <dc:subject/>
  <dc:title>Exploratory Data Analysis</dc:title>
</cp:coreProperties>
</file>