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08219A3-E782-45BC-A16B-CD28A03CF831}"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70B528F-49B2-46FD-BAB5-099993AA1B33}"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E98A1-FF77-4AE0-893A-7A7A59766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FAC9-0E62-4B8C-8AD3-D60BE107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262C6-43DE-488B-845D-950C948B3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478A7-7095-442D-A745-C186B4C71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8A07-333D-4BA3-B447-BAFB81B8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CA42-1D2E-4622-8ABD-237B14F0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570F-0352-4031-A4D8-AA5101030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4CFE-9F4C-4441-A3F6-5BA2C4F56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6E479-E270-4773-B2EF-1F8A1590E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42A5-17C2-4004-A39C-4BCCCA3EB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20855-9AEF-406E-B479-8F0B481F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9668-F1A0-41AB-B932-C26A304A8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FA1A-767A-4CA3-BE26-1900D76A2C7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FC6D-DA09-4DF2-9888-E1E4ADA715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E613-B7AE-40C0-B46E-3BA2C03112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872B-424E-43BD-95B5-AC0C146357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FD37-0E1A-413A-985C-FDC7954C71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57D6-61B5-4781-B106-1E95E9A369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CC48-1854-475A-A681-A22CB3319F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FB79-1182-4BC1-AEC9-402D4C561A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4FFA-84C9-41B5-83F1-D343FE577F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C549-BEDA-469A-A9E0-EE110CF2AA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8735-AECD-4891-92C6-0CB13EEB9C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7DFF-E9A0-4A92-A395-A7C809CD3F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27E4-4EA4-4A54-8B50-1672E7FC2B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44CA-6339-4A1B-9431-07A60CA095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32B7-744D-491C-9B7A-9A22C4D736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FAFE-FFCB-4195-99FC-6428C78D58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142B4-E647-4D74-8095-763229552B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66F2-9DDC-4F56-88DA-D5FE5F5B46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F226-BF0C-4915-91AC-197F9ACF10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25FF-C830-41D7-A1C1-FD1CAF54DF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D044-90B1-4213-93F5-12C380830C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E5D4-F02F-4615-8295-F5BA03D516E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A08C-D2AE-4548-A4F0-6D2B33226A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1CA0-0FCC-4049-B3DE-0A6E7496E9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6C55-7910-432E-B163-D52410C9BB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FAD0F-B04B-4911-AE9A-7711A73FB9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6024-D08A-4953-8D29-FF4046AD3D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5A1C-0482-4939-B626-1170CD2899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BD1EA-E232-4225-8F15-5476CA20B0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7456-A8C4-433A-A679-5FE5B0FF56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1ADD-864A-41B3-AFEE-E1558E9B57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789F-9846-4161-B5F3-1B72C9AF11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DCE9-4EB3-4963-84CA-FEC08D2AC4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8632-0AEA-4E87-A644-B558E69FBD5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4722-C2FC-4EC4-93C2-7DD3168DE9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FBC1-B8C4-479A-9861-ACD72E56DC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779C-51ED-476B-8E0F-6BEA09EF03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6B2B-5767-4F86-8183-00C4184AED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9965-5CC0-4BF4-9D8C-466BD60AAB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FD55-0D66-4BED-907B-95614AE87C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8B39B-C44D-4B74-8386-9490F87593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55CA-FC18-43E4-8115-B9A755049E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7-07-03T09:07:12Z</dcterms:modified>
  <cp:revision>71</cp:revision>
  <dc:subject/>
  <dc:title>Aims and Objectives</dc:title>
</cp:coreProperties>
</file>