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8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11.wmf" ContentType="image/x-wmf"/>
  <Override PartName="/ppt/media/image6.wmf" ContentType="image/x-wmf"/>
  <Override PartName="/ppt/media/image5.wmf" ContentType="image/x-wmf"/>
  <Override PartName="/ppt/media/image10.png" ContentType="image/png"/>
  <Override PartName="/ppt/media/image4.wmf" ContentType="image/x-wmf"/>
  <Override PartName="/ppt/media/image3.wmf" ContentType="image/x-wmf"/>
  <Override PartName="/ppt/media/image25.jpeg" ContentType="image/jpeg"/>
  <Override PartName="/ppt/media/image2.wmf" ContentType="image/x-wmf"/>
  <Override PartName="/ppt/media/image24.wmf" ContentType="image/x-wmf"/>
  <Override PartName="/ppt/media/image23.wmf" ContentType="image/x-wmf"/>
  <Override PartName="/ppt/media/image22.png" ContentType="image/png"/>
  <Override PartName="/ppt/media/image21.png" ContentType="image/png"/>
  <Override PartName="/ppt/media/image19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16.png" ContentType="image/png"/>
  <Override PartName="/ppt/media/image15.wmf" ContentType="image/x-wmf"/>
  <Override PartName="/ppt/media/image14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</p:sldIdLst>
  <p:sldSz cx="9144000" cy="6858000"/>
  <p:notesSz cx="6846888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0"/>
            <a:ext cx="6847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00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8"/>
          </p:nvPr>
        </p:nvSpPr>
        <p:spPr>
          <a:xfrm>
            <a:off x="3846600" y="0"/>
            <a:ext cx="3000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Img"/>
          </p:nvPr>
        </p:nvSpPr>
        <p:spPr>
          <a:xfrm>
            <a:off x="934560" y="761760"/>
            <a:ext cx="4977000" cy="373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move the slid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body"/>
          </p:nvPr>
        </p:nvSpPr>
        <p:spPr>
          <a:xfrm>
            <a:off x="923400" y="4722840"/>
            <a:ext cx="499932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9"/>
          </p:nvPr>
        </p:nvSpPr>
        <p:spPr>
          <a:xfrm>
            <a:off x="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 type="sldNum" idx="10"/>
          </p:nvPr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49B23-CBB7-4141-A6E8-91F7B57BC7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934920" y="762120"/>
            <a:ext cx="4977000" cy="373212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923400" y="4722840"/>
            <a:ext cx="499932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Slide Number Placeholder 3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11AD5-939E-4849-9D9B-61DEB03B23F7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A2EAE-62B3-4433-A6C0-348F0F70F8F8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39745-C272-46D6-88B2-394BE5CDA424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51730-E0A8-4F34-AC9D-35AFF6856A10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1CF5D-B49B-42F4-837B-6C4741290D7C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19852-E7FA-43BB-B176-36BA933E7D88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7813E-B8E6-491F-8162-30F2652B68FF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67DD3-11B2-430B-A8A0-578BEF51B452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491D9-956F-4A28-8FE4-1E9404561C8D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747A3-D174-486A-92F0-44605A7E974B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816CF-96AB-4A6C-B5DD-BE9AD6601EDD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A6C23-EDCA-4E96-8667-101326D59BEB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D598C-4D3E-4DA3-8C54-391CF3B8D964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DCCD6-DB07-47CF-9DCD-13A9314A4974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61504-0F2F-45A5-ACDB-C85291758C3E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77CF3-1B11-4764-B6FA-4F71E63EDD70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3D55B-34D2-4381-A2C7-BCD7492C753E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5FD18-C57D-4E70-9077-F03123BC97B2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4AAE0-117C-4E2E-B5ED-8F2084C21256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6814C-F2CA-45C3-85C8-FBBA432645E0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51715-CB7D-49F4-98A3-E74CAC52499A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1A508-774D-439B-B191-6856E3FBD153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CD5BB-1160-4C09-B941-8540B092FB66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E108D-E03B-4E7C-A103-8EA081A00C52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6367A-622F-4B4E-B49A-0C3F5EB3C510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47888-11E3-4708-B774-C78452A986F6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B2F32-8673-4B33-B77F-6FEE37F183CB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62C5D-75A0-4D1A-A8BA-C545F3B9AE07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B1B7A-D368-435C-BB15-043291B856F3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8A80A-9769-4B02-9148-1427D7D4E322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623D5-7933-4632-B172-B40EE7275F90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415D4-EF1F-47A0-9BC3-116E7CA368AF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D5CE1-93F4-412F-933A-123614948681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7A57A-6BD7-499B-B3BA-92015B4D6113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BE23C-2CCF-4F83-B1C6-7A0A24580E80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A529E-EECC-48F6-B8B2-B2B51A279914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62D04-942A-4649-80D1-9F94D45D2B17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0CED2-4BBC-455E-89B1-C91296BFF25B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F4E26-00FD-4BD0-BAFA-EE0E85237F84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FA7AF-FE7B-4ADF-9944-C9C4CD272249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17F83-DD0C-4246-AC54-7189C6B64850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4E5E8-B56C-4FCF-9025-377FF900691E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ABDD9-7270-4815-9213-07881E7F8528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62323-9E12-4F70-9DB4-BE1C5CF0255D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32869-C4AF-4503-BB03-A92767B52F59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E91DC-8943-4EA8-A249-74123FF4B20E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E3607-F058-4AE2-8DE2-65DA5DC107F2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9B4B3-D8E0-42D7-9371-3AD877D2C5D0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05E41-382E-4502-8042-11F5401BE692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3CBD1-739A-410B-99D9-B5C9D912D58B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56D43-BD55-4B33-A94A-DA21D44331E5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5B62C-F4F3-4295-B3C7-C34B8E5553C8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46BB8-1A9A-4255-BC82-7C416CD12D84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9060-2C22-4A18-959F-8ACA11F6C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F766-1A3F-4586-827A-65B2B622F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2389-08EA-48FF-84B3-CC84075EF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810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3824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182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810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3824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C2EF-9E62-42EB-AD99-2A181C9BF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150560" y="7596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1A5D-8F5A-46EE-9B7C-948B387A7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810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43824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182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810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43824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EE2B-FE3B-454F-9B4A-DF857697F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1150560" y="7596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810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43824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1182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810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43824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08D0-D2F2-4406-8D74-05FA46734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9B8F-3A73-4CEB-A946-7FEFF8C40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150560" y="7596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8452-56C1-4839-A289-74D0FBFFC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0FD7-76AD-4ADD-9A0B-26012D57B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769F-B050-4F4E-A21A-A866CF39A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41EA-F164-428C-864A-8124B867B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0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3 November 201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6652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52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126BB-332C-4882-BB13-26E1CA5A1059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304920" y="720720"/>
            <a:ext cx="438120" cy="4748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Rectangle 9"/>
          <p:cNvSpPr/>
          <p:nvPr/>
        </p:nvSpPr>
        <p:spPr>
          <a:xfrm>
            <a:off x="541440" y="1022400"/>
            <a:ext cx="422280" cy="474480"/>
          </a:xfrm>
          <a:prstGeom prst="rect">
            <a:avLst/>
          </a:prstGeom>
          <a:solidFill>
            <a:srgbClr val="ed1d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Rectangle 10"/>
          <p:cNvSpPr/>
          <p:nvPr/>
        </p:nvSpPr>
        <p:spPr>
          <a:xfrm>
            <a:off x="685800" y="754200"/>
            <a:ext cx="17640" cy="57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" name="Rectangle 11"/>
          <p:cNvSpPr/>
          <p:nvPr/>
        </p:nvSpPr>
        <p:spPr>
          <a:xfrm>
            <a:off x="457200" y="719280"/>
            <a:ext cx="17640" cy="61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Rectangle 12"/>
          <p:cNvSpPr/>
          <p:nvPr/>
        </p:nvSpPr>
        <p:spPr>
          <a:xfrm>
            <a:off x="533520" y="611280"/>
            <a:ext cx="17280" cy="71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" name="Rectangle 13"/>
          <p:cNvSpPr/>
          <p:nvPr/>
        </p:nvSpPr>
        <p:spPr>
          <a:xfrm>
            <a:off x="609480" y="538200"/>
            <a:ext cx="17640" cy="79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762120" y="790560"/>
            <a:ext cx="1728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" name="Rectangle 15"/>
          <p:cNvSpPr/>
          <p:nvPr/>
        </p:nvSpPr>
        <p:spPr>
          <a:xfrm>
            <a:off x="838080" y="826920"/>
            <a:ext cx="1764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" name="Rectangle 16"/>
          <p:cNvSpPr/>
          <p:nvPr/>
        </p:nvSpPr>
        <p:spPr>
          <a:xfrm>
            <a:off x="914400" y="934920"/>
            <a:ext cx="17640" cy="3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" name="Rectangle 17"/>
          <p:cNvSpPr/>
          <p:nvPr/>
        </p:nvSpPr>
        <p:spPr>
          <a:xfrm>
            <a:off x="380880" y="1071720"/>
            <a:ext cx="9720" cy="258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" name="Rectangle 18"/>
          <p:cNvSpPr/>
          <p:nvPr/>
        </p:nvSpPr>
        <p:spPr>
          <a:xfrm>
            <a:off x="228600" y="1251000"/>
            <a:ext cx="17640" cy="79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" name="Rectangle 19"/>
          <p:cNvSpPr/>
          <p:nvPr/>
        </p:nvSpPr>
        <p:spPr>
          <a:xfrm>
            <a:off x="304920" y="1177920"/>
            <a:ext cx="17280" cy="15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" name="Rectangle 20"/>
          <p:cNvSpPr/>
          <p:nvPr/>
        </p:nvSpPr>
        <p:spPr>
          <a:xfrm>
            <a:off x="1066680" y="1222200"/>
            <a:ext cx="17640" cy="1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" name="Rectangle 21"/>
          <p:cNvSpPr/>
          <p:nvPr/>
        </p:nvSpPr>
        <p:spPr>
          <a:xfrm>
            <a:off x="990720" y="1114560"/>
            <a:ext cx="17280" cy="215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" name="Rectangle 22"/>
          <p:cNvSpPr/>
          <p:nvPr/>
        </p:nvSpPr>
        <p:spPr>
          <a:xfrm>
            <a:off x="152280" y="1290600"/>
            <a:ext cx="8516880" cy="396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0" name="Picture 1" descr=""/>
          <p:cNvPicPr/>
          <p:nvPr/>
        </p:nvPicPr>
        <p:blipFill>
          <a:blip r:embed="rId2"/>
          <a:stretch/>
        </p:blipFill>
        <p:spPr>
          <a:xfrm>
            <a:off x="7162920" y="6419880"/>
            <a:ext cx="1782720" cy="266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8"/>
          <p:cNvSpPr/>
          <p:nvPr/>
        </p:nvSpPr>
        <p:spPr>
          <a:xfrm>
            <a:off x="304920" y="720720"/>
            <a:ext cx="438120" cy="4748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8" name="Rectangle 9"/>
          <p:cNvSpPr/>
          <p:nvPr/>
        </p:nvSpPr>
        <p:spPr>
          <a:xfrm>
            <a:off x="541440" y="1022400"/>
            <a:ext cx="422280" cy="474480"/>
          </a:xfrm>
          <a:prstGeom prst="rect">
            <a:avLst/>
          </a:prstGeom>
          <a:solidFill>
            <a:srgbClr val="ed1d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9" name="Rectangle 10"/>
          <p:cNvSpPr/>
          <p:nvPr/>
        </p:nvSpPr>
        <p:spPr>
          <a:xfrm>
            <a:off x="685800" y="754200"/>
            <a:ext cx="17640" cy="57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" name="Rectangle 11"/>
          <p:cNvSpPr/>
          <p:nvPr/>
        </p:nvSpPr>
        <p:spPr>
          <a:xfrm>
            <a:off x="457200" y="719280"/>
            <a:ext cx="17640" cy="61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" name="Rectangle 12"/>
          <p:cNvSpPr/>
          <p:nvPr/>
        </p:nvSpPr>
        <p:spPr>
          <a:xfrm>
            <a:off x="533520" y="611280"/>
            <a:ext cx="17280" cy="71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" name="Rectangle 13"/>
          <p:cNvSpPr/>
          <p:nvPr/>
        </p:nvSpPr>
        <p:spPr>
          <a:xfrm>
            <a:off x="609480" y="538200"/>
            <a:ext cx="17640" cy="79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" name="Rectangle 14"/>
          <p:cNvSpPr/>
          <p:nvPr/>
        </p:nvSpPr>
        <p:spPr>
          <a:xfrm>
            <a:off x="762120" y="790560"/>
            <a:ext cx="1728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4" name="Rectangle 15"/>
          <p:cNvSpPr/>
          <p:nvPr/>
        </p:nvSpPr>
        <p:spPr>
          <a:xfrm>
            <a:off x="838080" y="826920"/>
            <a:ext cx="1764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5" name="Rectangle 16"/>
          <p:cNvSpPr/>
          <p:nvPr/>
        </p:nvSpPr>
        <p:spPr>
          <a:xfrm>
            <a:off x="914400" y="934920"/>
            <a:ext cx="17640" cy="3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6" name="Rectangle 17"/>
          <p:cNvSpPr/>
          <p:nvPr/>
        </p:nvSpPr>
        <p:spPr>
          <a:xfrm>
            <a:off x="380880" y="1071720"/>
            <a:ext cx="9720" cy="258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" name="Rectangle 18"/>
          <p:cNvSpPr/>
          <p:nvPr/>
        </p:nvSpPr>
        <p:spPr>
          <a:xfrm>
            <a:off x="228600" y="1251000"/>
            <a:ext cx="17640" cy="79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" name="Rectangle 19"/>
          <p:cNvSpPr/>
          <p:nvPr/>
        </p:nvSpPr>
        <p:spPr>
          <a:xfrm>
            <a:off x="304920" y="1177920"/>
            <a:ext cx="17280" cy="15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" name="Rectangle 20"/>
          <p:cNvSpPr/>
          <p:nvPr/>
        </p:nvSpPr>
        <p:spPr>
          <a:xfrm>
            <a:off x="1066680" y="1222200"/>
            <a:ext cx="17640" cy="1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0" name="Rectangle 21"/>
          <p:cNvSpPr/>
          <p:nvPr/>
        </p:nvSpPr>
        <p:spPr>
          <a:xfrm>
            <a:off x="990720" y="1114560"/>
            <a:ext cx="17280" cy="215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1" name="Rectangle 22"/>
          <p:cNvSpPr/>
          <p:nvPr/>
        </p:nvSpPr>
        <p:spPr>
          <a:xfrm>
            <a:off x="152280" y="1290600"/>
            <a:ext cx="8516880" cy="396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72" name="Picture 1" descr=""/>
          <p:cNvPicPr/>
          <p:nvPr/>
        </p:nvPicPr>
        <p:blipFill>
          <a:blip r:embed="rId2"/>
          <a:stretch/>
        </p:blipFill>
        <p:spPr>
          <a:xfrm>
            <a:off x="7162920" y="6419880"/>
            <a:ext cx="1782720" cy="26676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9140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3 November 201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266652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8"/>
          <p:cNvSpPr/>
          <p:nvPr/>
        </p:nvSpPr>
        <p:spPr>
          <a:xfrm>
            <a:off x="304920" y="720720"/>
            <a:ext cx="438120" cy="4748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" name="Rectangle 9"/>
          <p:cNvSpPr/>
          <p:nvPr/>
        </p:nvSpPr>
        <p:spPr>
          <a:xfrm>
            <a:off x="541440" y="1022400"/>
            <a:ext cx="422280" cy="474480"/>
          </a:xfrm>
          <a:prstGeom prst="rect">
            <a:avLst/>
          </a:prstGeom>
          <a:solidFill>
            <a:srgbClr val="ed1d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" name="Rectangle 10"/>
          <p:cNvSpPr/>
          <p:nvPr/>
        </p:nvSpPr>
        <p:spPr>
          <a:xfrm>
            <a:off x="685800" y="754200"/>
            <a:ext cx="17640" cy="57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" name="Rectangle 11"/>
          <p:cNvSpPr/>
          <p:nvPr/>
        </p:nvSpPr>
        <p:spPr>
          <a:xfrm>
            <a:off x="457200" y="719280"/>
            <a:ext cx="17640" cy="61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" name="Rectangle 12"/>
          <p:cNvSpPr/>
          <p:nvPr/>
        </p:nvSpPr>
        <p:spPr>
          <a:xfrm>
            <a:off x="533520" y="611280"/>
            <a:ext cx="17280" cy="71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8" name="Rectangle 13"/>
          <p:cNvSpPr/>
          <p:nvPr/>
        </p:nvSpPr>
        <p:spPr>
          <a:xfrm>
            <a:off x="609480" y="538200"/>
            <a:ext cx="17640" cy="79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9" name="Rectangle 14"/>
          <p:cNvSpPr/>
          <p:nvPr/>
        </p:nvSpPr>
        <p:spPr>
          <a:xfrm>
            <a:off x="762120" y="790560"/>
            <a:ext cx="1728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0" name="Rectangle 15"/>
          <p:cNvSpPr/>
          <p:nvPr/>
        </p:nvSpPr>
        <p:spPr>
          <a:xfrm>
            <a:off x="838080" y="826920"/>
            <a:ext cx="1764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" name="Rectangle 16"/>
          <p:cNvSpPr/>
          <p:nvPr/>
        </p:nvSpPr>
        <p:spPr>
          <a:xfrm>
            <a:off x="914400" y="934920"/>
            <a:ext cx="17640" cy="3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" name="Rectangle 17"/>
          <p:cNvSpPr/>
          <p:nvPr/>
        </p:nvSpPr>
        <p:spPr>
          <a:xfrm>
            <a:off x="380880" y="1071720"/>
            <a:ext cx="9720" cy="258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" name="Rectangle 18"/>
          <p:cNvSpPr/>
          <p:nvPr/>
        </p:nvSpPr>
        <p:spPr>
          <a:xfrm>
            <a:off x="228600" y="1251000"/>
            <a:ext cx="17640" cy="79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" name="Rectangle 19"/>
          <p:cNvSpPr/>
          <p:nvPr/>
        </p:nvSpPr>
        <p:spPr>
          <a:xfrm>
            <a:off x="304920" y="1177920"/>
            <a:ext cx="17280" cy="15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" name="Rectangle 20"/>
          <p:cNvSpPr/>
          <p:nvPr/>
        </p:nvSpPr>
        <p:spPr>
          <a:xfrm>
            <a:off x="1066680" y="1222200"/>
            <a:ext cx="17640" cy="1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" name="Rectangle 21"/>
          <p:cNvSpPr/>
          <p:nvPr/>
        </p:nvSpPr>
        <p:spPr>
          <a:xfrm>
            <a:off x="990720" y="1114560"/>
            <a:ext cx="17280" cy="215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" name="Rectangle 22"/>
          <p:cNvSpPr/>
          <p:nvPr/>
        </p:nvSpPr>
        <p:spPr>
          <a:xfrm>
            <a:off x="152280" y="1290600"/>
            <a:ext cx="8516880" cy="396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8" name="Picture 1" descr=""/>
          <p:cNvPicPr/>
          <p:nvPr/>
        </p:nvPicPr>
        <p:blipFill>
          <a:blip r:embed="rId2"/>
          <a:stretch/>
        </p:blipFill>
        <p:spPr>
          <a:xfrm>
            <a:off x="7162920" y="6419880"/>
            <a:ext cx="1782720" cy="26676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6"/>
          </p:nvPr>
        </p:nvSpPr>
        <p:spPr>
          <a:xfrm>
            <a:off x="9140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f210b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Times New Roman"/>
              </a:rPr>
              <a:t>23 November 201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7"/>
          </p:nvPr>
        </p:nvSpPr>
        <p:spPr>
          <a:xfrm>
            <a:off x="266652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f210b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SpssBonferroni" TargetMode="External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7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8" name="Rectangle 3"/>
          <p:cNvSpPr/>
          <p:nvPr/>
        </p:nvSpPr>
        <p:spPr>
          <a:xfrm>
            <a:off x="380880" y="2286000"/>
            <a:ext cx="8305920" cy="35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MRC Cognition and Brain Sciences Unit </a:t>
            </a:r>
            <a:br>
              <a:rPr sz="3200"/>
            </a:br>
            <a:r>
              <a:rPr b="0" lang="en-GB" sz="3200" spc="-1" strike="noStrike">
                <a:solidFill>
                  <a:srgbClr val="0099cc"/>
                </a:solidFill>
                <a:latin typeface="Albertus Medium"/>
              </a:rPr>
              <a:t>Graduate Statistics Course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http://imaging.mrc-cbu.cam.ac.uk/statswiki/StatsCourse2017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2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: Plotting Standard Error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224" name="Object 4"/>
          <p:cNvGraphicFramePr/>
          <p:nvPr/>
        </p:nvGraphicFramePr>
        <p:xfrm>
          <a:off x="1752480" y="1981080"/>
          <a:ext cx="5473800" cy="422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981080"/>
                    <a:ext cx="5473800" cy="42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" name="Text Box 5"/>
          <p:cNvSpPr/>
          <p:nvPr/>
        </p:nvSpPr>
        <p:spPr>
          <a:xfrm>
            <a:off x="3184560" y="1981080"/>
            <a:ext cx="306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eans +/- 1 SEM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8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229" name="Object 1029"/>
          <p:cNvGraphicFramePr/>
          <p:nvPr/>
        </p:nvGraphicFramePr>
        <p:xfrm>
          <a:off x="1905120" y="1981080"/>
          <a:ext cx="5473440" cy="422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981080"/>
                    <a:ext cx="5473440" cy="42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50560" y="76320"/>
            <a:ext cx="7792920" cy="16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: Plotting Standard Errors of the Differences</a:t>
            </a:r>
            <a:br>
              <a:rPr sz="3200"/>
            </a:b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http://seriousstats.wordpress.com/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32" name="Text Box 1028"/>
          <p:cNvSpPr/>
          <p:nvPr/>
        </p:nvSpPr>
        <p:spPr>
          <a:xfrm>
            <a:off x="3184560" y="1981080"/>
            <a:ext cx="306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eans +/- 1 SE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4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235" name="Object 1029"/>
          <p:cNvGraphicFramePr/>
          <p:nvPr/>
        </p:nvGraphicFramePr>
        <p:xfrm>
          <a:off x="2057400" y="2057400"/>
          <a:ext cx="5543640" cy="422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2057400"/>
                    <a:ext cx="5543640" cy="42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: Plotting 95% Confidence Intevals of Differenc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38" name="Text Box 1028"/>
          <p:cNvSpPr/>
          <p:nvPr/>
        </p:nvSpPr>
        <p:spPr>
          <a:xfrm>
            <a:off x="2286000" y="2133720"/>
            <a:ext cx="563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Means +/- 95% CI for Differences of 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0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: Multiple </a:t>
            </a: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t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-te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242" name="Picture 4" descr=""/>
          <p:cNvPicPr/>
          <p:nvPr/>
        </p:nvPicPr>
        <p:blipFill>
          <a:blip r:embed="rId1"/>
          <a:stretch/>
        </p:blipFill>
        <p:spPr>
          <a:xfrm>
            <a:off x="4800600" y="205740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6" descr=""/>
          <p:cNvPicPr/>
          <p:nvPr/>
        </p:nvPicPr>
        <p:blipFill>
          <a:blip r:embed="rId2"/>
          <a:stretch/>
        </p:blipFill>
        <p:spPr>
          <a:xfrm>
            <a:off x="228600" y="2286000"/>
            <a:ext cx="424800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: ‘LSD’</a:t>
            </a: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 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ption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247" name="Picture 5" descr=""/>
          <p:cNvPicPr/>
          <p:nvPr/>
        </p:nvPicPr>
        <p:blipFill>
          <a:blip r:embed="rId1"/>
          <a:stretch/>
        </p:blipFill>
        <p:spPr>
          <a:xfrm>
            <a:off x="533520" y="2057400"/>
            <a:ext cx="6546600" cy="3895560"/>
          </a:xfrm>
          <a:prstGeom prst="rect">
            <a:avLst/>
          </a:prstGeom>
          <a:ln w="0">
            <a:noFill/>
          </a:ln>
        </p:spPr>
      </p:pic>
      <p:sp>
        <p:nvSpPr>
          <p:cNvPr id="248" name="Line 6"/>
          <p:cNvSpPr/>
          <p:nvPr/>
        </p:nvSpPr>
        <p:spPr>
          <a:xfrm flipH="1" flipV="1">
            <a:off x="6019920" y="5715000"/>
            <a:ext cx="1218960" cy="76320"/>
          </a:xfrm>
          <a:prstGeom prst="line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9" name="Text Box 7"/>
          <p:cNvSpPr/>
          <p:nvPr/>
        </p:nvSpPr>
        <p:spPr>
          <a:xfrm>
            <a:off x="7292880" y="5562720"/>
            <a:ext cx="118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ut NB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0" name="Text Box 8"/>
          <p:cNvSpPr/>
          <p:nvPr/>
        </p:nvSpPr>
        <p:spPr>
          <a:xfrm>
            <a:off x="6826320" y="2819520"/>
            <a:ext cx="1789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&gt;L,P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&gt;P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(all p&lt;.05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1" name="AutoShape 9"/>
          <p:cNvSpPr/>
          <p:nvPr/>
        </p:nvSpPr>
        <p:spPr>
          <a:xfrm>
            <a:off x="914400" y="5562720"/>
            <a:ext cx="4989600" cy="152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: ‘LSD’</a:t>
            </a: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 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ption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problem with doing several null-hypothesis tes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ach test is watching out for a rare event with prevalence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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[Type I Error Rate]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more tests you do the more likely you are to observe a rare event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31480" indent="-22608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If there are N tests of Size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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then the expected number of Type I Errors is N.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31480" indent="-22608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ith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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we can expect 5/100 tests will reject their Null Hypotheses ‘by chance’.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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is phenomenon is known as Error Rate Inflatio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ultiple Comparisons:</a:t>
            </a:r>
            <a:r>
              <a:rPr b="0" lang="en-GB" sz="2000" spc="-1" strike="noStrike">
                <a:solidFill>
                  <a:srgbClr val="515f7b"/>
                </a:solidFill>
                <a:latin typeface="Albertus Medium"/>
              </a:rPr>
              <a:t> Watch your Error Rate!</a:t>
            </a:r>
            <a:endParaRPr b="0" lang="en-US" sz="20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Various ways of thinking about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Relating to Post-Hoc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vs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A Priori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Hypotheses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mparison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a pair of conditions/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trast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two or more conditions/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	</a:t>
            </a: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Type I Error Rat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f210b"/>
                </a:solidFill>
                <a:uFillTx/>
                <a:latin typeface="Albertus Medium"/>
              </a:rPr>
              <a:t>Per Comparison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(PC) error rate (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robability of making a Type I Error on a single Comparis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f210b"/>
                </a:solidFill>
                <a:uFillTx/>
                <a:latin typeface="Albertus Medium"/>
              </a:rPr>
              <a:t>Family-wise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(FW) error rat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robability of making at least one Type I error in a family (or set) of comparisons (also known as </a:t>
            </a:r>
            <a:r>
              <a:rPr b="0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Experiment-wis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error rate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C 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FW 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c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or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1-(1-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)</a:t>
            </a:r>
            <a:r>
              <a:rPr b="0" lang="en-US" sz="1800" spc="-1" strike="noStrike" baseline="50000">
                <a:solidFill>
                  <a:srgbClr val="8f210b"/>
                </a:solidFill>
                <a:latin typeface="Albertus Medium"/>
              </a:rPr>
              <a:t>c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here </a:t>
            </a:r>
            <a:r>
              <a:rPr b="0" i="1" lang="en-US" sz="2400" spc="-1" strike="noStrike">
                <a:solidFill>
                  <a:srgbClr val="8f210b"/>
                </a:solidFill>
                <a:latin typeface="Albertus Medium"/>
              </a:rPr>
              <a:t>c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is the number of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Problem of Multiple Comparisons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A numerical example of Error Rate infl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698400" indent="-26856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Suppose C 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ndependent significant tests with size 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8400" indent="-26856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d suppose all the null hypotheses are tru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8400" indent="-26856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probability (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*) of at least one significant result (Type I error) is bigger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74240" indent="-214560">
              <a:lnSpc>
                <a:spcPct val="100000"/>
              </a:lnSpc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*=1-(1-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)</a:t>
            </a:r>
            <a:r>
              <a:rPr b="0" i="1" lang="en-GB" sz="2000" spc="-1" strike="noStrike" baseline="30000">
                <a:solidFill>
                  <a:srgbClr val="8f210b"/>
                </a:solidFill>
                <a:latin typeface="Albertus Medium"/>
              </a:rPr>
              <a:t>C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3" marL="1504080" indent="-214560">
              <a:lnSpc>
                <a:spcPct val="100000"/>
              </a:lnSpc>
              <a:spcBef>
                <a:spcPts val="4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=0.05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3" marL="1504080" indent="-214560">
              <a:spcBef>
                <a:spcPts val="4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8f210b"/>
                </a:solidFill>
                <a:latin typeface="Albertus Medium"/>
              </a:rPr>
              <a:t>C</a:t>
            </a: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=6 (Say, comparable to all contrasts between 4 conditions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2" marL="1074240" indent="-214560">
              <a:lnSpc>
                <a:spcPct val="100000"/>
              </a:lnSpc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*=0.26 !!!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074240" indent="-21456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o the Familywise Error Rate is 26%, though each individual test has Error Rate 5%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698400" indent="-26856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hat is to be done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Various Approach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209320"/>
            <a:ext cx="7772400" cy="39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rthogonal Contrasts or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lanned Comparisons vs. Post Hoc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(See also Boniface(1995, p.80) and Howell 1997 (p.350-1,354) for discussion of apriori tests)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15f7b"/>
                </a:solidFill>
                <a:latin typeface="Albertus Medium"/>
              </a:rPr>
              <a:t>7: Post-hoc tests, Multiple comparisons, Contrasts and handling Interaction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609480" y="3733920"/>
            <a:ext cx="73915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What to do following an ANOV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eter Wats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with thanks to Ian Nimmo-Smith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anovaFAQ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rthogonal Contrasts/Compariso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ypothesis drive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lanned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a priori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Usually accepted that nominal significance can be followed (i.e. no need for adjustment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Rationale: we are really interested in each comparison/contrast on its own merits. We have no wish to make pronouncements at the Family-wise level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515f7b"/>
                </a:solidFill>
                <a:latin typeface="Albertus Medium"/>
              </a:rPr>
              <a:t>A Priori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 (= Planned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ypically there is a rationale which identifies a small number of (sub)-hypotheses which led to the formulation and design of the experiment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se correspond to </a:t>
            </a: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Planned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or </a:t>
            </a:r>
            <a:r>
              <a:rPr b="0" i="1" lang="en-GB" sz="2800" spc="-1" strike="noStrike">
                <a:solidFill>
                  <a:srgbClr val="0099cc"/>
                </a:solidFill>
                <a:latin typeface="Albertus Medium"/>
              </a:rPr>
              <a:t>A Priori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o long as there is no overlap (non-orthogonality) between the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Post Hoc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 Te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Not Planned (no hypothesis)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so known as </a:t>
            </a:r>
            <a:r>
              <a:rPr b="0" i="1" lang="en-GB" sz="2400" spc="-1" strike="noStrike">
                <a:solidFill>
                  <a:srgbClr val="0099cc"/>
                </a:solidFill>
                <a:latin typeface="Albertus Medium"/>
              </a:rPr>
              <a:t>a posteriori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E.g. Compare all pairs of mea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Planned Comparisons or Contra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asic Idea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The variability explained by the Model is due to subjects being assigned to different groups.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This variability can be broken down further to test specific hypotheses about ways in which groups might differ.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e break down the variance according to hypotheses made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a priori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before the experiment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Rules When Choosing Contra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ndependent: contrasts must not interfere with each other (they must test unique hypotheses)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implest approach compares one chunk of groups with another chunk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t most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 K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-1: You should always end up with one less contrast than the number of group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How to choose Contrasts?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In many experiments we have one or more control group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logic of control groups dictates that we expect them to be different from some of the groups that we’ve manipulated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first contrast will often be to compare any control groups (chunk 1) with any experimental conditions (chunk 2)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 1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Between subject experiment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One-way ANOVA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Control vs. Experimen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Control - (Semantic+Lexical+Phobic)/3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(1,-1/3,-1/3,-1/3) or (3,-1,-1,-1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00" name="Picture 5" descr=""/>
          <p:cNvPicPr/>
          <p:nvPr/>
        </p:nvPicPr>
        <p:blipFill>
          <a:blip r:embed="rId1"/>
          <a:stretch/>
        </p:blipFill>
        <p:spPr>
          <a:xfrm>
            <a:off x="228600" y="3886200"/>
            <a:ext cx="4000680" cy="223848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6" descr=""/>
          <p:cNvPicPr/>
          <p:nvPr/>
        </p:nvPicPr>
        <p:blipFill>
          <a:blip r:embed="rId2"/>
          <a:stretch/>
        </p:blipFill>
        <p:spPr>
          <a:xfrm>
            <a:off x="4800600" y="3886200"/>
            <a:ext cx="3133800" cy="22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2 and 3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Phobic versus Non-phobic priming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Semantic+Lexical)/2 - Phobi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0,1,1,-2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emantic vs Lexic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mantic - Lexica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0,1,-1,0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7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ne-way ANOVA contra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309" name="Picture 4" descr=""/>
          <p:cNvPicPr/>
          <p:nvPr/>
        </p:nvPicPr>
        <p:blipFill>
          <a:blip r:embed="rId1"/>
          <a:stretch/>
        </p:blipFill>
        <p:spPr>
          <a:xfrm>
            <a:off x="1143000" y="1905120"/>
            <a:ext cx="4854600" cy="141768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6" descr=""/>
          <p:cNvPicPr/>
          <p:nvPr/>
        </p:nvPicPr>
        <p:blipFill>
          <a:blip r:embed="rId2"/>
          <a:stretch/>
        </p:blipFill>
        <p:spPr>
          <a:xfrm>
            <a:off x="1143000" y="4648320"/>
            <a:ext cx="6894360" cy="1782720"/>
          </a:xfrm>
          <a:prstGeom prst="rect">
            <a:avLst/>
          </a:prstGeom>
          <a:ln w="0">
            <a:noFill/>
          </a:ln>
        </p:spPr>
      </p:pic>
      <p:sp>
        <p:nvSpPr>
          <p:cNvPr id="311" name="Text Box 7"/>
          <p:cNvSpPr/>
          <p:nvPr/>
        </p:nvSpPr>
        <p:spPr>
          <a:xfrm>
            <a:off x="6879600" y="3657600"/>
            <a:ext cx="1706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C &gt; ave(S,L,P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ave(S,L)&gt;P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P,L do not differ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1763640" y="3573360"/>
          <a:ext cx="3429000" cy="866880"/>
        </p:xfrm>
        <a:graphic>
          <a:graphicData uri="http://schemas.openxmlformats.org/drawingml/2006/table">
            <a:tbl>
              <a:tblPr/>
              <a:tblGrid>
                <a:gridCol w="685800"/>
                <a:gridCol w="685800"/>
                <a:gridCol w="685800"/>
                <a:gridCol w="685800"/>
                <a:gridCol w="685800"/>
              </a:tblGrid>
              <a:tr h="173160">
                <a:tc rowSpan="2">
                  <a:txBody>
                    <a:bodyPr lIns="59040" rIns="59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ontrast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riming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rol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emantic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Lexical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hobic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460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7280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2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7316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13" name="Rectangle 10"/>
          <p:cNvSpPr/>
          <p:nvPr/>
        </p:nvSpPr>
        <p:spPr>
          <a:xfrm>
            <a:off x="3304800" y="44280"/>
            <a:ext cx="25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1773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  <a:ea typeface="Calibri"/>
              </a:rPr>
              <a:t>Contrast Coefficients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1773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GLM Univariate syntax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7" name="Text Box 4"/>
          <p:cNvSpPr/>
          <p:nvPr/>
        </p:nvSpPr>
        <p:spPr>
          <a:xfrm>
            <a:off x="2696400" y="1981080"/>
            <a:ext cx="475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We get the syntax by pressing the ‘Paste’ button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18" name="Picture 10" descr=""/>
          <p:cNvPicPr/>
          <p:nvPr/>
        </p:nvPicPr>
        <p:blipFill>
          <a:blip r:embed="rId1"/>
          <a:stretch/>
        </p:blipFill>
        <p:spPr>
          <a:xfrm>
            <a:off x="1476360" y="2637000"/>
            <a:ext cx="6877080" cy="28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ims and Objectiv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Why do we use follow-up tests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Different ways to follow up an ANOV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lanned vs. Post Hoc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trasts and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hoosing and Coding Contra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andling Interac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0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utput from contrast analysi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2" name="Text Box 1029"/>
          <p:cNvSpPr/>
          <p:nvPr/>
        </p:nvSpPr>
        <p:spPr>
          <a:xfrm>
            <a:off x="6400800" y="1981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3" name="Text Box 1030"/>
          <p:cNvSpPr/>
          <p:nvPr/>
        </p:nvSpPr>
        <p:spPr>
          <a:xfrm>
            <a:off x="6248520" y="2013120"/>
            <a:ext cx="2301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Not the world’s most user-friendly output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24" name="Picture 9" descr=""/>
          <p:cNvPicPr/>
          <p:nvPr/>
        </p:nvPicPr>
        <p:blipFill>
          <a:blip r:embed="rId1"/>
          <a:stretch/>
        </p:blipFill>
        <p:spPr>
          <a:xfrm>
            <a:off x="1619280" y="1544760"/>
            <a:ext cx="3600360" cy="45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15f7b"/>
                </a:solidFill>
                <a:latin typeface="Albertus Medium"/>
              </a:rPr>
              <a:t>Rules for Coding Planned Contrast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1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Groups coded with positive weights will be compared to groups coded with negative weight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2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sum of weights for a contrast must be zero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3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f a group is not involved in a contrast, assign it a weight of zero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ore Rules …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4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or a given contrast, the weights assigned to the group(s) in one chunk of variation should be equal to the number of groups in the opposite chunk of variatio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5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f a group is singled out in a comparison, then that group should not be used in any subsequent contrast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Partitioning the Varianc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336" name="Object 0"/>
          <p:cNvGraphicFramePr/>
          <p:nvPr/>
        </p:nvGraphicFramePr>
        <p:xfrm>
          <a:off x="1631880" y="2317680"/>
          <a:ext cx="5878440" cy="194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7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31880" y="2317680"/>
                    <a:ext cx="5878440" cy="19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Text Box 5"/>
          <p:cNvSpPr/>
          <p:nvPr/>
        </p:nvSpPr>
        <p:spPr>
          <a:xfrm>
            <a:off x="1504800" y="4572000"/>
            <a:ext cx="6248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38.90 = 20.83 + 14.02 + 4.05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This additivity is a consequence of insisting on orthogonal contrast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in GLM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Only particular ‘off-the-shelf’ sets of contrasts are provided via the menu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ut can generate bespoke contrasts by using ‘Special’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via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syntax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Deviation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mpare each level with average of preceding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-1,0,0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1,-2,0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1,1,-3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in GLM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Simple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mpare each level with either the first or the la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-1,0,0)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0,0,-1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0,-1,0)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or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0,1,0,-1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0,0,-1)  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0,0,1,-1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in GLM (I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Helmert’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and 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Repeated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ompare each level with mean of previous or subsequent level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1,-1,0, 0)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3,-1,-1,-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2,-1,-1,0)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r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0,2,-1,-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3,-1,-1,-1)   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0,0,1,-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in GLM (IV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Polynomial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Divide up effects into Linear, Quadratic, Cubic … contra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ppropriate when considering a </a:t>
            </a:r>
            <a:r>
              <a:rPr b="0" lang="en-GB" sz="2400" spc="-1" strike="noStrike">
                <a:solidFill>
                  <a:srgbClr val="0099cc"/>
                </a:solidFill>
                <a:latin typeface="Albertus Medium"/>
              </a:rPr>
              <a:t>Trend Analysis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over time or some other covariate factor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Non-orthogonal </a:t>
            </a:r>
            <a:r>
              <a:rPr b="0" i="1" lang="en-GB" sz="2800" spc="-1" strike="noStrike">
                <a:solidFill>
                  <a:srgbClr val="515f7b"/>
                </a:solidFill>
                <a:latin typeface="Albertus Medium"/>
              </a:rPr>
              <a:t>a priori</a:t>
            </a: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 contrasts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o correct or not to correct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ypically, if the number of planned comparisons is small (up to K-1), Bonferroni type corrections are not applied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Post Hoc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 Tests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ompare each mean against all other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n general terms they use a stricter criterion to accept an effect as significant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ence, control the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Familywise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error rat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implest example is the Bonferroni method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f210b"/>
                </a:solidFill>
                <a:latin typeface="Albertus Medium"/>
              </a:rPr>
              <a:t>divide the desired Familywise Error Rate </a:t>
            </a:r>
            <a:r>
              <a:rPr b="1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1" lang="en-GB" sz="2000" spc="-1" strike="noStrike">
                <a:solidFill>
                  <a:srgbClr val="8f210b"/>
                </a:solidFill>
                <a:latin typeface="Albertus Medium"/>
              </a:rPr>
              <a:t> by the number of comparisons c and use </a:t>
            </a:r>
            <a:r>
              <a:rPr b="1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</a:t>
            </a:r>
            <a:r>
              <a:rPr b="1" lang="en-GB" sz="2000" spc="-1" strike="noStrike">
                <a:solidFill>
                  <a:srgbClr val="8f210b"/>
                </a:solidFill>
                <a:latin typeface="Albertus Medium"/>
              </a:rPr>
              <a:t>c as the Bonferroni Corrected Per Comparison Error Rate </a:t>
            </a:r>
            <a:r>
              <a:rPr b="1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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ith 2 means,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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=1 then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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ith 3 means,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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c=3 then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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ith 4 mean,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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c=6 then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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8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Example: Priming experimen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132000" y="4458960"/>
            <a:ext cx="5097600" cy="23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subjects design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Grouping Factor: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Priming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Dependent variable: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Number correc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91" name="Object 5"/>
          <p:cNvGraphicFramePr/>
          <p:nvPr/>
        </p:nvGraphicFramePr>
        <p:xfrm>
          <a:off x="1143000" y="2133720"/>
          <a:ext cx="5429160" cy="1985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133720"/>
                    <a:ext cx="5429160" cy="198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Post Hoc 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Tests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What to include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l experimental treatments vs. a control treatmen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l possible pairwise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l possible contra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se all need different handling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Simple 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Fisher's Least Significant Difference: LS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unprotecte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Fisher's protected 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nly proceed if the omnibus F test is significant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trols familywise error rate, but may miss out needles in the haystack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The significance of the overall F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 overall significant F test is not a pre-requisite for doing planned comparison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re still remains a considerable amount of confusion arising from earlier statements to the contrary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Not least in the minds of some reviewe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onferroni formula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4560" y="2057040"/>
            <a:ext cx="6437160" cy="41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eeking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-familywise of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Bonferroni t or Dunn's test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 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-per-comparison = 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/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onferroni correction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onservativ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Dunn-Sidak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 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-per-comparison = 1-(1-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)</a:t>
            </a:r>
            <a:r>
              <a:rPr b="0" lang="en-GB" sz="2400" spc="-1" strike="noStrike" baseline="30000">
                <a:solidFill>
                  <a:srgbClr val="8f210b"/>
                </a:solidFill>
                <a:latin typeface="Albertus Medium"/>
              </a:rPr>
              <a:t>1/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improved (exact, less conservative) Bonferroni correction which usually makes very little differenc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9" name="Text Box 6"/>
          <p:cNvSpPr/>
          <p:nvPr/>
        </p:nvSpPr>
        <p:spPr>
          <a:xfrm>
            <a:off x="5943600" y="3733920"/>
            <a:ext cx="3048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E.g. to achieve FWER of 0.05 with all 6 possible comparisons of 4 means use </a:t>
            </a:r>
            <a:r>
              <a:rPr b="0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*=0.05/6=0.0083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0" name="Text Box 7"/>
          <p:cNvSpPr/>
          <p:nvPr/>
        </p:nvSpPr>
        <p:spPr>
          <a:xfrm>
            <a:off x="6095880" y="5867280"/>
            <a:ext cx="30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*=1-(1-0.05)^(1/6)=0.0085</a:t>
            </a: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ulti-stage Bonferroni procedures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For controlling family-wise error rate with a set of comparisons less than all pairwise comparison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Partitions target family-wise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in different ways amongst the comparison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ulti-stage Bonferroni procedures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Holm procedur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http://www.sagebrushpress.com/PEPI.htm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(adjustp.exe); also in 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Larzelere and Mulaik procedur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an be applied to subsets of correlation from a correlation matrix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pv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Limitations of Bonferroni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se procedures are based on ‘worst case’ assumption that all the tests are independent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Beware SPSS’s ‘Bonferroni adjusted’ P valu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a3ce82"/>
                </a:solidFill>
                <a:uFillTx/>
                <a:latin typeface="Courier New"/>
                <a:hlinkClick r:id="rId1"/>
              </a:rPr>
              <a:t>http://imaging.mrc-cbu.cam.ac.uk/statswiki/FAQ/SpssBonferroni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f210b"/>
                </a:solidFill>
                <a:latin typeface="Albertus Medium"/>
              </a:rPr>
              <a:t>The problem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SPSS has sought to preserve the ‘Look at the P Value to find out if the Test indicates the Null Hypothesis should be rejected’ routin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So SPSS quotes artificial ‘Bonferroni Adjusted P Values’ rather than advising of the appropriate Bonferroni Corrected </a:t>
            </a:r>
            <a:r>
              <a:rPr b="1" lang="en-US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Can end up with oddities like P=1!!!!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(if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&gt;1 then SPSS Bonferroni Adjusted P is set to 1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What to do about SPSS and Bonferroni 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void!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Eithe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se LSD (ie pairwise t tests regardless of significant F)  and work out the Bonferroni corrected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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yourself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se Sidak adjusted P’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Date Placeholder 1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03" name="Picture 1026" descr=""/>
          <p:cNvPicPr/>
          <p:nvPr/>
        </p:nvPicPr>
        <p:blipFill>
          <a:blip r:embed="rId1"/>
          <a:stretch/>
        </p:blipFill>
        <p:spPr>
          <a:xfrm>
            <a:off x="1905120" y="1981080"/>
            <a:ext cx="419076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4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Example: Priming experiment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995720" y="3257640"/>
            <a:ext cx="3810240" cy="17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ANOVA: F(3,36)=6.062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P=0.002**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cc"/>
                </a:solidFill>
                <a:latin typeface="Albertus Medium"/>
              </a:rPr>
              <a:t>So what?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97" name="Picture 5" descr=""/>
          <p:cNvPicPr/>
          <p:nvPr/>
        </p:nvPicPr>
        <p:blipFill>
          <a:blip r:embed="rId1"/>
          <a:stretch/>
        </p:blipFill>
        <p:spPr>
          <a:xfrm>
            <a:off x="380880" y="2209680"/>
            <a:ext cx="4983120" cy="2157480"/>
          </a:xfrm>
          <a:prstGeom prst="rect">
            <a:avLst/>
          </a:prstGeom>
          <a:ln w="0">
            <a:noFill/>
          </a:ln>
        </p:spPr>
      </p:pic>
      <p:sp>
        <p:nvSpPr>
          <p:cNvPr id="198" name="AutoShape 6"/>
          <p:cNvSpPr/>
          <p:nvPr/>
        </p:nvSpPr>
        <p:spPr>
          <a:xfrm>
            <a:off x="3967200" y="3352680"/>
            <a:ext cx="457200" cy="152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9" name="AutoShape 7"/>
          <p:cNvSpPr/>
          <p:nvPr/>
        </p:nvSpPr>
        <p:spPr>
          <a:xfrm>
            <a:off x="4619520" y="3352680"/>
            <a:ext cx="457200" cy="152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0" name="AutoShape 8"/>
          <p:cNvSpPr/>
          <p:nvPr/>
        </p:nvSpPr>
        <p:spPr>
          <a:xfrm>
            <a:off x="2486160" y="3357720"/>
            <a:ext cx="457200" cy="1522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1" name="AutoShape 9"/>
          <p:cNvSpPr/>
          <p:nvPr/>
        </p:nvSpPr>
        <p:spPr>
          <a:xfrm>
            <a:off x="2481120" y="3510000"/>
            <a:ext cx="457200" cy="1522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2" name="Text Box 10"/>
          <p:cNvSpPr/>
          <p:nvPr/>
        </p:nvSpPr>
        <p:spPr>
          <a:xfrm>
            <a:off x="1368000" y="1600200"/>
            <a:ext cx="295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One-way ANOV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Date Placeholder 1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06" name="Picture 2" descr=""/>
          <p:cNvPicPr/>
          <p:nvPr/>
        </p:nvPicPr>
        <p:blipFill>
          <a:blip r:embed="rId1"/>
          <a:stretch/>
        </p:blipFill>
        <p:spPr>
          <a:xfrm>
            <a:off x="2286000" y="325440"/>
            <a:ext cx="4908600" cy="615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Studentized Range Statistic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ased on dependence of the ‘range’ of a set of means on the number of means that are being considered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Expect a wider range with a larger number of 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ables of Q(r, k, df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r = number of means current rang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k = number of means overall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df = degrees of freedom in mean square error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ewman-Keuls Procedur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Critical difference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is a function of r and k (and the degrees of freedom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trong tradition but some recent controversy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 'layered' test which adjusts the critical distance as a function of the number of means in the range being considered at each stag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nominal family-wise error rate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ay not actually be achieve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ritical distance procedur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ukey's Test: HS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onestly Significant Differenc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Unlike Newman-Keuls, only uses the largest (outmost) critical distance throughout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yan's Procedure: REGWQ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yan: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 baseline="-25000">
                <a:solidFill>
                  <a:srgbClr val="8f210b"/>
                </a:solidFill>
                <a:latin typeface="Albertus Medium"/>
              </a:rPr>
              <a:t>r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= k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/r 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Einot and Gabriel: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 baseline="-25000">
                <a:solidFill>
                  <a:srgbClr val="8f210b"/>
                </a:solidFill>
                <a:latin typeface="Albertus Medium"/>
              </a:rPr>
              <a:t>r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=1-(1-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)</a:t>
            </a:r>
            <a:r>
              <a:rPr b="0" lang="en-GB" sz="2800" spc="-1" strike="noStrike" baseline="30000">
                <a:solidFill>
                  <a:srgbClr val="8f210b"/>
                </a:solidFill>
                <a:latin typeface="Albertus Medium"/>
              </a:rPr>
              <a:t>r/k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Scheffé's 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All possible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Most conservativ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515f7b"/>
                </a:solidFill>
                <a:latin typeface="Albertus Medium"/>
              </a:rPr>
              <a:t>Post Hoc</a:t>
            </a:r>
            <a:r>
              <a:rPr b="0" lang="en-GB" sz="2400" spc="-1" strike="noStrike">
                <a:solidFill>
                  <a:srgbClr val="515f7b"/>
                </a:solidFill>
                <a:latin typeface="Albertus Medium"/>
              </a:rPr>
              <a:t> Tests: Options in SPS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PSS has 18 types of 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Post Hoc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Test!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27" name="Picture 4" descr=""/>
          <p:cNvPicPr/>
          <p:nvPr/>
        </p:nvPicPr>
        <p:blipFill>
          <a:blip r:embed="rId1"/>
          <a:stretch/>
        </p:blipFill>
        <p:spPr>
          <a:xfrm>
            <a:off x="2209680" y="2286000"/>
            <a:ext cx="41911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515f7b"/>
                </a:solidFill>
                <a:latin typeface="Albertus Medium"/>
              </a:rPr>
              <a:t>Post Hoc</a:t>
            </a:r>
            <a:r>
              <a:rPr b="0" lang="en-GB" sz="2400" spc="-1" strike="noStrike">
                <a:solidFill>
                  <a:srgbClr val="515f7b"/>
                </a:solidFill>
                <a:latin typeface="Albertus Medium"/>
              </a:rPr>
              <a:t> Tests: Recommendation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ield (2000)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Assumptions met &amp; large number of comparisons: REGWQ or </a:t>
            </a:r>
            <a:r>
              <a:rPr b="0" lang="en-GB" sz="2000" spc="-1" strike="noStrike">
                <a:solidFill>
                  <a:srgbClr val="0099cc"/>
                </a:solidFill>
                <a:latin typeface="Albertus Medium"/>
              </a:rPr>
              <a:t>Tukey HSD;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an also type ‘mc’ at a Unix promp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Ramsey &amp; Ramsey (2008) suggest </a:t>
            </a:r>
            <a:r>
              <a:rPr b="0" lang="en-GB" sz="2000" spc="-1" strike="noStrike">
                <a:solidFill>
                  <a:srgbClr val="0099cc"/>
                </a:solidFill>
                <a:latin typeface="Albertus Medium"/>
              </a:rPr>
              <a:t>Tukey-Kramer HSD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as Tukey HSD analogue for unequal group sizes). Can also type ‘mcneq’ at a Unix promp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afe Option &amp; few comparisons: </a:t>
            </a:r>
            <a:r>
              <a:rPr b="0" lang="en-GB" sz="2000" spc="-1" strike="noStrike">
                <a:solidFill>
                  <a:srgbClr val="0099cc"/>
                </a:solidFill>
                <a:latin typeface="Albertus Medium"/>
              </a:rPr>
              <a:t>Bonferroni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but note the problem with SPSS’s approach to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adjusted P values)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Unequal Sample Sizes: Gabriel’s (small), Hochberg’s GT2 (large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Unequal Variances: </a:t>
            </a:r>
            <a:r>
              <a:rPr b="0" lang="en-GB" sz="2000" spc="-1" strike="noStrike">
                <a:solidFill>
                  <a:srgbClr val="00b0f0"/>
                </a:solidFill>
                <a:latin typeface="Albertus Medium"/>
              </a:rPr>
              <a:t>Games-Howell.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spreadsheet programmes available for tests in blue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ontrol of False Discovery Rate (FDR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Recent alternative to controlling FW error rat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18960" indent="-31896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DR is the expected proportion of false rejections among the rejected null hypothes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690840" indent="-2656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f we have rejected a set of R null hypotheses, and V of these are wrongly rejected, then the FDR= V/R (FDR=0 if R=0)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0840" indent="-2656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e will know R but don’t know V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0840" indent="-2656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Good power – See Lix and Sajobi (2010) Psychological Methods who look at a related procedure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False Discovery Rate (FDR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 alternative approach to the trade-off between Type I and Type II error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-3326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Logic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20720" indent="-27720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 type I error becomes less serious the more the number of genuine effects there are in the family of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-3326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Now being used in imaging and ERP studi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-3326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e </a:t>
            </a:r>
            <a:r>
              <a:rPr b="0" lang="en-US" sz="2800" spc="-1" strike="noStrike">
                <a:solidFill>
                  <a:srgbClr val="f32705"/>
                </a:solidFill>
                <a:latin typeface="Albertus Medium"/>
              </a:rPr>
              <a:t>http://imaging.mrc-cbu.cam.ac.uk/statswiki/FAQ/FDR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for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SPSS 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d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R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scrip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FDR Exampl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ppose we do 10 t-tests and observe their P values: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0.021, 0.001, 0.017, 0.041, 0.005, 0.036, 0.042, 0.023, 0.07, 0.1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Sort P values in ascending order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0.001, 0.005, 0.017, 0.021, </a:t>
            </a:r>
            <a:r>
              <a:rPr b="1" lang="en-GB" sz="1600" spc="-1" strike="noStrike">
                <a:solidFill>
                  <a:srgbClr val="f32705"/>
                </a:solidFill>
                <a:latin typeface="Albertus Medium"/>
              </a:rPr>
              <a:t>0.023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0.036, 0.041, 0.042, 0.07, 0.1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Compare with 10 the prototypical P-values scaled to </a:t>
            </a:r>
            <a:r>
              <a:rPr b="1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 namely (1/10)</a:t>
            </a:r>
            <a:r>
              <a:rPr b="1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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(2/10)</a:t>
            </a:r>
            <a:r>
              <a:rPr b="1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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(10/10)</a:t>
            </a:r>
            <a:r>
              <a:rPr b="1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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0.005 0.010 0.015 0.020 0.025 0.030 0.035 0.040 0.045 0.050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Get the differences: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-0.004 -0.005  0.002  0.001 </a:t>
            </a:r>
            <a:r>
              <a:rPr b="1" lang="en-GB" sz="1600" spc="-1" strike="noStrike">
                <a:solidFill>
                  <a:srgbClr val="f32705"/>
                </a:solidFill>
                <a:latin typeface="Albertus Medium"/>
              </a:rPr>
              <a:t>-0.002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  0.006  0.006  0.002  0.025  0.050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The largest observed P-value which is smaller than its corresponding prototype (last negative) is 0.023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21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01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17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0.041, </a:t>
            </a: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05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0.036, 0.042, </a:t>
            </a: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23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0.07, 0.1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The five underlined tests for which P&lt;0.023 are declared significant with FDR </a:t>
            </a:r>
            <a:r>
              <a:rPr b="1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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Why Use Follow-Up Tests?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76032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F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-ratio tells us only that the experiment had a positive outcom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.e. group means were differen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51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8f210b"/>
                </a:solidFill>
                <a:uFillTx/>
                <a:latin typeface="Albertus Medium"/>
              </a:rPr>
              <a:t>or, more precisely, are not all equ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It does not tell us specifically which group mean differ from which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We need additional tests to find out where the group differences lie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Unpacking Interactio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omponents of Interac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doing sub-ANOVA or contra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.g. if factors A and B interact, then look at 2 by 2 ANOVA for a pair of levels of A combined with a pair of levels of B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imple Main Effec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y doing sub-ANOVAs followed up by multiple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annot use reverse argument to claim presence of interac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an use EMMEANS/COMPARE in SPS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 caveat on higher order interactio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tevens J (1999) Intermediate statistics: a modern approach. P.182 recommends using a Sidak corrected alpha for unpacking unplanned higher order interactions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number of comparisons increases with the order of interaction. May be so many possible comparisons that post-hoc testing becomes infeasible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Within Subject Factors?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Problems of ‘sphericity’ re-emerg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Need for hand-calculations as SPSS has an attitude problem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TukeyKrame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Within Subject Factors?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alculate new variables from within-subject contrasts and analyse them separatel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Extends the idea of doing lots of paired t-tes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In SPSS can be done by MMATRIX option in GLM using Syntax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1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GLM and MMATRIX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463" name="Picture 4" descr=""/>
          <p:cNvPicPr/>
          <p:nvPr/>
        </p:nvPicPr>
        <p:blipFill>
          <a:blip r:embed="rId1"/>
          <a:stretch/>
        </p:blipFill>
        <p:spPr>
          <a:xfrm>
            <a:off x="1676520" y="1905120"/>
            <a:ext cx="614340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5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GLM and MMATRIX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467" name="Picture 5" descr=""/>
          <p:cNvPicPr/>
          <p:nvPr/>
        </p:nvPicPr>
        <p:blipFill>
          <a:blip r:embed="rId1"/>
          <a:stretch/>
        </p:blipFill>
        <p:spPr>
          <a:xfrm>
            <a:off x="433440" y="2017800"/>
            <a:ext cx="6043680" cy="247788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6" descr=""/>
          <p:cNvPicPr/>
          <p:nvPr/>
        </p:nvPicPr>
        <p:blipFill>
          <a:blip r:embed="rId2"/>
          <a:stretch/>
        </p:blipFill>
        <p:spPr>
          <a:xfrm>
            <a:off x="3117960" y="4572000"/>
            <a:ext cx="5797440" cy="17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ext week Thursday 30th December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5446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Power Analysi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Andy Field: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http://www.cogs.sussex.ac.uk/users/andyf/teaching/statistics.htm 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73" name="Picture 12" descr="C:\Users\peterw\Desktop\ANDY F BOOK.jpg"/>
          <p:cNvPicPr/>
          <p:nvPr/>
        </p:nvPicPr>
        <p:blipFill>
          <a:blip r:embed="rId1"/>
          <a:stretch/>
        </p:blipFill>
        <p:spPr>
          <a:xfrm>
            <a:off x="5924520" y="2757600"/>
            <a:ext cx="28576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How?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A full toolkit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: Standard Errors of Differenc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: Multiple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t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-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: Orthogonal Contrasts/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D: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 Post Hoc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: Trend Analysi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: Unpacking interac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2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A: Standard Errors are the basic Yardsticks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214" name="Object 3"/>
          <p:cNvGraphicFramePr/>
          <p:nvPr/>
        </p:nvGraphicFramePr>
        <p:xfrm>
          <a:off x="152280" y="2019240"/>
          <a:ext cx="3808440" cy="41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019240"/>
                    <a:ext cx="3808440" cy="411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Rectangle 6"/>
          <p:cNvSpPr/>
          <p:nvPr/>
        </p:nvSpPr>
        <p:spPr>
          <a:xfrm>
            <a:off x="3581280" y="2057400"/>
            <a:ext cx="5297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subjects ANOVA with a constant number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n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of subjects per cell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tandard Error of the Mean (SEM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SEM  </a:t>
            </a:r>
            <a:r>
              <a:rPr b="0" i="1" lang="en-GB" sz="1800" spc="-1" strike="noStrike">
                <a:solidFill>
                  <a:srgbClr val="8f210b"/>
                </a:solidFill>
                <a:latin typeface="Albertus Medium"/>
              </a:rPr>
              <a:t>= SE / </a:t>
            </a:r>
            <a:r>
              <a:rPr b="0" i="1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</a:t>
            </a:r>
            <a:r>
              <a:rPr b="0" i="1" lang="en-GB" sz="1800" spc="-1" strike="noStrike">
                <a:solidFill>
                  <a:srgbClr val="8f210b"/>
                </a:solidFill>
                <a:latin typeface="Albertus Medium"/>
              </a:rPr>
              <a:t> n 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</a:t>
            </a:r>
            <a:r>
              <a:rPr b="0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 (MS(Error)/</a:t>
            </a:r>
            <a:r>
              <a:rPr b="0" i="1" lang="en-GB" sz="1800" spc="-1" strike="noStrike">
                <a:solidFill>
                  <a:srgbClr val="8f210b"/>
                </a:solidFill>
                <a:latin typeface="Albertus Medium"/>
              </a:rPr>
              <a:t>n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EM =</a:t>
            </a:r>
            <a:r>
              <a:rPr b="0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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(2.139/10)=0.46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N.B. we are using the same SEM for all mean based on (pooled) error term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tandard Error of the Difference of 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SED = </a:t>
            </a:r>
            <a:r>
              <a:rPr b="0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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 SEM =0.65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E.g. Semantic-Phobic=6-5.1=0.9=1.38</a:t>
            </a:r>
            <a:r>
              <a:rPr b="0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</a:t>
            </a: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SED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2" marL="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f210b"/>
                </a:solidFill>
                <a:latin typeface="Albertus Medium"/>
              </a:rPr>
              <a:t>Unlikely to be significant 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8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: Standard Errors from SPS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220" name="Picture 1029" descr=""/>
          <p:cNvPicPr/>
          <p:nvPr/>
        </p:nvPicPr>
        <p:blipFill>
          <a:blip r:embed="rId1"/>
          <a:stretch/>
        </p:blipFill>
        <p:spPr>
          <a:xfrm>
            <a:off x="1752480" y="2666880"/>
            <a:ext cx="5703840" cy="21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5T17:30:56Z</dcterms:created>
  <dc:creator>CBU</dc:creator>
  <dc:description/>
  <dc:language>en-US</dc:language>
  <cp:lastModifiedBy>Peter Watson</cp:lastModifiedBy>
  <cp:lastPrinted>2006-12-06T15:25:19Z</cp:lastPrinted>
  <dcterms:modified xsi:type="dcterms:W3CDTF">2017-07-03T09:08:21Z</dcterms:modified>
  <cp:revision>110</cp:revision>
  <dc:subject/>
  <dc:title>Aims and Objectives</dc:title>
</cp:coreProperties>
</file>