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6797-AA16-4443-B75A-134297AA9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64BC-C198-4CFB-A583-58144523F6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C301-39B6-40A6-B0F6-2079B829FFC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93EF-4AB8-4615-B1A6-E23021CFD9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04EF-AA64-4FCB-AB9D-58F0E75120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A92D-B020-413D-AC3A-9A94C6BCE82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07FB-A530-4FD3-833F-0F251A4F3E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420D-B225-48D3-A808-52386029E7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F56F-C984-4541-AC89-47A375A7EA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D5E6-40C1-4611-BA98-E41720FAC14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0445-CE0B-4CAE-9D03-DF3C558D8A8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36AC-162B-4815-90EF-C878EAF61B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EB79-725E-4312-AF92-69D47B6D99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6DFE-82F8-4BBA-9B00-BED59F45A7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ECB8-D12C-4757-BC80-2E6A29060B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86DE-2355-4C80-9E28-09EC643457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6635-A8AF-4AEB-99F7-B37BB2759C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9435-F3D7-48E7-89A5-E22F655262F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BC94-8AD1-4CC0-8F3A-429E52AD624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C577-80DE-4EF6-9D43-F9A3846063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32BF-9E4F-4BAA-95FD-27B0826FE24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32FF-105A-4694-83BE-D7B56B8E482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24B1-97C0-4CFE-BFE3-28CA0CE141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B9C4-721B-4290-B877-3EFE9C6C30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2C52-16C2-4DFA-AB4B-220D4C35F1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F9C9-80E8-45CD-B80A-E7A5479A87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A860-E5F0-4A66-B7AB-DF0DA8C138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7965-F917-4188-92BB-2638859FC8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830E-A0F0-496A-9173-D9DC22DDB3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ACA0-664E-4870-B948-39B7DA2A6C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FEF4-D9A5-4A95-BA28-F8C00502329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B8CF-036C-4160-B31B-451BDA975F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BEFE-BA72-45BF-AF4A-F2AE00C85B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A9BE-6370-48FC-8A9B-881E8861066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547A-9CC5-468B-B959-99EF907A0CB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AF9D-BE23-4227-9732-C055D1D71B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0DF1-0F67-475B-9024-06CAF1A426C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C04D-4730-4127-B181-B40567B2E8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00EE-55EF-4A88-8F8A-3DFC934903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1997-B358-41AD-9BDD-3A5460DFB03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E112-FAA4-432C-A8B7-1B0F6CBE08B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1B9B-EEC0-41DA-9F98-041337FCA6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B84F-698A-42FE-B7CB-6C7E865F95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41BA-BDFE-4037-98EE-E0102C160A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DED4-EF87-4646-A9D1-1998BDF240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4A50-C436-4267-BC8C-9DB287A392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B32E-BF74-49F3-BC74-EAFD8EE246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7F05-0105-41CF-9A27-0F190E5BCCA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900E-6241-4A47-B91A-9C03327E2B3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CA20-964F-4814-8C82-D2828A38EA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854C-573C-4C01-9568-24AA9092BC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AB33-85E2-46D3-BE06-D60F9FABCF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E399-E33D-4A42-8265-B798E0DA08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BD8C-EDF7-4205-AFD9-1657ACB4B0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E22-416C-4734-9EAC-1D564329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4D5-77CF-4657-ACB9-434DC765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390-0A9E-4326-A6D8-C77D1121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E58-C7B3-4E34-B3AE-399E48D3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E02-28BF-4B3C-81F3-EB7BEC85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C58-2B2F-4312-85FE-2FD9C7D4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505-A25F-47BF-B70D-1E0FA0B9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272-BECE-4474-8D47-A710F6DC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5F0-EDDB-4EFD-B424-BE82A75A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C23-90CB-49C4-9CDB-34A8078E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B0F-C94D-4E8D-9CB7-8AC2C4FA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F0D-5617-4091-B97B-1B53209F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0F24-4680-4527-9FF0-34CD106AC49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7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30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7-07-03T09:08:21Z</dcterms:modified>
  <cp:revision>110</cp:revision>
  <dc:subject/>
  <dc:title>Aims and Objectives</dc:title>
</cp:coreProperties>
</file>