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1B975-A40F-4958-85E3-6E0FE1FA3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C55A5-C6DF-4C88-B165-EB10456C8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65126-C570-4737-80F0-17799791E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8DE44-FB58-427E-9CF9-FCDFB639E1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0B7F9-F62C-405B-A326-0CD04BA427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A337D-7D10-4ABA-9EF8-91241E5848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EE2DC-2196-4916-9880-C909C2705B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F90A5-1A6F-4038-9CA4-BA7D204573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9B89B-64E4-45C1-8F29-81FACE8FED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B2AC9-B1F0-4AC0-A46B-1C6DEF0AD7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13537-8C86-4693-BF60-95A2009ABD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C6F3C-E5C5-44DE-BD2C-3CF5F598DF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34FF6-E74B-47C7-B1EC-8511CE81B2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AC152-60CC-4677-ADF7-C32330EEB6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054B5-451E-4DD4-9649-F2D37F7BC7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7FF04-DFF8-4E28-84AF-61BE30929B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2FAF4-DC65-4B41-9581-473B2D9E15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CD857-C9DB-46C0-85D8-840FE64B4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35B88-6DA0-4B67-B79C-57B4F71F0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BBF0B-098C-4BD2-BCD9-AB06A1D39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CC143-8723-4656-A2C8-52C5EEB310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1F805-979C-4D26-A272-2705C5910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FC96B-17B6-49DA-BD20-87D0CE337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4E777-B78B-4C15-B85A-AA685F63F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D8CA4E3-28A2-48AE-8CF3-2284EC8FCAC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67C47FD-7ED0-42A7-AA7A-FB944FE884A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119560" y="225360"/>
            <a:ext cx="356724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4932360" y="474840"/>
            <a:ext cx="3565440" cy="534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82C97D1-BD13-4AE6-B37B-0BB6FAEBBB05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9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6E4A110-E384-4CAE-BACD-190D9F325134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7-07-03T09:02:26Z</dcterms:modified>
  <cp:revision>256</cp:revision>
  <dc:subject/>
  <dc:title>8: SAMPLE SIZE DETERMINATION</dc:title>
</cp:coreProperties>
</file>