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657-C66B-47C8-8D33-ED3EB52E9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8431-FC97-46A2-A57C-8FBF60EE0F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F26-CD4A-4255-B638-14112657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803-C40A-4BBB-986D-C52A22C4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5F1-A8B4-46BE-A24A-F784BA53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E96-31C0-4126-AB93-B6C622F4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10C-7B1B-45CB-8D00-E44F80FD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D97-61DB-4C2A-AB58-8A66C78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EBF-2110-4488-946C-9420E449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B5C-D2BD-4CE1-94E2-34C0CBF3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D65-BCB7-4C48-97A4-BB7C66F0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631-4BB3-4169-B5BF-F9F2C85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8D7-F420-41F1-BE94-F2B8B0AB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9A0-CA1C-492A-9BFA-4E5052B1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1D2F-630C-4720-B995-9FFD2A0230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7-07-03T09:09:32Z</dcterms:modified>
  <cp:revision>89</cp:revision>
  <dc:subject/>
  <dc:title>No Slide Title</dc:title>
</cp:coreProperties>
</file>