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89C8-1AC9-4506-8C06-47035608C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490F-F361-4B5B-9D6E-E88438D89A8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CC05-4BB3-49DB-AE6F-C2D0A8EB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F6A-7786-438D-87C2-A48C1F67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33D-3CC8-4673-82F5-9E79AB5F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22CA-7490-43C3-8160-02EEBD83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39E-E858-4563-8413-4980B2AB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520-9B55-4A0B-A85A-60CBEADA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15F-1E65-48D9-8011-C584D6B1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1969-DCC7-4976-823F-18363BEC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8B3-1637-4CF3-8AF2-FE355D4D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AEA9-838F-4877-BB28-85E79370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BEFC-3315-44ED-8225-4E661318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10F-F198-4295-974D-61608407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6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1650-C61D-4922-87CE-0E3B623D1B8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76960" y="6408720"/>
            <a:ext cx="191448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76960" y="6408720"/>
            <a:ext cx="1914480" cy="289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16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7-07-03T09:09:32Z</dcterms:modified>
  <cp:revision>89</cp:revision>
  <dc:subject/>
  <dc:title>No Slide Title</dc:title>
</cp:coreProperties>
</file>