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6DE55-C58B-4CBF-A4EC-4FFE9B331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9FB85-F013-4267-B3BF-02209CF38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24608-8CC9-422E-8336-0496A4B85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3F2D6-DE6D-434F-B21D-7BDE4D140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F113B-394E-4773-8AC6-DA5E5C736A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2225E-AFCC-4403-9FB1-3C2ABBD7A6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EBFED-DB73-443F-B529-1FA4CDBEE1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A34BD-C6E9-4FE8-8660-26EE3774D8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6AD4B-69BE-4185-A47F-CEC2F2E491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D54D2-EE84-49A2-B1F1-A87558A795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98BC7-7A23-4545-922B-E6A0D50FD7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90BF5-3FB4-43CB-9AC1-E51AEC552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7F825-03A3-4D3F-82D0-F22AF8EE66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99928-C332-4E01-ADD0-169F2A020B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150A8-2D0E-4EBC-B46D-6EA5B2D69D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AEF09-EE5D-4D02-BABB-BEF5B034FB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BFBBD-3B75-40CE-B700-F9BD5E464E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77F8E-8BF9-497F-A79F-29702A618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43469-404D-440B-9AD2-0212CD179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977B7-53F8-4006-B29B-C71137D25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633FA-F040-4388-A05E-F89BA9D86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70586-FF45-4961-B2F1-AEBCF89EE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3848F-28BF-4958-9C49-AC757EE8E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270AC-BC4A-40F2-B1EE-198B65DFE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F6978A7-406E-49BE-ACEA-7D372A9D2D5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B9B2CF3-A530-487C-A32B-87DA50BC14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583240" y="208080"/>
            <a:ext cx="3565440" cy="53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003640" y="490680"/>
            <a:ext cx="3567240" cy="536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D0326F0D-D520-4052-B55E-D155AB0B254A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9F7CD88A-FC63-4263-9CC4-80409C1FA6C2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n TWO weeks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7-07-03T09:01:17Z</dcterms:modified>
  <cp:revision>367</cp:revision>
  <dc:subject/>
  <dc:title>No Slide Title</dc:title>
</cp:coreProperties>
</file>