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C56EDB-AA40-484D-92ED-E1F77344E7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4776AC-EE2B-4024-AC60-F7D3C8B1E408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ECC8EF-C1AB-4469-AD1C-F600A06FB969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8AE-74F0-4FBA-BD5A-ABA5FBAB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30E-E4AF-4637-BA52-F7523609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E9CA2-4293-40C1-8698-9DA3195F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D6687-9951-44BA-8736-51DF5D76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514FE-2619-459A-ABFE-DDF90E1D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37416-281E-46C6-AD93-047B6B78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0C0AC-3CA6-4CE6-AF38-6609AD6D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D2CD6-8026-4213-9EE1-228C0881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7B676-D6A9-4F95-9383-40880AB7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2D56C-B2B4-4CBD-8468-EF64E88C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5B968-45A0-4CAD-B819-F1410113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11E48-F900-4159-9A33-ADC2F2DB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1800-D4A2-4781-80FF-9920E958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5DD7F-FB8E-4178-BC93-C6A2C759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B1023-A15A-4C01-9A16-5F22E361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1E619-DD08-45CA-A2FC-6031F75E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34AEE-44B3-4D1E-A24B-B5623F1B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2526A-9F1A-4786-9A6D-F038D9AE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743A5-D7E0-452E-8341-2C30605C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EC2A1-DA31-4877-B074-996E7D9F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7DCC0-4B3E-4EE3-8818-7E2955C2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995AD-CBB5-4F74-8F13-BEA8CA4C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5511C-DE70-4C43-A5D3-183A313E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569-9E99-492A-A6AC-CE7FA997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72B40-CC31-4E39-ADC9-C763C9BA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FA15D-0D5A-4EAF-A813-41CE4032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CBB98-49B8-4C9C-86C0-A91AE7F3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3B516-7E90-48E9-86B1-89903B6E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920DB-9013-4AB0-956D-08DA4495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8A82D-AC47-4E2D-926B-46747BF6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C61D9-A6B5-4D64-9C94-D4C57A15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1558F-E971-4D74-B3A7-31D74815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2F265-FB7A-4972-8B11-5613DB20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75B0C-478F-44DA-AA92-F77D6CFD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A962F-2F10-4F4E-A7A6-04025C37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DC725-AB49-46E4-98B0-0B2F49AE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7F66B-148F-4CA3-BAAE-E42EDBEA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1AFCD-276C-4456-8527-BBD24598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B72C9-804D-4FB3-B035-2F756A3D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05E3F-8B44-401B-8362-0A40828E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DD15C-8E5D-4E5E-BE06-A53D917D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0C9A9-642D-40F9-8CD7-14689672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5439A-BBC2-4380-8A9F-2E106360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35B44-D824-4C3E-8D72-29500683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F8C73-A1F3-44F3-80D4-4A6B2FC2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94B34-5246-47A9-885A-615B72F1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C4EE4-E9BE-4FB3-89AD-392356D5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C108F-2F2D-4367-A143-E1E44FF6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13CAC-E9EC-46FB-AE55-9BA26458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51A17-1BBF-42CF-83D7-33FB3262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45758-2759-4913-8F9F-B40374F9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58887-60CA-4C05-9BBA-0E2FDE29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B4D9D-3F78-405D-B076-69B6124B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38772-998A-4913-A171-70096CFE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935CE-F14D-4CB7-9104-3B083E3F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B0798-7600-4C6F-8264-27AD57C6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69634-E0FF-40C7-B199-0F6B61A1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B5F90-E112-40AC-9067-6A9B2ACC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51D59-CA8A-4185-9791-6E195D1B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F4694-2897-4525-A794-22456186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3EFB5-E075-4C6F-BAF8-76CA6AE6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34B27-D08A-497C-AF8A-B07E3844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A1858-4549-4FDD-A27A-6B826035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742C6-4FA8-441D-B262-757DE1EC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8F162-E73D-4CD9-8370-6BE03C0B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21B91C-38B6-44B0-A684-88FB1DBA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4C887-6267-4B2E-BC95-71DF161A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4DBE2-10B8-49A4-9E27-DCC9F639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631D8-6FD7-492D-8A77-E44BF029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D2E5D-1179-409B-A831-094AA916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C40DC-7822-443C-84FF-D196C64D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A2377-A0AD-4F77-B65D-9F61B5B2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2CDE3-5653-4FE2-B3CF-339AA855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D45733-E2F4-4BC3-BDC8-96227DB4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E199C-823D-44A0-89F1-59CD589F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A73DE4-3D4B-433C-AFD0-B078D038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3C7D4D-0AB8-4DA6-AA85-913D40A1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8DFDCB-4C55-4078-BA4E-D2E8D839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0E8B86-D959-4242-8D2F-2D6785A9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E33365-6EB8-4F62-91FE-2D734A84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F5934F-27CC-4E0C-8182-AEBD50C1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9F4FD1-0ECA-4158-85F9-F36A0D7E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6715D6-4ADB-4600-8291-40AC8A01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EAF110-2234-4F18-84FE-BB53802E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C5FA5E-59B9-489E-9D64-8C0D2127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014BE8-F9EA-4375-B4B8-018F53B2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AE38D6-7716-486E-8982-7B56816E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21171D-105B-43A1-AD77-BC2C0458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29C479-ADA3-4FE9-AA60-A32821BB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85B0C0-0559-4840-8F83-13174FAA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78A078-DEF2-452D-BE71-D9427F56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E02E77-0966-4382-8216-9B07EC36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6EDA1-EDAC-479C-A5E5-2C36F1DD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8DB962-DEFF-4C89-AE9B-4DC28F86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485BF6-D3EE-4784-9F99-156AFCFA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DF9A96-72B6-4870-BFF1-F4A0C5FA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6D6489-53D2-4C4F-AADD-F521456D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CC19AA-04EE-481A-AE5A-1115D453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C7B885-D812-4760-B40A-E26E7F16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014CA8-684A-461F-B038-5E4943E7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A720D4-1918-4E05-AD36-E486B6E1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797CAD-DC83-4586-BFA5-CD5F3EFF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F44CA6-720B-42D7-9B96-DB82A043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E34C8D-DBF9-4481-86E5-566A078C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214-43C7-4622-8495-88F0342D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288C48-CE09-45F4-9784-3EB34039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57E17-DDD3-4C5D-997D-6E1B95AA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ACFCFB-F55B-45FF-917C-2EF65453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FCDB22-E7AD-45A1-8449-F99E4F7A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676EA1-00F4-4F65-A239-BAEBA33F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014519-5B79-43AB-A814-83762993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73D6FA-38D3-4C21-AE97-C4F33499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E2E647-2E41-4A74-989E-3317AB46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1F4C39-45EF-4277-B7D1-C5AA7E5B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BE9D9F-334B-4E60-97B3-2037E05A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71083B-D0FA-44FE-A8C4-403210EA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B28FFA-BD38-4820-AE3B-32918FA8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3ACF5-AE82-4B82-8D22-1127D5CA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23A395-6BF1-4EC2-AF48-E1DCFC38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213763-E70F-4FFF-8645-1461106D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7B89A3-CD2F-406B-B05D-ECE86AFF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BB290F-5F01-4D29-87F1-636DC645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8D0D-8F9A-426C-B3BB-C4202CE7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7D1-3659-41EA-A71D-30A7DE7D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9FAF3-2F83-4CD0-B5EB-091E7286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4B3-DB1A-42CC-A544-A9A5F3A6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68DF2-04E8-45F9-A2BD-68F7EDDC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DA7EB-D607-45C3-B5D6-D144CFB3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3ABF5-A17A-44BB-BAEB-D55D25F0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61DC7-B990-479D-BAF3-F17A8549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06AFF-FCC2-4870-98F2-5C03F9F4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F6493-AA95-480E-B3F0-E72F463C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C1040-603D-4D22-928B-DB02671B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5A1BF-8016-4BB8-9440-DBC65D79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A8C24-AEF4-4902-9EA9-B0D34895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DA0CA-F4AC-47F8-AFA1-4930CAAE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227-6BCC-441D-A893-2F9E0EF9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41739-509C-4B35-B701-D7A92AA1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5ED24-A24A-4CF5-99DF-70A2BF61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ACFA0-B74B-4F17-9D54-92E24AA6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DAD68-9CD6-4D58-9484-F41478E2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1468C-804C-4D59-B5EE-50D8921B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C4A86-BEA7-4001-A1F4-5F2EFC1B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073E1-4AC4-4CEA-BABA-795972C6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AA1F4-E0F4-4489-AB33-C6BF663C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CCA92-B483-4AB8-A54E-98B308F3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DEE0B-BE92-48E0-9E0F-270D5D79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461-784E-4D5E-B375-F0906F67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90AC3-4D0D-4B6E-BD2C-8B72F445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993DF-46F0-42E1-AB6F-FE9F8822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8F3D0-5B23-4C1F-95B5-689AE70C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1686F-54BD-4F30-B6B0-E4430F79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8A052-F479-4481-80CF-ECB59EEF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163AE-B280-426F-A846-9DD28748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2642F-0BE1-411C-8F31-34725BB5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3044B-C2B3-43EA-AA45-430C6CD1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4E4BA-6986-42E8-A19D-6BA8466C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EFC20-8BA0-405C-A690-4EF2DCB4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40F-4568-484C-83C6-3F2F95C0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38A27-6B08-479E-BC5D-BC509881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C2991-A761-4925-9B70-8320D019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1B505-1644-4FAB-A5CA-22348EF4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BBA17-54D4-454B-920E-74830482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A5578-8949-46DD-8592-6B1AA79B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C5CDC-BD04-4174-8405-C2816C01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F3F4C-8D67-4BD0-97C4-6A285DDF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A89AE-C87A-4ED4-96F9-3A1AE2A6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B83FB-51F8-4F92-A2A2-95F47AA1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242FA-9A36-4D20-A20C-1F2BF4FE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8F7-B948-4B53-9302-420D43AB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53F3F-6B21-42B0-93B7-49D12214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E0F2B-42EB-4B11-AAF2-73BD3B4D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F166F-D800-4087-B1FA-C01EABB5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92510-3FC9-4CA0-81F7-992A44E1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FBF13-2C59-43A1-ABA1-3A96C5F2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6A243-B600-4762-B108-1B32516F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A41DF-344E-4C17-8B4C-F59738F6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FB5BA-B3A2-489C-8549-2818E474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B7C8D-1E63-436E-8C28-10572F34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92EF9-6EAF-4A3F-B05A-8D9D3322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C484-7612-4C56-918C-BC73236B224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C143-963C-4E10-B09C-701A677CC6C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807C-2E6D-42A3-9035-9A90C031848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1B33-7E95-431E-AF2F-E3132EAEE0D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563A-A2DE-438D-9782-5E66DE726A8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C713-EED5-4DAB-8CE9-46952799046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39F0-5400-4E9B-893D-FBCA5CA3175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0F38-C832-4351-8250-579DC24257E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063A-1F9C-4BD9-AA09-54CE3A79049D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C913-A9AA-47C7-A5FB-49A1ADCF538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99F4-3E5B-4BB8-B084-67D764C3E37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9250-1A96-457B-A2A1-BFAB28997DA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7FD1-86E9-40B8-B328-3061E6AD8C7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3702-92A5-449B-8282-6D4614D54FE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6ECD-F249-4F34-8B9D-8D45D7A1CE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7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7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C284-9E36-4747-8F4C-242360D254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C2AB-1969-423B-BF83-ABBD607F18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97B4-6331-4E40-85C5-E0D64CAF67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C7C1-07C1-4578-A2C9-9A1F10F82B4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520A-67A0-478F-A7B3-93F7027E7F5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FCE7-06DB-4496-8FF0-27B6B6CC9DE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680A-0E41-46D4-85C0-14ECA5077C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E89F-FA6F-4A8A-9480-9A4713AB72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6B83-84AD-4ABD-8A21-6B12C904160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2A15-A911-4E75-9BB8-8135194409E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5091-B810-4F60-8A3F-7794ED5F1A4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2 November 2017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68DA-927F-4C96-AFC2-B8452283EF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C658-6EA1-4EB5-BD22-0F3D1551D7B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4515-2904-48DD-8516-F8EF5CA88B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6F7B-EE44-45A8-A3A1-15247BCBD4F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4AA4-FFB2-45D9-94D9-3607428BA5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AE93-62A6-42F6-9991-831067F9E95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C1A4-5755-4E62-8DB4-F8144EC201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1EBD-3B1F-4CD5-87D3-F514CAF586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D2CB-66A1-4909-9ED3-44AA0236771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2F38-2C7F-433C-A5B5-5E2925F9CFB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D898-56DC-4591-927E-91A06EF953C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5B3E-1C66-4554-917B-210CB4E24C4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0221-2910-4F19-8128-51A77EE769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3FF2-CCAA-44CC-A958-6321C974607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37D4-C2F5-4ABA-9681-21BC7536DCB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7C42-9D29-4FCB-A1DF-478EA95FE4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B675-FEEA-47A9-81CB-70471479B85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1DC9-3EAE-4FB6-880C-27D5B49A88A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C3BD-8EEE-4DD4-86F0-C6C9988414A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2C82-E499-4262-AD05-79BF4A18BE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7AF1-74B4-4B0A-AA2F-5F771F0755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9695-D596-4BB7-A308-838A4CC79F5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BA4E-9D78-4DC9-BADB-AC2DFFDE8D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BA22-A64E-4B15-955E-B9F81C90D19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F146-4C2C-4EE2-99DB-A3F6033B10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02BA-8CC8-4669-9963-B2B8053E5DE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C9C1-452C-4D62-9686-B66804ACE59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944C-1D7E-41F1-8136-9942D0FFCD8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992C-0ECC-4784-9B0E-9FE3E2FCD55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7C6B-3A4E-40F7-932E-65DEDB488B9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98DF-885D-477A-9D20-6A1AF0092B1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6595-545E-40B3-AB9B-87D1343BCE1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DCB4-E692-4F59-8E7D-6F226F8A61C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A6B4-FB00-414D-923E-6E0E78706D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F520-1704-44C9-80C3-7FAB84E9AA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8706-4E2A-4721-A88B-4AFA56914C8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3A7C-9BCC-4720-8798-8D1DFAAD516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8BB9-6F6B-46A9-9D02-7288B44A737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AAC5-69A2-4F51-BE76-B7F65A9E9E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36FB-C598-40FD-A392-6D693CB1351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234B-508C-4659-986D-2084567B1B8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A85F-B3C3-473F-A6B5-5DCBA74DC7F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EFC2-ADA4-4CCE-9BDC-F6B9BED381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82DB-6422-46DC-A885-A934394D206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E794-838E-4880-9027-A106AE1390D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419D-2C78-42E8-8BF8-84F341D430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8-01-23T11:28:41Z</dcterms:modified>
  <cp:revision>115</cp:revision>
  <dc:subject/>
  <dc:title>Aims and Objectives</dc:title>
</cp:coreProperties>
</file>