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wmf" ContentType="image/x-wmf"/>
  <Override PartName="/ppt/media/image6.wmf" ContentType="image/x-wmf"/>
  <Override PartName="/ppt/media/image29.wmf" ContentType="image/x-wmf"/>
  <Override PartName="/ppt/media/image31.wmf" ContentType="image/x-wmf"/>
  <Override PartName="/ppt/media/image7.jpeg" ContentType="image/jpeg"/>
  <Override PartName="/ppt/media/image10.wmf" ContentType="image/x-wmf"/>
  <Override PartName="/ppt/media/image11.wmf" ContentType="image/x-wmf"/>
  <Override PartName="/ppt/media/image12.png" ContentType="image/png"/>
  <Override PartName="/ppt/media/image3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png" ContentType="image/png"/>
  <Override PartName="/ppt/media/image16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8006-08E4-4581-A358-D6DFF4F65B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25CF-3838-4763-8BC9-648951225E9B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16A7F-D513-4A2F-AF1C-9D6961005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825F1-769F-472B-BC0A-9CE541ED7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829C5-1FCB-42C8-8D35-A17789686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0FD1B-6A60-476A-A8FD-0A5392869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F3E1D-C8D9-4D84-8E8B-AAAA39AA46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8B01D-F248-48B0-A97C-5F9F6478BA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E8A17-A183-4DF3-A53F-4E2C0BF4F6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10B86-F432-433B-972B-B93EE458EB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FBA50-01A2-4009-8847-A2FF4A59CA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50243-683B-42CC-B2A4-755A3BE88F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F0406-4C61-44A8-B457-49E39678F1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47E80-B2E4-441D-B6F3-9D72AA12A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CBC70-C89F-498A-9BB6-8D7366B724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E9E89-B59A-4911-83BD-38C07190F7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CEC36-8CCC-4913-ABB7-3F4D0A916F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69D40-B46B-45A5-A1FD-B064CFA500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1C190-1F9B-40CA-B1D0-1DCD98A3D6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B1E33-2C15-4729-B0CF-7FAA5580A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EFA9B-5F0D-4895-92EC-01AAF5555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2652F-5394-4881-BD33-F77030719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228E5-29D1-4275-834A-990CA9DD4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6C1D5-90A5-4EF4-BCB1-0CFE6984D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7C253-F170-491D-8F23-C6472C067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92336-29CA-4E24-BED0-EE9B686A8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5575339-5BBB-4616-BA3D-D9F69C80C8F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5CF64AF-DAD1-40BE-80D5-44CCCC1F94B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4267080" y="301680"/>
            <a:ext cx="4572000" cy="69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8" descr=""/>
          <p:cNvPicPr/>
          <p:nvPr/>
        </p:nvPicPr>
        <p:blipFill>
          <a:blip r:embed="rId2"/>
          <a:stretch/>
        </p:blipFill>
        <p:spPr>
          <a:xfrm>
            <a:off x="4356000" y="301680"/>
            <a:ext cx="4616640" cy="807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B940E90-B51E-4624-BB49-5C1E2233CEED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AB04142-281A-4691-884F-9D19FFF8AB40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7-07-03T08:52:35Z</dcterms:modified>
  <cp:revision>350</cp:revision>
  <dc:subject/>
  <dc:title>Exploratory Data Analysis</dc:title>
</cp:coreProperties>
</file>