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ABE9E-B07A-4822-8C19-F4E9CF72B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02326-539C-4BB1-9FCA-94CD07A65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7655A-3608-47F6-8E9D-8212A36C0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44E3F-6138-43AC-BB7E-52483DF32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2C81F-8197-474B-8ABA-3A5F35320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57323-989A-4473-879B-0DC41D0FA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EA0FA-115A-4E9C-AFC4-A6D7EAEE1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F399E-C496-4223-9322-8AD1B1B38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936ED-A60B-4D1B-B972-1AF6242CE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76A3C-C0D0-4695-A052-FD44DE1AA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DC878-2464-4C20-BE06-68EDB3834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D885F-0868-40E8-A805-146658D55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AEB23-8BC3-432B-BC77-E075F24C8DF6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g_name~ 50.tif"/>
          <p:cNvPicPr/>
          <p:nvPr/>
        </p:nvPicPr>
        <p:blipFill>
          <a:blip r:embed="rId1"/>
          <a:stretch/>
        </p:blipFill>
        <p:spPr>
          <a:xfrm>
            <a:off x="585720" y="507960"/>
            <a:ext cx="7959960" cy="636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4T14:15:07Z</dcterms:created>
  <dc:creator>Peter Watson</dc:creator>
  <dc:description/>
  <dc:language>en-US</dc:language>
  <cp:lastModifiedBy>Peter Watson</cp:lastModifiedBy>
  <dcterms:modified xsi:type="dcterms:W3CDTF">2010-10-04T14:15:07Z</dcterms:modified>
  <cp:revision>1</cp:revision>
  <dc:subject/>
  <dc:title>Slide 1</dc:title>
</cp:coreProperties>
</file>