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B315-6E16-44E6-A37A-F4991C6AA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1CE8-8902-444A-BB51-2CBC8107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6FA0-221A-4187-B5F5-61744183E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E1CB-FEAC-4B1E-B4A1-27CEACF42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723A-BD92-4847-AA70-2F465B6B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3053-2E76-4335-8FCA-A66AFEA9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A927-A029-47A8-B66B-49320E8E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6D1F-EAB0-42D7-BC50-B505CC0A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D351-4E21-4E8B-9224-3D2FA4FE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47F2-F958-472C-88C7-28BCBA3B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CCAA-8201-46C4-8B95-37F43DBC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722F-E46B-4271-A042-50A82BE4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A530-7597-4367-8E55-5C6CD70A8C5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FROM R BIT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05080" y="1600200"/>
            <a:ext cx="453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5:45Z</dcterms:created>
  <dc:creator>Peter Watson</dc:creator>
  <dc:description/>
  <dc:language>en-US</dc:language>
  <cp:lastModifiedBy>Peter Watson</cp:lastModifiedBy>
  <dcterms:modified xsi:type="dcterms:W3CDTF">2011-07-05T13:11:43Z</dcterms:modified>
  <cp:revision>1</cp:revision>
  <dc:subject/>
  <dc:title>SLIDE FROM R BITMAP</dc:title>
</cp:coreProperties>
</file>