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978B14E-533B-4BE4-97BF-A823C5B2EFD2}"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F914231-29D9-4DE0-80B3-0CAE971F6621}"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D709B-2282-4431-BFB4-F7DBA079F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93CD9-916F-467B-B3B1-9793467DB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E0F79-4F70-4002-9F72-C779B5291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DBE89-D7C8-4967-93D1-B86B75A29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2747-3A1B-43B5-8511-11ED0B098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2A72A-73E0-461D-BEB5-3C2F049EB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B043B-14BA-44C1-AA6A-9E4164649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1E9EB-18A0-4C9F-93E6-E931689BD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14D8B-9BC7-410A-B694-DB8BCB073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C703F-9085-48AF-A41B-916BFB6E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B87D-1532-4B2C-9985-00EB6818F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0F967-B8F0-4323-BDE5-DA6C30384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C115-4DAC-42E8-AA35-128FCD5FAAC2}"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BC94-ADE1-4108-A418-FEB0B1981A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5540-6BFD-4069-BDC0-EA209351150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DA59-AFC4-4892-B730-796C784673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F99A-308A-422F-8F6F-2EB9834408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5E6C-C134-49CF-95C1-72153262BE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C240-A041-4906-A1E7-5CE67507C1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05F3-2340-435B-A268-F76DC4C5B0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800F-DB66-450E-844C-5CBCE8B4AD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AEBF-3C0B-4066-89BA-CFA884A30D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A87D-CBD1-44F5-8B9F-EF3B09859F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7411-16D9-4F05-83AB-DA727ABB2F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23FB-DCC1-4347-886E-62FE4909772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4898-5624-405F-9270-678425FF99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238A-9EA1-4DB3-9ADD-283C998370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EEAA-F491-4F50-A28E-AA0D2A9B7E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5F33-53EF-40FD-859B-A658B3B175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F938-91E4-4B4B-ADB0-8842279828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0660-BF16-4DEE-AD7B-A0B8CE7AC8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DC39-42AF-4081-8665-42603DB1E3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CD1C-437E-4D17-9F37-92B658FF29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D1C6-0B46-4225-B753-191A292E9B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5592-6BA9-45FA-A90C-3B8065C356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4751-B12B-4BE3-9E66-8BA2BEE8DF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5027-5D6E-4297-B457-5F45F502B9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099F-37EC-4801-A3C9-B2867CCFA3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529C-B277-4E1A-8F84-8D0BF2D5E8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7E38-9E34-4FC1-8753-A21B3E497E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68AC-148F-44CB-9314-CA362630AC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A144-17C7-460C-B028-FA4A446B922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A598-24A2-47CC-BDFF-75EED68B74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2923-39AE-435E-8C95-F011613F0D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45C2-6A21-4532-A746-22B0BAC429B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F2DD-C0DA-48B2-8E56-42413FD2A3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9529-A09E-4C01-B963-E4B372DF7D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CE5D-9FD6-4058-85A3-4985571465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4002-CD44-48F3-8B9C-DE4A419DD9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0E8D-326B-4EFA-A081-29B5500015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DB51-BE68-4CFD-8299-30F0594035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372F-8B20-4E0C-BD96-131416EEF62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AD8F-6A6B-4A8A-B471-C752115382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25EB-C5ED-4812-B7FA-2EED8547F5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8-01-23T11:29:01Z</dcterms:modified>
  <cp:revision>72</cp:revision>
  <dc:subject/>
  <dc:title>Aims and Objectives</dc:title>
</cp:coreProperties>
</file>