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7313-9D30-46F7-8230-E3614FC9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D0DC-7EAB-45A4-85D7-AC9A072C81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FDA-1454-43B0-8B0A-236B2F25CC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658F-B84E-47EB-8ECC-721BA0D0D4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E830-378E-48EE-81B7-1A5911FEE6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3330-208E-4E55-9870-F400D6D88B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3CBE-8A41-4390-AD70-01A875A1C0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D666-636F-4BE1-B316-77D6DCAC42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9874-F1F7-4772-82A4-5834681743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5965-5667-4F52-8E6B-CAF8FB357F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E47-88F3-4203-9AEF-DFCD5F5025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7CEB-8F5B-4E87-A78C-D55EBB4BA1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A43F-DDD9-4047-8D23-12DC54DD7D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C83C-AD36-42EC-A494-57FA08889C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57D-D365-4DFA-903D-37B072BC22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7E81-47E4-40A7-B7A5-B865DC24FF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6469-5B7A-4807-AF22-725D7B2F83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2F79-6D80-4A90-BDE2-FEC3D5143E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1BA1-73C7-4E47-9F54-CAA1AD2AC2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33E8-8DC7-48BC-925D-E455435A11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8F34-A840-4D2A-85CD-3FD7BB92D3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BCB2-2567-41F6-9DC5-8C3D4611FD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EE54-0A61-4D63-8282-284AEAC95E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D7E2-3C7C-45C2-8063-9963906128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2BC2-8210-4517-B335-B9273799D2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F183-5022-43BC-8270-2585944009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7A24-18DA-44B9-ACA5-442C00F8A1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53C1-A7B5-4920-B6A0-861BDB6115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89E9-CB66-4FD5-AE7A-58EC96B4A3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B6A6-860A-4538-8687-0D111E2FCC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17B1-080D-4C0A-B289-F3E65A3B13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406-DE16-4759-A0CF-B86A332160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67E6-1852-4C98-8ED3-EF167D5596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BF3D-39AC-4264-B47B-00DCD846FE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1F6A-A8F8-4FEC-969B-D3BCE7A29D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5F6A-8585-4E23-8219-ED5CBE9E50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77BA-401E-4632-95C2-68B5485219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BA05-CF31-4003-8A5D-C6026CD596B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D05-7EDE-4220-AB48-1B6BE81C171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AEEA-A88E-41EB-B46F-39E0C0BD61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BF7-00AB-472E-AC0C-CE50574D4C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926-3002-4883-91F7-0DCDBB183A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967-38D8-4389-9DE0-F3F92BB3CC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A827-6F67-4E5E-A37F-04516CB6B2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08DC-3C1E-4C03-A9D9-5166B3C328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677F-500F-46C1-A149-715E707F2D1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DBF6-15AA-4746-9652-2F53E05BA3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975F-1FE6-48F7-B38E-97A1939EDC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D03-C22B-4D07-A6E6-F97433DAD9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D6CD-D57D-4DCA-B685-5A57EE5B1E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C270-1FDE-42F4-BED3-8DD4916BF3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D436-1C72-45F0-B7F3-77F4DF63411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1FE4-97F7-49B0-A5BA-7367B81C66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9F42-0901-445D-962E-97F8CE9C3E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8D5-CCD6-4891-ACE1-32024F6D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951-6AFC-451B-962F-4287641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150-1425-4971-B4AE-51DEB023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4DE-A6D3-4533-98FD-59C1FC50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7FF-D1E0-4393-B9DB-1B0308D7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4EF-9987-4DF0-BB1E-6E54EA29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936-F50E-4B61-B33A-D3327633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BC3-7793-4600-A70D-930FF36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58C-ED96-4C78-9A79-0537EB1D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CEA-DC7A-45AB-97B2-EDEA94E3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F26-AB10-4985-9E0B-9F703C78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C18-0875-4925-AE99-23C5EAC5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5884-4BA5-43B9-BCED-0CEA9DD73A8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8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29th Nov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8-11-15T14:52:54Z</dcterms:modified>
  <cp:revision>115</cp:revision>
  <dc:subject/>
  <dc:title>Aims and Objectives</dc:title>
</cp:coreProperties>
</file>