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9.wmf" ContentType="image/x-wmf"/>
  <Override PartName="/ppt/media/image17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9B58-A908-484B-9552-63280F791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249C-7A5D-442D-8AFB-2573A85A0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DAF45-2A6D-4BAE-989C-F5BD172D4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2589-8096-46BB-A329-1F381947B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E08F9-0548-4809-BBB7-2982DDC0BF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834F7-9C62-4AAC-B161-BF6FE1DF66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78025-65EB-4937-9FFE-1062199D86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2360A-E3AF-4256-A3B0-CAF29358E5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88418-89CD-4948-930A-D39F9FC0CF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1942C-DC8E-4B8D-ACC1-46858961BB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A22FB-2CD6-4518-898E-BC574E614F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72C7-C0E6-48C6-8414-C8E32247B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6CA67-814A-4BE2-8DF7-563324BC51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891AF-93FB-43F6-B402-2E3E84023D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5273B-FC56-45DF-AB1E-71F04C9991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2D2BB-670A-46F2-B213-757776C186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E0550-5F18-4B58-B3AD-6B9C1C54B7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F08C-9E71-4D21-BC4B-099840383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82DBA-3583-421C-9556-70F415342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A175-7389-4AF6-B081-7A1992782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596D-44DE-4AB7-84A2-8362086FD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5D74-2578-49AB-B3A5-B5428C55D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EAE6-8848-4275-A2BE-1A196FD03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D09E-B099-4917-AAE6-715B69787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60A803E-0CAB-45DD-AEC3-AD6E036F5EC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33D720D-CB60-45DD-B4ED-19E99C49F4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346720" y="393840"/>
            <a:ext cx="3348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292720" y="399960"/>
            <a:ext cx="3564000" cy="540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7ED9F30-A14D-4D23-BF8E-E318303B92E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0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5A58BCF-12D1-451E-ACBB-9B04E6ECE69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7-07-03T08:54:52Z</dcterms:modified>
  <cp:revision>312</cp:revision>
  <dc:subject/>
  <dc:title>REGRESSION ANALYSIS</dc:title>
</cp:coreProperties>
</file>