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08EF-A9F1-4905-B38C-FF13A57D89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DD0C-DD6A-44D1-AFFE-8F780956735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612B-3ECB-490F-A3C8-1832AFEBE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6DF3-B722-4951-AD42-D16A5D469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0AF7-9EEE-4034-B002-C81E9B1C6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0042-57FF-422C-9EEF-F0AA84670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9148F-7F95-4FB0-A336-3A4914A5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4FF03-DA53-4CB1-AEF5-9C1D1D2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AFF3B-6134-4A01-9AF4-526B867B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67E91-953F-468A-8B03-0BAD50C0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C7B4B-E0CC-4D15-B008-C5FE46A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FB05-35C1-4392-A211-8BD962CA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76AB-B5DF-4B46-B0C3-724B059E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CA36-1CB1-4F73-B5BC-0D247B44A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8D06A-8599-4E96-81BC-9ADE96A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AA5C-A8AD-4A71-A0D5-8E52AC1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F2094-0C5B-4531-A0AC-921B24FA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8295C-9828-44A0-AE7C-D0772E2E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8A47-6C43-4D75-B2F8-7A4C34EE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1449C-1810-44F3-9833-6524B7D837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66288-BD89-456E-AE98-9A770968FB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36574-B65A-40C5-9A3E-436C230180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6E0EB-2BC0-4A5D-B4EF-45BA62D221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6C722-3683-444C-9B00-55F275B60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A1E0-AF2E-40BC-9605-82B35C1D15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94D3A-D590-42F9-8D03-C76354671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4E2C5-B6B1-4F07-A5CA-046E336191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80AF3-98CA-4173-86A6-E4C53924A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9CE05-AB19-4829-8980-E9632D3AC6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F9BE7-0793-4E87-8949-43B2036FEE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58615-70FA-4A06-811D-4021A83614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21314-5DB9-4D55-99D9-899A38020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74D9-384D-4E5C-8DEE-D2D9E7B59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37BF-A951-467F-A58C-BB53CECFA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4812-E07A-4171-91A2-94477E98A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3AAB-0008-4E75-9D93-347839F8E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D5B4-91C8-429F-932B-FE5F2C378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9854-451B-4386-88B5-682907BFB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FD9D6E1-837F-4BC1-8D07-AAD0399DCED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0F4BC0A-92A7-46CC-9F3D-679D271EF7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F84-040B-43FA-8F30-1F8A0C06E44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341D488-4135-4515-A901-51E36C44FE9F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1E5D48D-D879-4140-AE2E-24EBBB6B89DA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01-24T10:24:00Z</dcterms:modified>
  <cp:revision>369</cp:revision>
  <dc:subject/>
  <dc:title>No Slide Title</dc:title>
</cp:coreProperties>
</file>