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D9D6-AFD8-478C-8C6D-8E45B49068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80BD-F82C-4A82-A472-D779289586FA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AA0C-F9FF-4E32-92B6-5DD7AE90E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E6F96-535E-480F-89F7-7329F0A21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AD53C-F6E7-4D0E-A287-0E09B2F51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1D5CF-9BF7-48C9-8149-A9A096AB1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F9AD4-C2AB-4140-916A-749880C648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F258F-1BD7-473E-AD68-C4AC90CE15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A168C-C833-4BC2-B727-BCA80DA4F9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49FD1-0F86-4C49-88E6-58D3DC414C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537B8-668C-4874-952E-BD365E295C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C56CC-59D7-41C1-B194-BFC8EB94C5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6DD2F-8FB2-4F4E-9FE4-3FC733FE52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32FAD-1463-4656-A24E-186833852C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75EB8-9959-46D4-B1AF-E5D4DF0348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1017A-E99F-4FA3-8C38-2ECB08BA3D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77D46-1F5D-4CD4-9CC5-163849CB93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4D1D4-1F95-47B0-A31B-D9A72F22AF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DDE8C-A32C-4D95-8FAF-7C2A67584F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9C429-EC8B-4791-ACA4-37AAACCFA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5854E-F127-49E1-A6DD-DCD53A327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60F1A-5EC1-450B-AFDF-D4558E220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7DACC-9584-46AA-8B84-F2AF52077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EBB00-F058-4FB6-A6C3-8F69B32CB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877C5-0123-4BCE-86C8-CDE789557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A789-6D81-47A2-802B-FD9CFA9C6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D56A19E-6954-48A5-84C4-04F723EFEAC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6F38B0B-8937-469A-80C1-D51BCD6D647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6019920" y="204840"/>
            <a:ext cx="245268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5651640" y="306360"/>
            <a:ext cx="287496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18C73B7-4E50-4A3C-98E0-5DDA6D943C5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5B972C8-58D5-4E84-B8BC-BAD96B1837F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9-01-24T10:29:08Z</dcterms:modified>
  <cp:revision>352</cp:revision>
  <dc:subject/>
  <dc:title>Exploratory Data Analysis</dc:title>
</cp:coreProperties>
</file>