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790F-946E-4BF9-930D-F24196267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69AD-AC41-4561-B2CB-FE1B59631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E662-4D9F-4A3B-BF66-13F1D7238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CF203-1962-4467-BEDF-35B7819F5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42D99-EE11-455A-B7B0-E1ED22A180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F7F4D-0CB3-4438-94C7-3E984976C8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AD89F-E4AE-44E6-96CF-52F202BF16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AD6B2-400D-4874-98D4-5B55AEDBA0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50B95-F6B2-4F5E-8BD5-041244C5BB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0613D-9FF5-4F2F-A66C-944268A3A7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067E0-34D0-4A08-93A5-CD73458E0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C7AC-2AB9-42B9-9D1F-6A650C72A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95C3D-9E4A-4D20-BB95-B38563AE67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24DCD-EA5C-4BFD-8E27-E1C4B93A6A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03A76-62F6-4AA6-B035-727F466F45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46433-1E4B-425F-A6AA-1C80CF526A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2AB1D-CA23-4872-B17E-2EC65DDE7B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6FA8-D5A3-4C10-9B23-320C9FD0E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8303-657E-4984-9B93-AFBD55A12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12A4-114D-485F-B20D-E23894CA4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BCAB-17DE-4AB1-900F-45C5904B5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51D1-F984-47A4-92FC-CE31A2584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404F-803F-47E7-8871-73E23B94E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41F8-D17E-4E3A-8030-BD5521FAB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37F1B2B-85D4-41ED-B62C-2D05E69188F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84BC7A1-CCDD-4FDD-9519-BC484D3BB6E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FE68595-00EE-4E35-B9CA-03891D9C7A2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E9FD0B4-53A0-4441-A1EE-4CB83CB2D4A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897E-5A38-4B31-A955-6192D1804CDE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1-24T11:04:35Z</dcterms:modified>
  <cp:revision>337</cp:revision>
  <dc:subject/>
  <dc:title>No Slide Title</dc:title>
</cp:coreProperties>
</file>