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07EE-6DA8-4BD7-8276-A460D434E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8AFBB-6545-49EF-879A-E6D3163AB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FB424-C007-40E6-B733-A0A54A459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B6B82-2437-41F7-A655-3068A8AED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4647C-55F0-4AFC-BA6E-2399BD6347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24BAC-8F7E-4233-837C-E5D07E8E29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4AE5C-492D-4B67-9EB8-6E204327F4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B23EE-2186-411C-B241-9209E41EE0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DC7A7-4A1E-4B49-BA61-15F2E2E243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E8135-88A3-4BC1-936D-5F41A02EFE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9A111-2677-4E2B-921B-B6B335EBE2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79311-BF1B-42BC-B932-65479DB7B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0F092-CAC8-4231-8569-B804F8EF3C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701C9-0F2D-4B76-A0C6-0E0D0937EF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DC505-25A4-415F-900E-BB13BE3657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8B556-C948-40B9-95A8-108E1D64A2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D1423-FBEA-4977-BA9E-E60204B716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2A5B4-BDFF-475D-874F-96988C32B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17D38-1606-4B64-B86A-663EF3A27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9E3E5-34A0-4C0D-BBA3-BCFA49540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F151-9518-4B26-8194-F1177D498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59D48-5E86-4BE0-B297-845563E8F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2BCD-FC59-4982-A7EC-D1FDFF78C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D4C9D-562C-4397-B5A3-5871CEEAB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F6F74FF-3EC5-4B88-9745-B9317303171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6FB2062-BC78-4D21-A03C-92A945D5B2D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580000" y="260280"/>
            <a:ext cx="290844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508720" y="338040"/>
            <a:ext cx="2504880" cy="590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4E1ED8C-8864-456C-9AE6-7986D87349B1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B939B7F-4EF9-4566-9254-CC04BD95B95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9-01-24T11:11:59Z</dcterms:modified>
  <cp:revision>257</cp:revision>
  <dc:subject/>
  <dc:title>8: SAMPLE SIZE DETERMINATION</dc:title>
</cp:coreProperties>
</file>