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1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5BDA-9857-4895-BB79-3D63AC0A54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A8A5-CC6D-468C-B01D-782F94147B3D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736C8-F4E0-4A6B-8EE1-94A43D9D2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D49F8-9750-446C-8977-20DA7CCFA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F75AE-C138-4414-B3C6-D3956392F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CF664-8C88-4982-B650-74ACB3BE57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1C775-16CF-441D-90AB-3C8C7E7C7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DF540-4614-4C26-9C32-CF66FC87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D0AE0-384D-4B17-8BCA-A1B3707B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43D48-2B49-4E20-ABBB-DDE1A2AB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EB2BE-9AD9-49BF-9C11-A953858B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A2504-C386-41A4-968C-6B5A006B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1DEDB-4F7A-48D8-A935-BAE41A4D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930E7-CE79-4C18-A340-FBBA38D03D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16164-81C6-401D-A397-94A9891D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A19F4-4358-4E4F-A2B6-4993B525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B0466-0F26-45C6-83A3-DFD023D8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44A57-2CB2-44B2-8CD1-B570A77FD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657D1-F832-49AA-A33A-8A2ED6F81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E03AD8-34F7-4951-B081-9AAF5B59CB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547C45-03EE-4CBD-8529-6F972049FCE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198F5D-E84A-4677-8882-3891B317CEA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B7CD2B-5C5B-42D6-8B8E-1568045514A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C111BB-AACC-4498-B4CE-EB5E10DC0B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6F6B5-2106-4418-8083-CC607441F17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BC3630-3EA8-4819-899E-A12231E6C1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A9A97D-69A2-4946-993D-06161D466A5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E4755C-BE8A-4BAE-BD54-479FF6F61D8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A840CD-1EC1-4D9C-AA99-BA0A2E26ACD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D7E6ED-ED05-4411-9A2C-24C8DED0DB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D855D1-4A49-41BD-8F23-0506CD00709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C7586C-1C73-4FF2-AA59-A426D7744B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16E88-A3CC-43CD-B4DB-262FEDF3A5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FC1D1-822B-449C-A519-24A9AF7404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6EB96-322D-4FDF-8360-BDD83FE3F1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23D20-F2EE-4C93-B40C-1D084D726B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5769B-AFF0-4050-A312-A773F5A886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C0BD2-E3AE-4E39-AEAB-D8591253B6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A733251-E38E-4F67-822A-2D7308C8549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170D163-C1E1-45AF-B84D-C2765850CA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6084720" y="260280"/>
            <a:ext cx="260208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9424-C263-40DA-9A74-4E4A06A2612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2" descr=""/>
          <p:cNvPicPr/>
          <p:nvPr/>
        </p:nvPicPr>
        <p:blipFill>
          <a:blip r:embed="rId2"/>
          <a:stretch/>
        </p:blipFill>
        <p:spPr>
          <a:xfrm>
            <a:off x="5508720" y="519120"/>
            <a:ext cx="3024000" cy="5731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6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7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4DF8FDBA-9F81-4E16-997E-178120788951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2E624F9C-0328-4133-BF2E-E2C44AA4EA10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9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109440" y="4565520"/>
            <a:ext cx="903924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If group variances differ but normal distributions in group use Welch’s df adjustm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https://statisticsbyjim.com/anova/welchs-anova-compared-to-classic-one-way-anova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See also Delacre, M., Lakens, D., &amp; Leys, C. (2017)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Why Psychologists Should by Default Use Welch’s t-test Instead of Student’s t-test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70c0"/>
                </a:solidFill>
                <a:latin typeface="Verdana"/>
              </a:rPr>
              <a:t>International Review of Social Psychology</a:t>
            </a: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, 30(1), 92–101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2" name="Picture 8" descr=""/>
          <p:cNvPicPr/>
          <p:nvPr/>
        </p:nvPicPr>
        <p:blipFill>
          <a:blip r:embed="rId1"/>
          <a:stretch/>
        </p:blipFill>
        <p:spPr>
          <a:xfrm>
            <a:off x="507960" y="1995480"/>
            <a:ext cx="8604360" cy="2548080"/>
          </a:xfrm>
          <a:prstGeom prst="rect">
            <a:avLst/>
          </a:prstGeom>
          <a:ln w="0">
            <a:noFill/>
          </a:ln>
        </p:spPr>
      </p:pic>
      <p:sp>
        <p:nvSpPr>
          <p:cNvPr id="193" name="Oval 9"/>
          <p:cNvSpPr/>
          <p:nvPr/>
        </p:nvSpPr>
        <p:spPr>
          <a:xfrm>
            <a:off x="7521480" y="245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Line 10"/>
          <p:cNvSpPr/>
          <p:nvPr/>
        </p:nvSpPr>
        <p:spPr>
          <a:xfrm flipV="1">
            <a:off x="6800760" y="3217680"/>
            <a:ext cx="144144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7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2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4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205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6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217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2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0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4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5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6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89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4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95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314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7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318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322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337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341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7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48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52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5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6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7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8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9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0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1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weighted=arith mean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90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3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4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5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6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7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8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02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75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76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9-11-15T11:53:22Z</dcterms:modified>
  <cp:revision>370</cp:revision>
  <dc:subject/>
  <dc:title>No Slide Title</dc:title>
</cp:coreProperties>
</file>