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4339C6-6E66-418D-B88B-A305392E8D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CB8790-4AA4-46C4-A28A-7F14FF99FE25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1D6A70-3007-40A5-94EE-F8FF313B28A4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98D-5CA8-458F-BB0C-76D4D89E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B63-39E4-429B-9A57-5196D5F6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429D2-2D4C-4226-BA1F-36350A5D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D078E-6F8F-4C54-A96B-62899658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5D6F1-0041-4DE8-B015-16BA92C9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12F5A-83FF-4B3B-8279-B88F5B2D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320B9-9551-46A9-B58D-DEE8BD19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9793E-A1D5-46F8-82C3-B5746AD4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767AB-CB0B-47A4-8A7E-A05544CB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2FB1B-D70E-4165-B097-D03DA33E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9ACC4-406C-4263-9D14-65E159B9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315E5-6710-42B3-B539-47A06950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744-7892-49ED-88DD-C54B2D1F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0E3BB-B586-49B2-A001-E2AF1692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9DEEB-299A-4B31-A98A-7DF08209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68C27-6F54-459F-8DC9-51BD6442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B4F47-1579-405C-9E6D-4B4EE70E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C2CDE-302B-4742-B57C-1F9AC1CD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92BB0-1763-4F8E-83A6-0D398110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42118-E5F0-4A29-A93F-714F1C5B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DF1A0-3822-4B78-9C8D-3C1752F1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F6F24-E367-49BE-8248-5B75AF54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053CD-F127-4F7B-A1B7-FE1D32AA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933-281D-4FCE-83E7-F6E0D708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0FBFA-B3C6-447A-B17E-792473BC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14918-B82E-4689-ADAD-E30A6B84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A6071-7D83-4F27-8229-C8637638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6B066-C46C-44BC-AEFD-107B60C2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A50B9-6871-44CF-AF80-E2441BF7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548DD-5CF5-432B-88FD-914E6808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DBC83-E3B6-4C37-BCC8-6CB44CEF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E02E4-8586-445D-A02E-5C8FA37E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2CD35-4B4E-4D68-B8F6-FF1BAF75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965EC-479C-4AF6-A004-42F29F8A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20800-84DF-4114-9897-B89883F5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3FE86-8FFB-4C39-8693-C6A6FA41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595CE-D9EA-4B1B-A9D8-E11EEF33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35833-F6E8-4325-B2AA-3439F047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2E911-EFAA-4066-9D8F-577473FB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1F7EE-5E11-4261-BA2C-34485BFC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A9B1A-0351-4F2F-B71A-8D2BCCA9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162E1-31ED-4A59-9A86-B632F45A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551CC-7FF7-422C-87B6-045954C6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01198-6E5A-4DEC-8AA6-12F2D22F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4B1E5-B891-4285-BFD6-DF88400A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3E428-4BB0-4F11-93DD-D2F04023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9684D-FDC3-4E5A-977C-78517D41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557E6-094E-4527-B1E0-DD4FA899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3586B-2B31-4B85-B7AE-1444B5D4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E2D0E-EB7E-4C76-AE4C-3CEBB98D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5A1CF-1B21-4570-9F82-350240A3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3A7A6-4628-496F-9C07-6D435E92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6CFEA-69CD-455F-9017-D754C2BC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05424-B9CB-4C88-AEEB-CEBF34CA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2C066-669F-4723-9EED-5C7ECE53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39095-1803-4B8A-826B-BFFDA81E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5A017-B41E-429B-AC17-6663EBF0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64E94-9F9F-4237-8512-8D2A9255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96BFD-2D2A-4F5D-91E6-9D717108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D40D0-3B96-4730-9585-6AA43D21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58D4D-767C-497F-9716-3AFF33FD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45D95-FB09-4DA3-ACE6-85489D23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C3B7A-F832-4A02-89A0-2B3EF1CF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8E769-ACC2-4729-B265-CFB646DA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E6D43-0365-401B-8F7F-3FF875FC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310AC4-30B6-43A8-829F-554BBB43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C9805-6414-444E-B76C-F6E17B67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8BCA24-14AC-438C-8B62-7FEA3A37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BB07C-111E-4DD1-94BB-6470219A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03F9B-E3B3-463F-8FF5-3B2BEC9B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89AC8-BD6C-4F2E-8EE2-8E7390C6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4A48D-5820-4B4A-84ED-CA1CECEE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FDE71-83E5-4DD7-8CA9-5D189951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C145B-7C5A-4806-8F50-08B5B150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04852-1FA2-444C-8962-CE811D57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AD930-0D85-4387-B01C-C806C162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C9EF6-43F4-4867-A31F-7A73432D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5FED0-14DA-49FD-AF4D-DE83876A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903DE-F942-4347-9C08-9C7B186B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14CD1-33AB-476F-9684-BE49C6E0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E97F5-270C-423C-B0EA-D45534CB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2C546-B1AC-4694-80A9-A8BFDFEC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5E2F0-4CA2-4BE3-A2F4-12662223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B614C-E969-40EC-B8D3-CA60511A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92D8B8-50B3-423B-8A5B-F39BE464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F6024-AB87-4F2A-A570-79507B12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70831-C569-4588-AC50-4B077D03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DB366-26BD-4258-BE25-1A5EC1D8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0B6471-5DF0-4443-8D70-9F8C703D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42938-9543-4AF1-AFA7-8625A72D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7BE4C-B1B1-4C00-A560-96C2B36E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CC65A-1277-4E30-B1CA-FAB3F58B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EF8A30-01E4-4DA9-9FA3-A6ED9B35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61945-1A63-4774-9203-365AB38C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DAF57-FD3D-4F5F-BC0F-7D2A15D9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BD09F6-7439-445B-B0E2-61B5750D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9BBD0-0348-440A-B6FC-E86450DE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0681AA-1DB3-41AC-B9DA-204240D7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BE735-A4C5-490D-9C3F-25DCC62D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4702A-5A5B-4DA8-BC39-A663AFF8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1A578-5D72-4343-8CB6-C4F01791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D2FF70-52D4-43F1-90BD-0C9629C3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05766-03DF-4FEB-93EF-9C272250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54DB8-6FAF-4CFF-A4A0-A8D05001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1E27-2692-46F0-AC64-812FB362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80302-F20A-4EA1-8EEF-84983DBC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861606-BA54-4A1E-B352-4D5130C1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071818-CC8F-491F-85D5-C49F97C1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26D983-C3E9-4CE0-B43A-B3FA79AD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D92D0-7578-4DE7-8E7E-FD59DB33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A3FB2A-74C8-41D9-B6C3-404B554F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EC244-A4E7-4093-9BD2-5AF3BBA6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AD258F-7B49-4AD2-8257-ACEF58A1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D089E0-A574-4139-9035-93498EE0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F43746-A680-4509-8C16-A7352152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6E512-4560-418D-A380-D2DBB670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6581A-B138-424F-B874-EC6A81C2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42C231-12D1-4316-BF26-84804BCA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78014E-4777-4C3B-9B43-DBE533D0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69698D-D699-4090-BF70-964A8F35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BD15A6-7AA0-4DD6-9E92-991B6E7E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C03BE-2CCB-4E47-8604-CFCD35DE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2C9-10F0-4303-88D6-90758CCF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696-09AE-4AD8-A80C-62856A40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C7AE1-24D0-4A95-8C99-2D865193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751-A665-4F6C-8A10-B2758352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BB648-FF7D-4FDF-9DD1-6F6ECA34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CB459-537D-4265-8A72-75D95D74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BD09D-66B4-4C6A-AECD-F7673935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54B15-8F20-40EC-B097-FE926839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310AD-9B00-4AC7-B7CA-F684F564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44863-8B2C-4BC4-93E0-17597153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E394A-30EB-4FDF-939C-5313B904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BD446-A80D-486C-9045-7F4410D4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70A64-DFAB-43DE-9017-7174E8D4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A280F-7F61-47E4-B057-4AD2E20F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554-F250-401F-848D-C1CA9162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68DA2-807A-4FBB-8B3A-0F1A052C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F6E52-6D5C-49B6-9387-D64F164C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87A1D-0BE5-4585-A5B4-2B3FA5EA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042DB-219A-48F4-92B8-E85E9E53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C6973-211F-489F-AEFC-B91FDD71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3C6C6-282D-4870-922F-AEF9E0B0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29CBE-154F-4DE1-AC1C-99B4CE57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19372-A1B8-4B7E-88B9-DBEE86AE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C9C4F-8055-453B-8827-A74E9F5F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85853-BE43-4B42-B888-8DD00C13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C69-F949-40B2-8A04-845EE09D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A708F-D427-493B-93BA-3A39A2AB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55E77-57B9-435A-9863-EBEA1636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A073B-F253-435B-91CC-C5071CFE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EE43B-826F-47A3-B91D-D4BCB7F8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C72E4-F134-4867-B7B8-907C0458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18758-E2A4-46B1-8AC5-7C84A4CB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69598-D1FF-4A31-B954-CDA3C4DC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92FF4-7CF6-445E-977A-35BFB5D1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7670E-267A-4549-9330-C49CE5F1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8788C-AF3F-4A9B-9FF7-3A0DF2C4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90C-A248-4CA7-A3A6-A68DA933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52774-EC5D-4A11-9D95-ACF5C023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808FE-55ED-4351-B074-2A515114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1C2D1-98E4-4B95-A0C0-75A08494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297CF-7625-4B44-A4D8-52DAAB70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8B07D-8FD0-4D4A-895B-91051343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3E0D9-D5ED-48B4-85C8-0F949276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BA45A-CBB0-4920-8E5F-FA140686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B5074-66A2-46AC-AD73-02E233C5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92DA3-C3FF-4943-84CF-B01EAFB9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7D3F3-55A7-4D2D-9493-B4641AC7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AB5-88E7-4518-B120-B6926077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AD4BE-7EFC-4D94-AF76-5E789976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DE979-09B6-4E21-BFA4-7E101CDF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73599-BB9A-48B0-84F9-87F68648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67312-76C2-4D19-8451-8E1D9B4D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C58E2-67FC-4646-94F0-F292E35C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EFA69-3C64-4420-B0C7-0EF0853C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D3515-44E2-4570-B2A1-E1B4C071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6F4D3-9D7B-4EE8-9A16-75FC7172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4C140-6705-4BF8-8EEC-BB5E523F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F2C59-C19C-4912-B339-58307734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9FE1-80E1-43F3-A241-2A409A5AB5C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654B-9164-4D9A-8420-65A1754F905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2E49-2245-4187-900C-8FD62C3538F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A811-C8DA-4F9A-AB5E-06363F82541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FB6D-159F-4580-8B8E-E51AB1188ED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36CF-F478-47DB-B337-41C8A5298BC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CCDD-DCA0-4D29-9134-82B1008F05F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E82B-B880-43A9-B50A-12927826DA9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D03B-8D59-4A78-A4E4-DEC05E878310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661A-9495-47E0-A306-3234EF6D976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5A62-F971-41BA-9C0F-9FE0CB30F86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C8D1-5360-4B09-8200-261866E3CD0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F39E-BCC2-4A86-AE30-32AAE6BDD44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D62D-F1F3-4A6B-BBC0-8AFC2433BD0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0042-4A04-4994-9EB7-33D08624BC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000E-FAD6-406C-8D15-9C4CE11A76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812B-E324-417D-ABB2-DCC82B005DD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C5BE-5592-41A2-8139-DCEA01320B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4345-C00E-4A47-8684-7D16597DAD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CD11-DADE-46EB-B270-AF3DDE1B8B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B442-2223-4984-B947-DF8BD9FBCD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BDC5-EC83-4FA6-8B11-4D5EB53C53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26B2-EDE3-453A-960B-EA1F4DE44C1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F155-09A9-4542-A74D-23DA708DCF7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6206-A4C1-4B0C-8C6D-24EB9E6590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5CAD-2CA1-41E2-9521-0098D80494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4386-0298-43B2-B152-02BEEF7337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CC20-201A-4203-AC6C-5E12B848F5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3A8D-F9DE-4943-8B1A-2E568F340C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5A09-37B8-4384-AF1B-D908DC2FAF8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F2C2-EC6F-42D8-9F64-F21D51118A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5E98-95D9-4D08-87A9-A6E3A6BA044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A76B-A947-48C8-AE0C-74D5E0C7AE2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7460-5FF1-4F01-A94C-1EA10004DD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F977-17CC-4B5A-BECE-0DD4BF9064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D94A-331E-4E37-9B0A-AAC3D8E57E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9D49-6C77-4B03-8D03-C006B61472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DDC4-1CF1-480C-AE9A-A63A2D180B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B78C-7E46-4604-9888-58266EBB17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4837-4D2B-4D2A-8611-AB3F50155B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A9CE-DBC1-4D61-860B-8DB820693B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3FCB-1295-4DB4-9569-70E994A0908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7873-ECC1-47D0-BBD1-DC4E956C8A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46A5-5F3E-4E18-8A48-E189166AC1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903B-BE6D-4600-83D7-D48D5E608D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EE8C-6F17-44D3-AD08-AA30B24FF2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172E-43AC-4A7A-9149-8EF29A32D1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DD51-7D53-4F27-A0A7-24A6930323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2C57-CD05-4AC4-8B7E-10617A7E84C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3FF3-E0C6-413F-AE82-D9BB6112420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A6B7-E593-4EB1-810F-EAB26A33EE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DAA1-5C92-4AB4-AAA4-25D0C48B61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65EE-F178-46B9-90C1-00C6AF1990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4C22-B1FF-41A8-BE09-BF93AED7D7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699B-B9A9-4330-ADE1-3437F997DF8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39C6-C2AD-4739-8D72-F3AA6C2955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BED9-5F47-4C4C-8797-6B5D77B918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D3C1-B3F3-43BA-9CE6-569DEF5128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2B51-8D09-47BF-9523-914D71C39A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9ED5-794A-4C67-AA73-5BA883B057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8AD0-F3B8-418E-BEB2-54EA4E9F55B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F2F1-D759-4820-A7A9-5F93D7B805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DAB1-972C-44F8-B3F1-04CB70378C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AA9C-4BAA-4814-A759-7F5025207E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BB96-2FC1-4640-A176-A938CE9430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FBA8-64F0-4C57-B65D-A8588CDF4F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BCDD-76DB-4493-AF0F-3349D38A13E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E110-0D97-447C-B909-BB0ED0477F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FD5B-E8EB-43E3-9432-6F1220B8E3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62E0-E109-4CBC-8FE6-211A31FB1E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27DF-911E-4274-8EEE-26999798C8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5DA8-E28E-4B02-89FA-B7916EDE6CC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9-08-06T10:47:20Z</dcterms:modified>
  <cp:revision>122</cp:revision>
  <dc:subject/>
  <dc:title>Aims and Objectives</dc:title>
</cp:coreProperties>
</file>