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57C21A-67B9-4E24-A693-10D977BA8D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2E9AC0-4FD5-4A14-9A6A-4B3FD9AC2DB7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18ECDF-7CC7-4173-844F-AE12A2701681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B8A-4B27-44C3-B1BA-850318B0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783-5685-4300-B420-9A277D0D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0A78B-1CA7-4091-B6C5-478B047B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66097-982F-4853-9F42-DF01982B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B0C4D-C3D2-4440-90A3-A50395FC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E490A-E159-4BC7-9777-F98E5451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577C5-5329-4B7F-A1AF-C049EB27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1EBAF-7AD0-461F-BAE9-0E704FD1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CF40C-6320-43E5-B30A-43B05225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68669-5637-4F6D-B97B-D04D273C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FF8F0-B184-4F81-ADBD-8AB44AD1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A5C54-7C74-4B61-A08D-84543EFC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8CD-2521-4ABA-88D4-31A2A0F2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7D449-DFD9-4E39-A0F7-1953EDB5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07B59-3330-4860-B000-3E3FE576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6883C-C2DC-498E-8790-20483655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39225-802B-4833-A1CD-F8F4C753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05F60-DF44-4330-BA8E-1FF735C1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6069C-C35D-4AF8-881C-1CECEF63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4F213-D45D-4420-84FF-40B102DA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6E98F-B620-4D40-AA5A-12000AC5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B028F-5B12-438C-B426-088E5E70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6EBCD-6F54-4FF9-9EA0-A436FC19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1D7-1ECE-4B86-B215-92C64618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68A7B-C674-4F54-AA63-D555F072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5EC3E-9D97-4F47-A80A-916F9624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4CA34-5CAC-4494-BACC-154FFBE4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AB598-97F1-4E43-BE3D-5A618E62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FFC37-5481-493C-ACC2-3D3A2B0E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9A843-80E3-4198-8B22-AA73419E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83E6B-79FB-4C62-BE45-BE0A534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1079F-DD08-4032-9693-64D833B3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BED36-7FE5-4896-B020-FAE8E483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109DF-B159-4ADA-80F1-C4F96C00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BD89E-CADB-420B-B471-E3E93190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9D22E-8460-4669-8BBF-CFA97E74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927EF-99FD-4F37-BE69-1EFA4B3C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74DBA-A43B-48C6-902D-9507962F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6C1AF-CC46-4F30-929C-16BDC08A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E0B17-9822-4A59-925F-B957FDE3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4258B-0F73-4A73-9437-250A66EF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F0205-21A3-4D4D-A9EE-C1C98CDD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F7F72-4C51-4B87-AEBE-8B9FCA6E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BEDD8-F2C8-463B-8058-725F9AA6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B7A67-AA2F-4847-A7A0-CB2448B1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8D1B6-FA66-4B7E-BCB7-4629D58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5DE69-EF8B-461D-83D7-44D8620B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2A193-DC62-4310-9575-A06F8872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CB791-19CE-4F37-817C-30B8530E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55E59-2721-46EB-8131-659F19D1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08D5B-6C61-41B9-8092-0C7B9EC1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11DB8-89A5-4CEB-8139-B8B4DA1F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E3743-91EB-42A7-90A5-77930A5E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B2B32-C6AC-46A3-8F22-BA31D663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AF8E0-7B74-4B27-AA26-7254E94F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69CE8-A36C-407F-BA09-32414E43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1FC6F-FDCD-4204-A5B0-FD94C375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417D9-1EA5-4D9A-9CE0-0B2DD7CA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3185D-EA7C-4425-8053-1DDE98A8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AF497-F085-4C2A-8B43-7134884B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28C2F-91D6-45BE-B79B-8A0F7A99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3E0AA-3E27-424C-B470-EA01CCC7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472B3-CE58-4948-9EF6-940F25C8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48C39-CA2C-4799-9A1A-1BFE3B52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9E9EA-3BD7-4641-8A2E-BF89E689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76F9A-7A90-4C37-BD41-691AB4EC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13F75-F767-4428-ACE6-E2A59857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11409-406B-463E-9937-80A214D2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9C54B-92D8-4FF0-93B2-CC60330E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48C6A-C3B4-4C3B-861E-86A18840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00DD3-B6D6-4726-82B5-575C8822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B30E9-173D-4659-A6C0-44F56594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DD6A8-27F2-4B8F-80C7-41A37B38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F5C70-F1FD-44AF-A26D-6EB4B8E1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F3DCD-949B-4463-894E-CD090408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D5DCE-99B4-4A7F-A291-57391AC5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F2023-4E59-43F2-AE56-93A70138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C39B6-9845-48B8-95C3-175F0A6E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F1F3E-4A66-4C24-8BAF-CF0715E4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98360-89CB-4383-9479-056B8591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37B8C-D20A-4C5C-B435-A830F10F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198A3-C043-44AD-A14B-784EA49D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A3FED-CC08-4D56-A377-7CC84C4C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62577-76E2-4E27-997E-8F198F55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31BFC-6724-4398-BE05-69C8AF3F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25F98A-053C-4100-A293-556BC9DC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CEEB88-8D38-4269-9A24-9050E758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63EB3B-0207-410D-870E-09C2CB00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B4FB9-1D0E-473A-A53D-D1B9345E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3EDE7-14FC-4434-B966-1BC7A311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DD23C-651B-442C-96EF-26ED8F51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9B6371-D3CF-4177-A540-D6D0C5AE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975F0-D530-4645-BE5D-D2D1C1CE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099642-3B28-4856-9E20-35FECF49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0B645-7747-44F3-92FD-0A811BC9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76620-FE19-433B-89B7-5A5379D2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49606-2206-4AE8-A784-9AC3096D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7B9C0-ED89-408C-9F0D-80C55A2A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24541A-1F2D-4686-B087-B985A1DA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BC8197-E48C-4860-91B0-F27991FC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466D2-D39B-41CC-972F-6121B3A1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06BC4-3E37-493F-8199-F1FCB061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0B1A2-2271-49F7-BD38-9208FEA8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D5651-8851-4735-AF8C-C45F6A0D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16F-6630-4E9D-9D8C-A1253A96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514A8-981B-40F8-BDD5-A88F0E1B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3231E-45AB-43BE-ADC2-B034911A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0275B9-C6DA-4BBC-8956-2E6D4C70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0DBA6C-40B4-463D-8721-A007267D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B048F-55BC-4A4B-A64A-F375FA36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85FAF8-BCCF-43B5-9776-E15F7D87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6EAE4F-B6BD-4F0C-B603-B6C333BC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CB7BF-B86A-41D8-8694-8F89F5B7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14D78-5573-4285-B878-B4060599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439F06-91D6-477E-8A04-7D88BC6A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A8C72-5A53-4DEE-8BB3-7ABC7AA9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81089-EDEE-41D9-B4DE-71A0CF75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D3875-5E0C-4968-9AD6-83AFE1B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1FC26-0426-48E0-B36A-1C831846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2FB86B-4ACD-4013-85EE-BC42CDCE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F68C1-08C9-460D-8EC9-77799193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C4B434-F8B8-40A9-ABDB-4559E748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617-C84B-42C7-8232-D16DDF07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ADF-F96C-43DD-B04E-EE1F7B7A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25E5D-A8FB-4513-AFB2-8308568A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697-BE84-4B8D-9261-4C1CC119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3BAE2-1954-4516-82A4-FF9BA51B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FB7F-4F82-44C9-8793-AB250DA0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949C2-8377-4BF2-9285-0C96EF01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D0500-7CAE-4BBE-9D25-AE947255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D922-BBCB-4E04-B2FA-6EED29FD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5F83B-6867-45B7-8252-A7C3D4DE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CA379-05AB-48A9-AEBD-8C17D944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A9F61-16DF-4C62-8730-9B1E22F2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B3E02-C278-4BDB-8599-6FD72DCD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E90DF-DBB7-4000-B02F-98392468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705-250F-4BC8-A2EF-603B4499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8E2EE-E41D-4647-AE99-69765846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77174-FDB3-4E61-9EA9-13E6B553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93C82-3FD5-4C2D-830F-96370D8C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782C4-AFC4-4542-90EE-C8F4FE2C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4A075-1343-4B9C-A8FB-81ABEDCF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B50A9-58D1-4034-B73D-26D4475F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794A3-30CE-4D39-830E-6782E633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D57C0-1A9D-45E8-9620-14C3F739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7BCFF-3990-4E0E-B583-2667D336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31F2-E58E-4270-A0BD-796F34FB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2E2-E358-4CC5-B44D-B91D9876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BEF12-72CC-4DDC-A582-EF54B11F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DEB43-82BC-49F7-A26F-9351B3E7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6DF96-C741-4324-9DB1-B9DCAD69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CAF75-A0A5-4B1D-8612-85799F24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B342A-97A1-4AFC-B981-6A5984EE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8C697-FF36-4A79-97C3-863FF3A1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DEC75-5D3A-4ECD-899E-14FF4CA5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A74A4-D57C-41E7-94A9-2905D8EC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7A4AF-C724-489C-8842-744C8B4D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CA0DB-E107-44DF-B593-48B04EDA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46A-8653-4D71-9E1D-FA1CACEC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14AF3-7780-4A5E-93B7-80DF09CD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2B804-F9C3-4295-A2AF-14BDB854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4ECB7-67CF-4E58-A3E6-C05A94E5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8F5C8-727E-49D4-A7FB-D4D24889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BBEF6-87B5-402B-A9E6-68A084EB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6386C-9215-4DC5-B257-B07582FD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8245E-DCED-4D91-8DD6-9BC5FA4B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56955-C74D-44B0-85C2-809418A4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F9A68-485F-4DF9-8D39-73BC5CE0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D81E2-F401-4D56-BC73-08C12544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A21-2F8C-4A20-8DFB-DF2923E5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E4B7D-7417-4FA1-8F8E-0851E3AA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D5740-9E77-4AB0-8202-8C645436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C853F-ED19-42F3-8FFD-EBF48050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7F35F-3911-4BD9-BE68-35FC6A0D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528B3-7758-492D-8D80-87D37B8B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15ED1-797B-4C13-942D-05278E11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EBD80-7E9A-458B-A363-4BF51D2E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F5316-3389-44C5-AA69-20991629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3EAC3-424D-4299-8536-1C0A02C0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9FFF9-7F3D-4F48-B126-D7E289A2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B31F-1618-4648-96BD-583B442CFFB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96E4-1749-45F5-A491-486BAD7B2AC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617B-2DF5-481B-8FA2-BC8B0004031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B3F5-9BDC-4627-BFEB-CE993E13083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12BD-16E2-4E9E-963B-C5A2894327D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F683-3AFC-4424-BB45-F44EAE8F43D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D1FB-1655-4B4E-9520-2344FF57D9C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F716-C9C2-48D4-B431-A58B268D276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E81A-0A9B-497A-9488-014F5AE22BBD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2957-05FD-402B-B0D8-C6D9ABE3E92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EFE8-8943-4769-9B73-467E1F0DD80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56A9-5A5D-4415-8E72-E6CF6C6102F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D3D6-487D-489D-83A2-FE60E567A5F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C44D-7A59-436D-8961-5F55E60E148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C98E-BC45-4FA6-A101-271DA75260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5530-A3C7-4456-AB71-A0129B0365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3230-47FB-4A4B-8A6A-A58C79875A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8A68-1E57-4F2E-A9DE-3CAA3303C8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B8D7-46FD-443D-AC88-981992C845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A281-B277-45D8-923A-1B654AF7F6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2F7E-4E60-42FC-A93E-0CC2CD60BF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E41A-50FF-44BB-B601-4C9262AE9A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9079-9847-43DC-8C17-EA9CC761BB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2D51-C59E-41A6-8019-1B0A82E983D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63B6-E7C3-49D9-94C5-11A4C56B68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D2EC-512F-472F-A918-410FFBF510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F821-28D9-435F-A55E-2C18CC4CB2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C7C5-485A-469F-9091-2C6C042EF8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BE7D-3278-4538-A16C-B272263DEE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9824-5964-40BA-931E-6486CC3248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13A2-328C-4F7A-AC11-F934FC0BA1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232A-00AA-4551-9EB5-EF09AAC6EC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464D-25AC-4293-9495-44D5175F34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3F91-76CB-436B-9B4A-3A130E586C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4BBA-C5E1-47A6-A75B-976E4BBE98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B248-B398-4D10-89B5-3ED42CF02D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0120-4613-4410-B426-DA794A7B03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C995-B441-4F82-A84D-906CE40508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5DF7-EE2E-427E-800B-E868495508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B680-A9C1-48B5-A40F-B1A64D5D2B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4F1B-EE10-4AA8-BD57-DC2174F6C2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48F8-4FEA-4C7F-A3E5-3FB16B19CF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B56F-9F91-4A75-91E1-2B3628E79F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63BF-30C1-4FE0-9F60-02F2098732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56FA-DBDA-4F3E-9EDB-2FD6C7831B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1E2C-B06D-402C-B6B6-ECB04B0669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1483-68F7-43C9-8BA2-FFC2DE24AD9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F7FF-C711-4FB3-A94A-745A82D09F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BEE8-6BC3-45F4-87B0-17431A0A71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27C5-A0CA-430B-9BAF-3BD4C840B2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239C-C195-41C9-AFB5-C00C566529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F5F7-7003-423B-AF58-08BA0CBDF3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FE10-892D-4A30-A4AA-03E6E2C983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8636-9867-4E32-B79A-D4EC88C3D5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49A8-8064-4B37-ABD6-80061505F4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F3C6-9B2F-4DA5-AF3A-26E4416281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D26B-2D6F-4668-9A9A-5480463516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90B5-7909-45E8-9659-6D0D45D32A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08E2-D503-40CB-8578-020D0DF567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E084-2BA5-4D62-81EA-C0B9BE26AB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60C4-945C-4802-80E4-CBBBFD1C80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A220-CFF9-452D-BFBB-D97BC5F709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8AAF-6C21-496E-915E-A7021F0A49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EBAB-CA01-4801-BB94-E659C7AF6E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B535-4980-4F1B-8410-334A64E861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E4D7-EA7C-4315-AC96-CC4B987F43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5B06-DBF5-4466-ADCD-FAC9CF059D5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7A28-F402-4D34-94ED-12AD9EB41E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36A6-CF55-4974-9BCF-FDEDFD61CD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2309-D44B-4F48-90B3-1D2A584EB8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075E-26B4-4769-8927-C29357659C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735F-47A0-40F5-B593-34121507B1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9-08-06T10:47:20Z</dcterms:modified>
  <cp:revision>122</cp:revision>
  <dc:subject/>
  <dc:title>Aims and Objectives</dc:title>
</cp:coreProperties>
</file>