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EAF2-AEFA-4556-B088-4DF7D1466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F011-112C-485B-8C66-F9C01ED23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8856-8987-439A-9814-F06DE7446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114E-512D-486C-9806-044713335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5541-F318-4560-B4ED-3EAB53BEA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7BFF-40CD-4541-9405-30354E316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AC9C-1D3A-401F-A8EC-9D1E4273F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93F2-BEAE-4138-A87E-B026B8DEA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96CC-9EC7-4A34-A3A0-205FE21B2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4004-2134-44D0-8238-F2323E6F1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40CE-DF9F-4FAC-8AC0-9A1CF1A5E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CBCA-5F61-4388-87CC-545FF3BE9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8585B-291A-498D-8906-702E17A1D0E2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FROM R BITMA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2305080" y="1600200"/>
            <a:ext cx="45338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5T13:05:45Z</dcterms:created>
  <dc:creator>Peter Watson</dc:creator>
  <dc:description/>
  <dc:language>en-US</dc:language>
  <cp:lastModifiedBy>Peter Watson</cp:lastModifiedBy>
  <dcterms:modified xsi:type="dcterms:W3CDTF">2011-07-05T13:11:43Z</dcterms:modified>
  <cp:revision>1</cp:revision>
  <dc:subject/>
  <dc:title>SLIDE FROM R BITMAP</dc:title>
</cp:coreProperties>
</file>