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170D-B5C7-419C-B421-5861193978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CC6C-EA1B-426D-A073-A5E0E42DC5E5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CAA4-A9AC-4A40-88B4-FD126BB67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FFC6-BA7A-4FE8-9627-0C2099D34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EF57-BE05-417B-932A-3F391591D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9BBB-B964-4F21-8FE2-CB50E3640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315C7-73C2-4F80-9347-B5F290152A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5D5DF-05D7-49BC-B376-1CCC2D3A1B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8518C-B246-4104-AE72-611C850150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304A-6CFB-479A-9866-46A6BAE82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12CCE-0ADA-486C-AA2F-0BAF8F918B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10DCB-C526-46F7-A6DD-95889BD47C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23932-E14C-4AF2-9CED-C8741CCF66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A839-DE10-4F42-AA8C-C5DB4624D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05422-D7A4-4FA5-80A4-11FA8FB86B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D3075-AEA9-4CD7-853B-3EAA2ADC09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0F313-23F7-4934-BBBB-72B26D8847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3785F-65CB-493A-B04D-1D919D902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98604-8685-4F72-A0A3-06F479459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B3148-0B8F-4CCD-B9C4-834E820E5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CD35-B468-4540-981F-9EC1D7813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0EA4-98D5-4582-B5EE-2B02AEAD6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CB67-3CA3-445E-806A-86736E2D4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62B4-07F3-4FC4-8B04-B30B87332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E7BB-4F9C-4540-8E2B-FCB8B9F40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DB86-0DED-4BDF-8FE0-334BE1484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91F797-CCCC-403D-8984-1C02B125A59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DC56FDD-EB77-4DD9-B26A-7386240F7E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6019920" y="204840"/>
            <a:ext cx="245268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5651640" y="306360"/>
            <a:ext cx="28749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9E8BD8F-19B5-4EF5-B8FC-E1489654A60E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5A5B89E-1746-4D61-91DB-F8ED2C04EF9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9-01-24T10:29:08Z</dcterms:modified>
  <cp:revision>352</cp:revision>
  <dc:subject/>
  <dc:title>Exploratory Data Analysis</dc:title>
</cp:coreProperties>
</file>