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8B14-98E2-46E5-8E40-9E82FC5CE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C110-0A6D-438A-BCA2-FA52D9091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0702-6432-4175-9928-4566D3077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0144-AFC8-45C1-95FA-5FDA1B0BE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A815-F590-492A-9219-436015799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9E71-54BE-44E2-88B3-9CA11C7BD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328D-585B-4149-A146-E9695C2CB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5668-B6C7-4608-B7A3-7D394D502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37F6-63A0-4CB9-B22D-DFD90F2D1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98B7-D45B-4420-B0E8-A8FEE76B4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501E-A864-4B1D-B30A-659A8E36B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BEDB-0F12-4FCF-A9C7-3B3161DFA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4E2B4-6E1D-4272-AD06-780596319698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g_name~ 50.tif"/>
          <p:cNvPicPr/>
          <p:nvPr/>
        </p:nvPicPr>
        <p:blipFill>
          <a:blip r:embed="rId1"/>
          <a:stretch/>
        </p:blipFill>
        <p:spPr>
          <a:xfrm>
            <a:off x="585720" y="507960"/>
            <a:ext cx="7959960" cy="63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4:15:07Z</dcterms:created>
  <dc:creator>Peter Watson</dc:creator>
  <dc:description/>
  <dc:language>en-US</dc:language>
  <cp:lastModifiedBy>Peter Watson</cp:lastModifiedBy>
  <dcterms:modified xsi:type="dcterms:W3CDTF">2010-10-04T14:15:07Z</dcterms:modified>
  <cp:revision>1</cp:revision>
  <dc:subject/>
  <dc:title>Slide 1</dc:title>
</cp:coreProperties>
</file>