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AF31-65F4-4E74-B9E3-C8AF4E691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31017-A8DF-4B35-AB45-8D8F147D6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A7B0-0622-4565-B1E6-51CAA0400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D347-7303-4DF4-A72F-03537D7DC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B13C0-E123-4417-9021-63DAF8E42D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7697D-09B0-452B-8FF1-8DD13BCB39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35D57-0E14-49D0-9EF3-BC23919A29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4CC75-CC14-48DD-BDF0-6025868BA2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8187C-61E9-461B-A288-5258C5976C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E9D74-6D66-4DF6-8A77-678B9C80B1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104E6-611E-41F0-96C3-59DA1D21A2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44649-CF89-4F99-AFC8-72BE6C4F2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DE401-AD88-4ACC-B5F0-818E0846CE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79959-CF39-46E1-A5A2-35C88F9F50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20C4E-1F38-4CAD-8734-AE1826FECC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2A408-668F-45AA-B6F5-097485ECE4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68732-0AFA-4A62-AADE-E733696DBA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FDF3-C306-47B0-B040-964ED1375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F8F1-C5C3-4518-89FB-6E9AC476C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DE970-615B-42CE-BC54-C6DF1B1DB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5DD64-E285-44E0-A473-0AC400E44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7FA9-FFA1-4103-82CE-1292262C3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8389-4ED8-4010-9BD5-B73BCE6EB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5092-DC09-43D3-8004-B8CB6CA61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469046A-4D31-4B2E-86B0-DE01FF24C73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D4512E4-46AB-4731-8FBB-9DA5D07B31F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0226F98-4E1E-456A-BE63-DB76E49550D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0314AEA-E320-4C99-A608-28AAB0E0EED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C855-9B06-4544-836D-913C2B1793FB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4-29T15:26:08Z</dcterms:modified>
  <cp:revision>340</cp:revision>
  <dc:subject/>
  <dc:title>No Slide Title</dc:title>
</cp:coreProperties>
</file>