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0664-2872-427F-930B-1F2E4120F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16C10-9C9B-474C-B84C-3B991E53D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267EE-F9E0-410D-9F76-186DD9940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DB187-0DD8-4CF3-B0F7-064CD544D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9C693-C1AC-49A4-93DF-D3C8600D5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03463-C73E-495F-ABD5-116F3B6AE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DA364-0E37-4C6C-9F46-1F8AA4A1C2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EE9EE-C59D-4DCA-9490-E120A28C91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3C50E-C226-481F-984F-0040FB541D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081D6-ABD9-4357-9D01-7F0A684383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2560A-DEB4-4879-B2DD-5D9CCEAFF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5E8E4-1FB0-4563-86A7-F11B95F99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358A6-A242-4666-8243-16F680FDFC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AC80C-E76C-47F7-9592-FF9AD906D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1FEFD-5D4D-45C3-91C2-97DA282746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727BB-6CF2-47C2-AF77-E660C3B36A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D203E-ACEE-49F7-9DF3-2699A43D9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4EB-B95F-41D7-B05F-28B8B5525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8DE4-66E4-4627-ACCA-645B2BD69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DEFF-B978-42C2-BC67-CDC67C08F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992C-3DFC-4BC5-A9E7-039E9C618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A7FF-2EA7-432F-99B6-B184E0A1A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2143-CAA2-4408-9A76-920A0EAE6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FC70-94EB-48E8-9D38-B4BB9F1D8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F876306-9793-43DA-8181-B582C11543C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4FEC4B-7C7C-4267-916D-0C75DA3B667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724360" y="260280"/>
            <a:ext cx="2614680" cy="61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167440" y="404640"/>
            <a:ext cx="3292200" cy="535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71F396-B430-4825-B9F7-9336C6BABC24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74A0778-7E80-47CE-BDE0-1DC7F60F1D1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DD3B-2C48-4FA9-A6CB-4080D9A02E0A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9-04-29T15:26:08Z</dcterms:modified>
  <cp:revision>340</cp:revision>
  <dc:subject/>
  <dc:title>No Slide Title</dc:title>
</cp:coreProperties>
</file>