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ACB9F88-B5AC-4343-8BD6-BBE339376596}"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52B3A3D-F560-4D45-AD0B-36DDE995F0B8}"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BED89-2E63-4A3B-AEA5-933294545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8A9AC-FA8A-42E4-A8FD-60D343BFA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667E0-3D51-4FDE-BAC0-5703A0F91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53201-783A-42E5-B086-58BA7E6EB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BCC3C-3F13-419F-B4BA-1C84508C1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5F46E-E816-469A-8DC2-5DC190739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43888-E70B-4661-86F1-E7782737B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D2191-C052-4872-B534-9E9F56DD5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6DF63-2855-40B0-8D72-65FA4BA86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9D6B6-E32D-4E20-AEE8-7626285D8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221E1-6AE7-4638-9A0B-E219FD49E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940FB-B9EF-404A-9801-9D0AF3ABE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4141-D888-4521-B035-114633150CF7}"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7F7D-C674-4A01-93BA-48DD995F2D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4FDF-5021-44F3-8DE1-520F5CDD2B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837F-BB0C-4CC2-9610-74FEE8FFD2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1EE0-A6A0-4A73-A14C-AC51307D29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3DB6-F969-4B81-82E5-D402F81150B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6CA4-AC8D-422E-8F88-96990B961C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4031-545D-4FB0-A899-7563762DF8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6ED4-C751-4A5B-A1C5-52EE191AA9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2E82-00BD-46DC-8C62-0029C0A04C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754A-1472-4AAB-9568-574E08B231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B054-8288-4691-B39C-F7ED783B57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6F86-5AF2-46CC-8230-357E086F6D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2047-6722-41A4-AD7A-CC9AE856E55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6896-9699-4532-BCA7-8410A6E9E6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260E-AAAC-4B7F-AEA1-53BA7023FB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2C2C-E19F-41C1-BC0D-71D820B7CD1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5A63-E2AD-4B57-97E6-1123375B01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C67D-A13B-4603-B6DC-FA1FC5B69A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94D4-2005-41C0-8966-5EE68738FF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D7D9-07B1-468E-AA9F-DEA471C9AA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840B-9D97-41EB-90B6-99D9017A0C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EC08-25DD-40B5-887C-EFF00EDE6B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27A6-BBD2-410F-A717-C863E4B73B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B1DE-2E1B-453F-AD26-DED63F0913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C331-2EDC-4165-8C61-3A4C09E362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D0FC7-E1A2-48A2-8529-F2FF8F2D4F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A7ED-F00D-41B8-9CFA-CF17B18971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D208-70A3-462B-9C8C-F3B9365321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D1C0-64EA-436F-98D2-4B251E4B16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1BAD-69DA-433F-9321-6875B3F878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EBEE-5B4D-49B2-8246-A87F416B87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A614-6033-432A-BF06-66034A11E9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1C37-650D-42C1-A8C4-79A1ABFADC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A073-09C0-46B4-87C8-C5AA8B2FC03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5132-C957-45DD-A164-D7C14C476F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5D14-2A75-4F12-A3E7-B12182AE1A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3681-50B4-4615-A8B7-D81D7EDFA9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075F-D4CA-46E8-A59E-F1C40ED247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BFA2-130D-4654-98BF-4D191E5658B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EE80-5FF3-4758-A423-B7AE57A643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6137-10B8-4C84-BD1B-6356A8AF71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1-24T11:27:36Z</dcterms:modified>
  <cp:revision>73</cp:revision>
  <dc:subject/>
  <dc:title>Aims and Objectives</dc:title>
</cp:coreProperties>
</file>