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1664366-43F6-42E9-A48E-38C145A9325F}"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A73C89D-D5E4-425F-AE7D-1986BAE575E6}"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41C1B-F7D8-4168-8EBC-03585540B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D5C9A-B841-4110-9B7F-A7BAC48C5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778BA-BDD2-4D58-B6EF-B02C45E84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A0CD1-D8C3-4CC8-A4DF-52B2B1E2B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E705F-2712-4908-8588-8DB27B225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152E8-564C-4804-A5C1-3E7315E18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15904-0417-45D7-840D-14C9B6A2C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300D6-702A-4406-82AC-DA31BDA2C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0D1E1-24DD-473F-97D9-A6AD86395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D6787-E393-4A0A-ACCD-E95329F55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E042B-3A40-49AA-A1AA-BCE00C5D3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E830B-FB54-40A7-AF92-491A504F6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89DF-D5FF-488E-A6A0-69B018391BFE}"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172E-D7F1-4C79-B23E-E823200BAE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BEFF-B149-4C60-82F4-0861C38AC7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3D55-7C32-4580-9258-2C1809D942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7DB3-271A-4373-9C1C-6CA7ACFC36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29FF-8D8D-4B00-A8F6-4154C38B23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610F-BE4E-4800-96A4-57FE9EF1B2C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9F04-707D-44D8-BA67-D120D793B9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9B2C-D8B5-4AB4-AA30-1007D81CB3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0977-4B05-41DC-8F32-CFC3C7EE6E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6C26-2078-4998-B378-4018C44868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69A3-374A-4E4B-99BC-C789783AA69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1F2D-7C76-46E2-9FFA-2484227B13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76C0-A76C-4C4F-B8D0-35659D777D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0491-AFF5-4B4F-8578-2BCB23D8EB1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98AD-0693-431A-ADFF-7479ECF9725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9AB3-EABF-41C2-BD5A-007DD6FBA0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6DF6-7E24-4C5F-B66E-02D4A12267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0EA3-8967-45C5-B1DA-2B8308FD9E9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6389-E0EB-498D-B7ED-AD0A879FD6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46E1-6E6E-4830-8597-A6F0FD228E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A9D2-91B6-44C4-ABE1-DB1981CC5B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39FC-3C81-4534-851C-1CFEC8F0C2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2069-E9A5-40E5-B430-3F0E8B572A7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84D2-1D6C-4479-B0D1-795CC556A1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5CACB-CC46-4927-8987-425321FC44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1110-56AB-491C-B5E0-D7A0E46D81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62B0-77A3-43DA-89EA-CC26479BBC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88CA-4C95-4610-95D8-2D17221AD1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A81D-F61C-426A-8F54-4816EB66F0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1D43-8A06-4B24-B3F0-A80D5378629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7166-202A-4368-99D9-2CB53716E0D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88B3-6011-46F4-B779-0FD0F896C8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3BF8-0A54-4A80-8E88-C6C5B29BDC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F46E-FB9F-4E9E-B019-0BEEF65DFF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EB15-1A5C-4A19-8C80-9EAF3C7993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4BB1-F554-4E4D-94DD-FBD91D0096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D98F-AA51-495F-A182-93D11EF4F8D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A7BF-8B3E-4F5E-AC1B-5EAA746455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CEBB-5C84-4EC1-9860-54301B2110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9F67-463B-4120-B3A9-5780E43F97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275A-9FD9-4DC7-8373-A542EC8909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8-06T10:54:04Z</dcterms:modified>
  <cp:revision>75</cp:revision>
  <dc:subject/>
  <dc:title>Aims and Objectives</dc:title>
</cp:coreProperties>
</file>