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523D0F3-5C85-40F3-B4F0-FAC4378A1AFB}"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C8BCA08-2BE2-46B7-AA32-2907EBF752F9}"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CE636-97D5-4A61-9A8F-F2ACC95D7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D56AD-027D-435C-AB24-64E1FAE72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DAB50-75B8-4A9E-A891-FF219849F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09FE2-05FF-4A14-8EF8-9A39153AD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10B34-D052-4FB2-AC40-1387AF5CB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BE613-A3FF-4DC5-AC84-44B29A8B9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6D552-28FC-43FD-BC6F-31455CCB4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C9FF-95BB-47D5-881F-F98A5CCE3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08DD1-14AF-4EA8-B641-57C7CFC2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DBB05-21A6-433B-B434-97A0750D6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F6C70-9481-4895-9382-0E4E3A629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20B1D-FEA5-4853-8FA3-B1BB3AD5F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7B508-B0FB-4955-816E-038F11CF8D7E}"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FF32-6536-4117-82EF-AA4EFBDDC7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0A8F9-323B-44A7-8DF4-C4D96C0255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4B88-86F0-4E20-B6BD-0148DC92801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B51F-70E3-4543-A1BE-C2FE97C1B0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B7B69-C4B0-42D9-AD11-5E6C81DD1A0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21B4-B289-43C2-8583-78F00DAD67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69B6F-A6FB-4A90-8598-85DE8B24DE4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9362-9AD3-4E46-AAE7-DBCEC995625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ADE5-4DC2-4560-ACDC-05CCF4E359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DE446-2DC4-4461-AFA4-DC4AADC2D6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D33E-0813-4F7A-A31B-B3808D4CB9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A3B1A-0A8D-4662-ACFB-B117DE6102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6EA7-671A-4FE4-939F-5F2E3338B03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B287-A1BE-4E8E-B3CC-808285174BA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E746-7A66-4C70-BC75-D0FFC04956D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BD44-1EBA-49BD-BAB4-1E87BFAE06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F4D8-CA4A-456E-8C90-B96A385CB7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AB002-8324-44E1-B71C-A0F27C9CA79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F168-044B-4F8D-B953-0BE70BBC0B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2364-6797-4D4D-8A73-98BD95076B3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19DD9-791A-4C10-9EE7-F56D473220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6653-84E4-40D1-A734-FE0A5EE738E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A79BF-9AB6-490E-9F4C-57E637C54E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B349-7AA8-49B9-9D84-09FDD82DD4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301F2-5148-49B2-88ED-FE546BFADA6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AD3A-249E-43AA-BC72-5480638A001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D1954-B5EC-4B17-A2A2-6439881FC1E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0542-4307-4D0E-A53F-836D023F5B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69F8-985E-4E3F-9D62-C87889FDFB0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67BC7-4290-4F17-8DE9-4D01DBD3507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C72B-2323-4D0D-80AA-4CD7B90E068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97E74-581C-4A95-B4D7-CBEB8616F61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73638-4745-4E92-AC4C-40D130ABEB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3478-4226-4921-8779-59D42EE2F8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F622-40F9-47EF-B48E-37E790F6EAF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A535-46B4-4066-ACF1-AF1298A1A8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1C42A-05F8-43A4-8633-ED9E333B51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80E8-9ED8-422A-B7E0-D13BBC8566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CAD4-D872-45A6-A83A-9CD969814E3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AE05-A02C-4A4F-9022-6C8C78C511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5B049-4CAB-4742-AA78-536C51BA425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8-06T10:54:04Z</dcterms:modified>
  <cp:revision>75</cp:revision>
  <dc:subject/>
  <dc:title>Aims and Objectives</dc:title>
</cp:coreProperties>
</file>