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A5E7859-046D-47CB-A4F6-C681D8F07B2C}"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7AC8EA2-BB8D-4006-9375-2ECC27C8ABC5}"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F24B5-79C5-4E98-BFC3-0243050CA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47425-E994-4E98-9B65-84AA0F691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FA4F0-DBA8-4526-959A-19D598BAB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9B545-F1CD-4CCE-BEC6-9CBC668F2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C5F81-4AF7-4A47-9D50-16328DA24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0F57C-672D-4742-8E66-01915973F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25532-80DD-4338-A453-5BD812DBA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510C2-7F90-48C9-B954-54460E43C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F17A0-A0EC-448F-8194-A3B984AAD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CE015-3745-4CF3-94ED-242826254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29432-81E1-499C-B359-89A4E7506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6E97-EBA9-4E95-9E7A-9FDFA9A56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B7BB-18F5-4362-A0E4-DE231E84922F}"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51A7-93BF-4FC8-ACCA-5DA291C38C8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AB5A-891F-4585-9105-1E2AE6A9AA6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E6AC-F144-44D6-93B0-34E0B4E5235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C086-BE97-49CA-B408-B2363E6676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86E9-0BA0-4F0E-AF4B-8157C1D7B93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4115-C1B0-469E-BA84-06CACE4948B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4156-38AC-4BDA-AA2F-A4A6BEB87BF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B910-F079-4177-AE47-748A66ADD34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B804-4A46-46CB-B9E2-8D2636D7EFB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4C08-5BB6-4A5A-9351-4B786B2397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080C-BA38-4619-92D9-CA75678BB9D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17C0-64FC-474E-A12E-33EA2C7456B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5027-4373-490E-8199-D0D71AD425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1C49-83DC-4D54-A528-F55B0675FF8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D063-E799-4C15-B196-2D72FAAB67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9F83-78F7-40FA-BA08-D1E06833892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65A0-7585-4F05-A9AD-95DE8EC50B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BB50-CFF5-41F6-A3CB-842A15EFFC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B92B-47E5-46B1-B4B4-6501F3E337E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B34C-D02E-48FC-AC53-EDCD58C370A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C10C-2F84-47AE-A2ED-6C5552CFF2F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357D-4A1E-4864-A7D7-6DC9318518E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1663-0A46-487B-B44F-E152EE027F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7BD8-0C49-4408-9631-F885C3BA147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8A28-2869-45F4-9314-E532CE20C0D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46E1-2676-42FA-94E4-6B1F66E0B0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13285-5B19-4410-9896-E51EAD13352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B88B-C287-4640-80BF-BDA84374016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1675-85C7-4103-9292-375FBF068A3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90E2-7CA3-421A-B91B-FF4B2D04AF7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0720-5BB5-4FBC-9333-2801768C26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1DDF-DDDF-4AC7-9C10-D498799AC89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BEBF-0D0E-41E6-B9AB-493A85A5120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8E66-0450-442A-A3A6-46F7D1D89C1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2650-632F-4886-819F-8773BAAF506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AF9B-1D91-4F7C-BCEC-13FB78D1E7E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4835-77FE-4158-9864-656ECA9656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7B010-0E2B-46BB-8983-AC2AFF91542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CC84-5E25-4138-9F12-13978E138A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BEAE-2ADE-40B3-BB58-D9E56ED992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68FF-EC1A-4706-BD98-78A68B99521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1-24T11:27:36Z</dcterms:modified>
  <cp:revision>73</cp:revision>
  <dc:subject/>
  <dc:title>Aims and Objectives</dc:title>
</cp:coreProperties>
</file>