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098B-CE58-4772-AB1A-041D21D3E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787C-7536-4911-96E5-1564FC9836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34BB-8DB0-4D6A-8B74-87CC90C256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4921-548E-4544-B35E-A192C49138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9A9E-0697-4211-8CDD-7AB8B09399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5122-8BA6-4692-834D-874F76A03F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59D7-CC68-4D81-A521-146A85C704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65B0-AD90-4DBA-ABC4-8A16FF644F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BD93-80C0-4F7A-8C51-C88EEB282B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6B77-3A37-4DDD-839B-CDD8FBAD7B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031F-5358-41A9-81EC-2A40F8EB86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47F0-EB2E-4ECA-966B-FE41D872BB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0870-4D72-4E6A-8FA7-53EF8AC087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3805-0235-4E9E-89C3-9C15AFF6AE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2D5D-9925-40FD-89FA-62B086ED2D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C37C-C6E8-47EB-A3EE-3A5A84A315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B75E-E6C5-454F-8BC4-FBF462F629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C0DA-2906-4570-8E8B-839DCAD8F6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7968-E34D-4AEF-9EE4-C24946D8419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A59D-A9E8-47B6-9D6D-C43E0FDC18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BC8-5CC7-4744-87C6-4C78B7C828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9805-CAE7-4034-8A82-B11690E7AB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C0C6-461C-4A3C-B4A9-A0F846735F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9640-BB2F-4239-B73D-E10B3FDA6F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CBED-CE69-4807-A08A-7FF4AA99C0E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4238-51F5-4BA7-AAF9-53B8265937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8AE4-DB0F-4815-8F14-01D031A356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8441-E7E4-43A5-8503-E43C02E284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E0D0-E8CC-4878-B867-2842C5823B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1595-7BDF-4D96-8465-D0AA7DCF2C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BE59-F13B-4635-A8B2-03940D94FC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3C1C-77C0-4B38-AC18-D3A43E4CE9D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1580-D7F3-4249-8C8F-BDA749ADD4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2725-A9CD-4740-92FB-13E7DF8991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6BD6-5CE3-4BD7-8D98-B43E90C99A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E3FC-340C-4A28-8ABA-6851B86A7A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8215-F3D3-4DEA-8F5B-E165C07ABE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0271-4C48-4F96-8F45-E974BFA107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6FD8-CD2C-4D77-8351-9D7603D780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95A9-0C18-4EE7-B2CE-E4362AB402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1361-A533-4799-A81A-BC182801BF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D1E6-444C-44D6-8CF5-8842A0AF23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68B2-E633-4A48-83AF-8892E94FC2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9A86-F325-4B52-ABC2-F52521E740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5F4B-F89A-46C9-ABCE-6C5B5192E4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BEB4-7470-4176-A693-4AF7B712212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784F-174D-42DF-9C07-68E04F0D009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3C52-D431-4A65-BB97-9521B170E9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2D9C-B6DC-4420-9C4D-19A1AE5590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81EC-F2A4-4652-B2D0-0FD7E39925C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21FB-1B13-45DD-B06E-BBBC8051494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955-D552-4644-946C-B9C7D0FAF0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2B1E-A745-46F1-AA3E-7F09A9DC56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675B-BD35-48E7-8644-15FA7E73BE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A9C-BE96-49D4-84C6-7F959F5C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75F-15A0-4C1E-900A-4B5B511A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617-B467-40A0-8181-C2A68DD8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40B-0420-4D87-9E4A-4A67232B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55A-929F-4D7B-BE48-2F72BA5F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D51-EA82-47C4-86EC-A4826145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492-ADA3-4EE6-8398-8BD06946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AE5-0FDB-4910-AE9C-8B357716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3A4-3C75-46D3-8DE1-95D19F1D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ABD-2498-4956-8C99-BC54B73F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54C-0084-45EF-ACEB-1FB8BACE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6EF-50D4-4E41-8264-A845CDAA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4579-7C4B-402C-83DB-A0F781A093A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9-11-06T10:04:15Z</dcterms:modified>
  <cp:revision>115</cp:revision>
  <dc:subject/>
  <dc:title>Aims and Objectives</dc:title>
</cp:coreProperties>
</file>