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5288-90CB-4323-AE7C-E446C3CDE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EBC2-F488-4D43-B7E6-A85420F4A29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1132-1326-4772-AD37-99F0895E5C0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1334-2EC6-47E2-83D9-6E354865E92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C146-5427-488C-BD07-89AE8694927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F788-4C97-4CFB-92DE-24EFD56AD75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7EBB-D645-4174-BC76-CCAA4332AE5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06BE-D755-4C56-8760-913D7BE8A9E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3A65-322F-4C61-AD59-4B12660B702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0C07-2CD2-45C2-8534-1EF64D0ADAA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5DD3-5ADB-4877-B7E6-A87E9A726D8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A502-11F9-4874-8C61-95F17DA2044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1E29-BA6C-452F-9962-9555990091D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0F48-D570-4D1A-82A9-17D17C62221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3535-957A-41BE-8469-B4D220B26A8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9705-4921-4E65-B053-3F9CFEBE9FD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F0B6-3EE0-4DC1-BF9E-DE8D63FB812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FC66-3A10-4D93-9CDD-B57A3B9E6A6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E008-A4FB-4122-99B5-12A1630503F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9E9B-282A-4C3D-9987-6171ECC0240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D456-2066-4C3B-B953-BDF8DDB67FA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7115-9473-4992-AABB-3692AACDFC4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802F-0CC4-4B72-BA37-583DEDC7CD1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5EDF-5D32-4F81-A0F5-A7BEA3A35E1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6954-4C69-418E-8DDC-1B29202D87B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92D1-609E-40E1-A8FB-96B26AF92B0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44C9-9E0C-4B58-9E8A-E8799725D90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340D-3CB4-4A03-A615-56317905204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1035-F0A2-421B-8F92-E27E7053FF8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978B-8C25-41FE-BBD6-AC143E6D1D1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B87E-BB4F-4616-9EE4-6B48AC9A353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F634-6BD9-4859-B265-C2DA9684784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83B5-15E1-4C22-980F-0E6428CEAFA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BE14-E643-4647-BDD1-E7BBD68F4CE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FF8C-8442-473B-8265-D393ECF9359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1E15-49F3-453E-8747-643EF608336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CCE1-AE3C-4844-9ADD-B6E90B6B49D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0A88-A791-45AC-8E20-51B60FBB80D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8C8A-5E2D-481E-AF92-7BF9C3A84B8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CD40-67ED-4C9E-85CC-3905669CF36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4A51-C0E4-4F52-92E8-020B625187C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7421-1936-44D4-B791-2AC8A8246B0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237F-2828-4EDA-8E72-7B71F82CAA4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4C55-683B-4E23-8FA5-DD24F8A3EC8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12A6-364A-4059-BBFA-73DD14E6D87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236E-8DC8-4761-864F-03C5BD25BE0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A22B-E186-4FC5-98D8-F1FF361DC2D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B842-60A3-4E4A-A066-7E48921744B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293C-3CC3-49A7-889E-9F90E9C4FA9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C3E4-AE92-457D-AE5A-80FC6F6F13F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46D1-B2C4-43DC-8B72-443C9C5496D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D3D6-2FF9-4527-BA64-71E0F9967B5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D0C4-F388-4F4A-BA5E-8DE36F5084A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3D3D-9497-4B28-A1DA-8C3D17E9536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06D-5A26-42A9-AE86-1A2D8E1D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F88D-B734-4514-ACD4-1F9D9218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EEA9-8CF2-4C9A-AE0D-DE594462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46C4-F979-4329-B558-20EBF0F9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558A-02A4-40E9-8D7C-A04670B2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5D3C-3F40-4C0A-B685-9586FCC1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4D59-1698-4352-B594-314C3973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17EC-02B1-4D08-AC85-3C26000A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9430-786A-497E-824D-70405716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A7E-5FCB-431F-ABB9-1A08A31A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C7A-DD14-42E8-A086-1A7F3305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185D-E10F-4060-9741-2EE68934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C366-B8AA-47EA-800E-C3320615BAC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 Field (2005, page 336)  using a “more conservative probability level” when using non-orthogonal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Number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9-11-06T10:04:15Z</dcterms:modified>
  <cp:revision>115</cp:revision>
  <dc:subject/>
  <dc:title>Aims and Objectives</dc:title>
</cp:coreProperties>
</file>