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75FB5-7C50-46C3-AC84-E831647C5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ED74-5AF5-4AC9-A72E-EA90E21B5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6AD6F-BB2C-444C-B9CA-FBFB1406C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EC4B6-BC73-4B8A-BA8D-BEBDDC3C9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4249C-578B-4B5C-9EBD-EF2099B8BC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CB7B2-6704-4104-BC90-05476A33BD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8CE64-8E41-4290-989E-F1EA4A335D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CF44F-419B-4A9B-B22C-F37CAEDFB0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22586-16E5-44EB-B6CD-A2A87070FC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0C95D-89F5-4D3C-AC80-FC50997E71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CA942-5F46-4986-8AD5-5751A882E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036A-49EE-4DCA-B678-EEC418451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B4BF7-D31B-456C-8A89-A68E1D13C0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92BFC-4A6E-41C9-9129-0D555E5197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C6900-0F72-4FD7-8E1F-AE71D2C61C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D1E6B-BACB-4E9F-B4DD-D156497938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E891E-3D2D-4D36-BFB1-A0892912E2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5D15-64AB-4503-886B-5E7000292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D2C9-0AEB-4504-8A39-0BD520685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00B40-B551-4E9C-A6DB-3A8EEDAA6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220D-C2A6-4A0C-A433-FAC85EAB1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2267-F557-41AE-A92D-1BBB64D9E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D0D44-AAC3-40A6-8727-04EBC8018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9D9B1-7056-4D3C-BD2D-325F43523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718F9F7-16D7-427B-9F5A-178198AC445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AB23285-E0BA-4EC3-9BA5-50E4A82D8E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0000" y="260280"/>
            <a:ext cx="290844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38040"/>
            <a:ext cx="2504880" cy="590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67310C3-BCE2-44A0-891D-8D13305FF53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117CB47-850B-409A-B016-5B9F594717C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9-01-24T11:11:59Z</dcterms:modified>
  <cp:revision>257</cp:revision>
  <dc:subject/>
  <dc:title>8: SAMPLE SIZE DETERMINATION</dc:title>
</cp:coreProperties>
</file>