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13E2-617C-47EB-A7D6-71A1912C4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8CDF-B5B6-478D-AE39-B9B16F7C5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CCB6-FEF7-4B3D-81F1-5AB52A7C7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D8D7-BA3E-45E7-9E83-2931754A6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0D246-507D-4359-BB26-4141832EF2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2AD74-15A5-41C3-B335-0B74D844A4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14579-A939-4AA1-ADCF-4A60466147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A9C33-1677-4E12-9C3A-34677E23AD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7B27F-7E87-4C82-BFF0-7DBFFF774D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DE538-C7A6-41E9-8227-977A0A9A78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9C990-FCE9-4424-BA48-D1B9CD985C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7391-4D7B-4840-BCBD-48B815CB7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7C11F-B809-45D9-9EC5-EDDC1BA533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10358-5938-4D5B-97F7-A9AAA7207E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71989-5904-4C98-8885-2BD43A796C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AFD59-851F-4644-9725-6008BCC124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EEA46-C92E-478A-956E-C4C18EA591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505E-21AA-4C93-B1CB-5432E8F19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09F5-3F84-4E49-96E4-2F9580BFE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5D23-AD8C-473E-9DF4-59E36D86F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EE4C-2EAF-4D2A-8FA1-B73E9AEF6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3F12-A8B9-45AF-BEF1-BEFA3D93F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A0B1-7E8D-435A-9C65-DB2E3B059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133D-8AB5-4B2C-B4C2-EECF34F24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FCF5903-4168-4C94-9A0D-0D17C4D2005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20D77D5-66F6-4E08-AAD3-A243BD10A3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54304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26880"/>
            <a:ext cx="2938320" cy="42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E6F056A-D100-4121-9769-D1B35B441B7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2DBCF1B-8789-4885-BAC2-8A57D6AB8AF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0-10-08T11:59:35Z</dcterms:modified>
  <cp:revision>318</cp:revision>
  <dc:subject/>
  <dc:title>REGRESSION ANALYSIS</dc:title>
</cp:coreProperties>
</file>