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7E6F-11C8-4B86-B365-416439CB1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A96C-852F-4C39-8B3B-8B4CECC6E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585A-A58A-4D02-8B0A-BB4795B8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7674-BFAB-4A23-AEA1-E5CA8B5CA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E0413-C97F-46EA-A205-93E5AB3826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E0FCF-7E2E-4574-9471-BA5BD5F6A5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01FDA-DBFF-4433-9FB5-72E3C0D57E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CBB19-E511-4774-B719-0C054596BD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D6509-98CB-4F54-9DCF-2CCC60221D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CA06D-E9F3-46BC-8F83-1A0EF87AB2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DDAC3-2F86-4CE6-816E-D1EAEC8CB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C02A-DFF3-4450-BE42-D209E25F0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1120E-205A-4324-BF67-EE428CF6A7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3A24C-161B-461C-AAD9-D6336170FB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520FA-255B-4CDC-890E-A17CDA7510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3F80-AFAA-4F3A-8944-BF7372B040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B90C4-22B1-4A03-92A7-C65AD5068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E156-85BE-4720-A7A8-060A8CC6B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FC82-E2DC-4190-A1D4-2F5721A37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1AD0-50A3-4C40-AAE2-54A412DCF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A3FB-F2E7-4DA7-B37B-379A36319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8296-0426-483A-9FEB-8C453E919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DB92-E5F0-4BA8-805E-72C9EAEE0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4209-7448-4925-A456-37BE33DD9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F1E5049-02A4-41E5-A43B-97E2948C739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CB57709-044C-4212-8565-4BB7D04C1E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54304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26880"/>
            <a:ext cx="293832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9262181-DB2E-463C-9761-816FC708BBE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C7777EA-1162-4A0E-BBFA-2573B514989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0-10-08T11:59:35Z</dcterms:modified>
  <cp:revision>318</cp:revision>
  <dc:subject/>
  <dc:title>REGRESSION ANALYSIS</dc:title>
</cp:coreProperties>
</file>