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1.png" ContentType="image/png"/>
  <Override PartName="/ppt/media/image28.wmf" ContentType="image/x-wmf"/>
  <Override PartName="/ppt/media/image16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F6CAA-7468-4327-A8B1-992B7B050F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40326-E133-4B7E-9CA6-A277E2208D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66FFF-5931-4FFD-86E7-F60FF75D08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7B5BB-1F96-447C-9289-4541B8877A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60FC7-2A5C-408A-92D8-CF38FE3C54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655F0-A2AD-492C-B234-5667D85BED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AC3CD-21A7-479C-9CC0-3E478116CF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5806F-4745-4FF6-A062-188EA30DC5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4D8F43-2EA6-468B-81E6-EEA0409E49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33445-73A3-4588-A6F9-A37DE8B065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7532D2-177F-4F91-975D-F263E8EEE5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6C885-A601-4EAE-868B-5FFD14F785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25520-C189-4136-81EE-27C48E962D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BAB7F-135D-48F9-A07E-F944309D00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B848FB-CF5A-499B-B0ED-57298AE6D7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511D9-00F9-42F0-9411-2BDD8C8396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57F99-CE2E-4D61-9D37-4F02DC2397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44C18-6FE9-4A11-9368-86DE731283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510FE-D35C-4D9A-953A-88D18EF331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91FD9-DCEF-4F24-92E1-67658AB190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A2140-66A1-4B03-80BC-1735A543D4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88A85-2374-4AE5-8046-7890F52FDC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CE3CE-F2DD-46B4-B875-F86A04CB7E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4C472-038B-4839-BC9C-2B01067FBA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43F9E0CF-CAD8-49A5-848D-D581175228F4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20C8A1C0-668B-494B-B854-47579116768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" descr=""/>
          <p:cNvPicPr/>
          <p:nvPr/>
        </p:nvPicPr>
        <p:blipFill>
          <a:blip r:embed="rId2"/>
          <a:stretch/>
        </p:blipFill>
        <p:spPr>
          <a:xfrm>
            <a:off x="5796000" y="189000"/>
            <a:ext cx="2543040" cy="42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5508720" y="326880"/>
            <a:ext cx="2938320" cy="4208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642B9E9-7BE3-4FA7-ACFA-DEEAF4BE62C6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19A0EFE-C199-41BC-B444-29A8F6F48D16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rcentile Bend r=0.24, (downweights outliers; Alternative to nonparametric correlations)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arson r = -0.0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85" name="Picture 5" descr="U:\My Documents\PERCENTAGE BEND R\pbdat.jpeg"/>
          <p:cNvPicPr/>
          <p:nvPr/>
        </p:nvPicPr>
        <p:blipFill>
          <a:blip r:embed="rId1"/>
          <a:stretch/>
        </p:blipFill>
        <p:spPr>
          <a:xfrm>
            <a:off x="1619280" y="2133720"/>
            <a:ext cx="64087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8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5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***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SPSS M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* Partials may also be used (Dugard, Todman &amp; Staines, 20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0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RS (Least Angle regression) available in R is another alternative to stepwise choosing the most parsimonious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ckward less biased by strong correlations between predictors than forwar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utmacher and Kowalski, 2015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on statistical significance and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erba and Pek (2012) Individual Influence on model selection.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sychological Methods 17(4) 582-299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302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sso and Ridge Regression can reduce collinear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shara AJ and Hittner JB (2012) suggest a rank based transformation if outliers are a proble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20-10-08T11:59:35Z</dcterms:modified>
  <cp:revision>318</cp:revision>
  <dc:subject/>
  <dc:title>REGRESSION ANALYSIS</dc:title>
</cp:coreProperties>
</file>