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BDA9-4EC7-4915-8085-20FFCFFE7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EF71-AF48-4FF4-8DDE-AAA3F0D32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A4AF-2DC5-4D57-909B-F353C9ABC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6C06-A7E0-41AA-B2BB-76A087B21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1A8D1-CD31-4BA8-99AC-B82F9FE47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DAA6E-B1E3-47A7-BA88-062F144100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54DA9-4727-4091-9BF9-CBCD5859D0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CF54E-FBB5-427A-B8F5-B4EC6126FE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19D2F-4EC4-418D-8B3E-57876E87EB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20EEA-2DF6-4C00-9900-D2F807B202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D3B33-0638-47E0-BEFA-244202F399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4CD2-EAE3-4A57-B75F-C9155696C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2A4C8-3472-43C5-8609-A381405DB0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35D3C-935C-40BB-A8F0-5F35345E30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9E47-8A1B-4739-9D2D-354ABB6FD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038F-AEBB-4FDA-BF94-3A6B45298E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3538-7469-45E6-A2CF-668F86053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409A-80AA-4315-9EA3-A6B794B72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BAEC-C315-45D2-B1A0-3C7332576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5B2F-1D86-42AD-B991-5A646CF7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43C7-5F8C-43BC-B183-24B1B9BE6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1084-DDE1-4173-AA9C-A99DABCA4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AA6C-D257-4A3D-9F0C-29FF76B8F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0FA7-C57F-4924-BFDE-1B21C4D67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8B63BE8-9ADA-47D8-9F8C-01DED7DED31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BC67744-9E6F-4C08-A465-B9DFDCCCB4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C15C032-EF4E-4EE9-AFE8-208E8C819E9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21D4024-0EBC-41AC-B67E-FEA375388E2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0-10-08T11:59:35Z</dcterms:modified>
  <cp:revision>318</cp:revision>
  <dc:subject/>
  <dc:title>REGRESSION ANALYSIS</dc:title>
</cp:coreProperties>
</file>