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5773-7839-41BB-AAFC-FA35E89978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60EF-6EC3-41F4-971D-F18D1245187C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A6821-D8C0-4DF6-9BF7-58AB3A28C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45AD6-2A1D-4678-9109-5BF8F73FA6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A3B9A-903C-4CE3-BF1D-B8B6506C07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0FE20-7989-435F-A78A-132C443BD0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24B3F-E049-49CD-9252-FCDE0B29B7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D543A-CB82-4DBE-B056-21C9AAF61A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34992-CDB8-43ED-B294-D6634B5B9B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F6E2F-B74F-4AED-A993-F016F73487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1340A-6BF5-4C48-8254-3D13697AFA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146F7-4844-425F-A68A-3F862639DA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49D4DD-174C-4AA8-9018-52A21CA3C1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8DA98-2311-4E8E-97BD-6E533C4185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C30ECE-074C-4E1E-A3D0-17DF29B497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BEDED-A76A-4E14-ACB0-0E747C84A6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1AC6B-F6E8-436B-B81B-68872B17F9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223C4-1498-44F0-B652-5D064C26C1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30B02-59BC-4B93-88FB-652C93CCC4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100CA-E5E3-47E6-86C9-B0465F31C4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B4BC9-1CA0-466A-A510-ED63F70C47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E3693-B6C8-45D6-AA1B-7778FDF768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61985-EE75-433F-BCB8-1E1E3568D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D4FF7-4520-4300-87FF-9C6DD7F8E0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AFB45-0C9A-42ED-9380-EA8FF868F4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8A05E-C4D8-47D8-94C1-9C55BB05C4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D8E42E7-36C6-4046-9F77-E457106242C3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B0D2DA7-06C8-499E-9510-37BEB7ABC5C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6019920" y="204840"/>
            <a:ext cx="2452680" cy="57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8" descr=""/>
          <p:cNvPicPr/>
          <p:nvPr/>
        </p:nvPicPr>
        <p:blipFill>
          <a:blip r:embed="rId2"/>
          <a:stretch/>
        </p:blipFill>
        <p:spPr>
          <a:xfrm>
            <a:off x="5651640" y="306360"/>
            <a:ext cx="2874960" cy="677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4AEA285-12ED-4BFD-908B-C18AFBB98A30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FFF546A9-AA32-45D2-A0D7-68EAF63C61F9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4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9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3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http://onlinestatbook.com/stat_sim/sampling_dist/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201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 (primer)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pssusers.co.uk/Events/2012/confprog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7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5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54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8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3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1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7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06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2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1"/>
          <p:cNvSpPr/>
          <p:nvPr/>
        </p:nvSpPr>
        <p:spPr>
          <a:xfrm>
            <a:off x="236520" y="5910120"/>
            <a:ext cx="882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Bland JM, Altman DG. Statistical methods for assessing agreement between two methods of 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clinical measurement. </a:t>
            </a:r>
            <a:r>
              <a:rPr b="0" i="1" lang="en-GB" sz="1600" spc="-1" strike="noStrike">
                <a:solidFill>
                  <a:srgbClr val="9a044b"/>
                </a:solidFill>
                <a:latin typeface="Times New Roman"/>
              </a:rPr>
              <a:t>Lancet</a:t>
            </a: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 1986; </a:t>
            </a:r>
            <a:r>
              <a:rPr b="1" lang="en-GB" sz="1600" spc="-1" strike="noStrike">
                <a:solidFill>
                  <a:srgbClr val="9a044b"/>
                </a:solidFill>
                <a:latin typeface="Times New Roman"/>
              </a:rPr>
              <a:t>i</a:t>
            </a: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: 307-10. </a:t>
            </a:r>
            <a:r>
              <a:rPr b="0" lang="en-GB" sz="1600" spc="-1" strike="noStrike">
                <a:solidFill>
                  <a:srgbClr val="0070c0"/>
                </a:solidFill>
                <a:latin typeface="Times New Roman"/>
              </a:rPr>
              <a:t>Comparing within subject using paired t-test on deviation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7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6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0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5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20-11-09T12:19:25Z</dcterms:modified>
  <cp:revision>353</cp:revision>
  <dc:subject/>
  <dc:title>Exploratory Data Analysis</dc:title>
</cp:coreProperties>
</file>