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56B56C76-E224-4B14-8E4F-58B83D9B0732}"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D4A5394-AC58-43AA-8701-5278FA99646A}"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599A2-B9A7-4047-B16C-76353791B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2CA39-3C68-4184-8505-DD5D82C9D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8EA88-C657-4434-B5EC-183CE707A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B7011-E131-42F3-9737-8852DD1D6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2E913-8CB6-4594-990B-4B29E1984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13246-1BF0-4A67-B729-0DB07612A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5105E-DBE2-4E93-9A14-31548995B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DE14F-EDDA-4F1B-8665-7C8475BD3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E542C-FF38-4CF2-8339-A0A075D08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53BD8-ED2C-42DF-A169-220A78373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1EF97-26A5-419C-BAC1-833D738E7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1EAFD-F352-4A2E-A495-68E5395C1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D3B2-704B-482C-9389-591359317EA5}"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48E2-048D-467B-B147-99719EE2691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7FCC-0B6A-410E-8CE7-A4E3CEFADC1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AFCD-8FE5-444E-A229-6F2F1611B8F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E1EA-0C8D-4A1A-9E20-6282A1EB6AB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62CD-FBB7-4291-9CA3-1EC93EF95C6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6919-C838-45A1-92C6-667936F2D6A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BCBB-889E-4FC1-AED5-5FCF8E0649C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E6E2-6D34-40E6-BC53-D81DD716E7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B8EE-8B1B-4F35-99FB-40678F8FB8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6026-7C51-48BD-A284-54345CC6B47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3D858-641B-4671-88F6-453DAAC4B35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DAAD-890A-443D-8B87-45E0F0F49E8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29EA7-7292-4D09-8A67-F9C452BD5A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E749-5C5B-46A9-8B97-A352080F16E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90C8F-1A86-410F-A734-498298E32BD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AB8FB-B201-4EB8-85C7-157B31AF25C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80D8-C58C-485C-B92E-9A63FE4B9D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18B7-345C-4744-8795-01A9DF3063F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96BD-88D5-4339-9456-299508C19F1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DCB5-B928-47A1-9253-002B28CE811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6586-5465-444A-92F3-184A603CEBD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D718-D9F8-44C2-969F-D0911240D0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F043-D4D8-4AD4-83AB-242979744FC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331D-5508-4E09-A425-4C1CA7E2F66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1B6A-4F65-4396-A985-AC7437411B2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5D22-2F5E-459C-B8EF-E7051824F6B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0EB4-9CB7-4EE6-8C37-B26A3949512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CA24-0316-4EAD-B367-089E0ABC470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CF48-A1D4-4280-B7EB-0025DB085A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2E94-88D2-4EA6-85D8-1F32E181C45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815F-ECA7-46B6-A0DF-2336FDF3C81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4CA5-3203-427E-8B61-211208B268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043F-1425-41E5-B95A-96E57639CC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0704A-2586-4AEC-BBD4-89653573FAF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043D-6AAC-43E8-9521-C25430D2D6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4036-57BA-4AFB-A2B5-0415D8D863E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76DE-D9AC-48DF-9F67-A5285687C16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6FBD-AC88-49E1-B49F-013C31F148F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B32E-1AA7-43D7-A99C-BDA2D5C7761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711D-4F8D-4943-A56D-7BDD122E2C9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99D1-C49E-4DA1-9375-F6399C6BCD6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8:34Z</dcterms:modified>
  <cp:revision>76</cp:revision>
  <dc:subject/>
  <dc:title>Aims and Objectives</dc:title>
</cp:coreProperties>
</file>