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F83D-B823-4F54-B577-55292DE4A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CAA0-C55B-41F0-A9AF-A4022109BE1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2369-BAAA-470C-A21B-23A23C1FB0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C954-2B0E-4D9D-A08F-C8A8DE04B7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7E36-FCE4-4E98-A544-A03B8A997A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9257-0AAF-4FE5-AD99-7C41F6E83C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EE90-E5FE-4B46-852F-B7B2425F13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2E24-ADD8-432E-BA72-94A45EA99C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9A8C-BA5D-4C4F-B16F-DDBB46F83F6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A87D-4041-45C3-B71A-E9A90262DA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04DF-325C-431C-9187-E693AB8D613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4F8E-7B46-48A5-B63D-1B1D5C08A8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6AC4-666B-4F0D-9554-4697F89D4F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217A-CD36-4674-9035-96C02E315D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85C3-8FE5-41E0-B251-1740901B29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CB4E-4C00-4F74-8DD4-9086AA1E8E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001F-88EB-48D3-922E-36C92B5F55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B032-0BC9-42F0-B2B7-235A030025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12EA-4D79-4CF0-9125-E956072480A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79B5-2D84-44C8-9A74-255AA45884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5DBD-E118-4056-912F-E49776472D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D0D1-1335-4EB9-ADD8-FE72DD14CEA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F139-D3EA-4E44-AED8-E6DC2140DE8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25CC-481A-41FE-814E-E23A8D15310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E2E5-A6D5-4616-8832-F82374BF413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08D9-692D-40FA-AD77-8BB960AFED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9267-994B-4CE8-AE97-E0506CCC1A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A813-5BBC-4EF4-87A5-B3B967D6E7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CFD9-1591-46AB-A1C2-0175632A26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C59A-54C8-4E90-B73A-D2BEAABDE2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5138-DE2A-4507-8EC0-CC370588A50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5A7F-FB23-4A3E-ACE7-CEC4A07B87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D4E4-14AF-4D2F-BE08-CF98D1CE39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AFA4-4A37-49EB-A729-CCBD3BC1B6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6A72-D0D7-42B6-83AD-CDE2D68E6F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A342-AD5D-43F8-87E2-F771D57062A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8CBD-BB14-48CF-B808-AA4B8726C4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6C75-F62D-449B-890C-6D271C5C2A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392E-357E-4F3E-B159-B7C7D9CD70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85B2-F4D4-412A-805D-C1BA7099F1B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BF16-C713-4863-8BF2-F48450EF191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FE08-29B8-4190-980C-06FA75D651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8034-40C4-428F-932E-C444A184C9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CCF7-3E20-4C4B-964F-B101479C85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0D58-5494-43B8-9468-258E5125A2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B735-3E05-463B-B028-C91005555A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DA52-3189-43C1-96F0-77B8D465C4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89F8-5E4A-424E-A50E-9E0B18CF323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4D99-2E75-44FF-941A-FBB0DBF936C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D347-1248-4CD6-BF5A-2DDFA09F85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A4B6-A87B-414C-B3F1-B40D217BCA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76BF-76B2-4FFE-AA17-FF436F1D82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1319-8677-434F-B983-F6321C3D31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07D8-B9FA-4623-893D-AEF0BCB8EE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923-555D-40E1-80E4-817C63A7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906-3AF5-41A9-B256-14CE2171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9FE-0252-43D3-A5C1-54CED6E8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48E-E17B-4B89-B2E4-460F37D2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866-FC68-4CAB-BABE-BC591C5A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DC3-FB08-481C-BA6D-3FC264CC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65A-495C-450C-92FA-05068E79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7B9-031D-4365-AC36-2D2A2595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65B-B8E1-40B5-AF8F-92DA4DFF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F43-3E5A-4DAA-947B-FB964C9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7F0-9521-4B56-BECA-46EA1C79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091-C7AA-4E0A-8718-2B628E91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AEF7-1A0B-4AD9-B033-E0584EF81FA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1-09-29T12:20:19Z</dcterms:modified>
  <cp:revision>117</cp:revision>
  <dc:subject/>
  <dc:title>Aims and Objectives</dc:title>
</cp:coreProperties>
</file>