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4C97CE6-2156-4500-B810-326A9A1348A5}"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DDC246D-6081-4E20-AC63-FDBD3314E2D2}"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3FF4E-1D16-4E2B-B455-828269AB7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66F03-1D9E-4BD4-8E86-D2108BF03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87535-905F-463A-A7DA-D98EDEB6F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7344E-AA92-4DD7-827D-BF12CD74F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241D0-2DF4-4A40-8E5B-8744E2CFB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196ED-9469-44A4-8628-6A77F4875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04722-8566-4F1E-A8D5-A0851E51E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72EE6-D53E-4176-9AFB-AC12ACA61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A85BC-F4F0-45AD-A571-CC0E6E20E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38F00-00DF-40A1-94E2-FCE0012C7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73F89-C7D3-4D85-9AAB-ED0C8B0CE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0E217-56BE-4488-9B6A-086E260450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82C3-871B-4BCB-B383-6C79124B1636}"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090960" y="47628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6013-5B3F-4A68-80A3-0852E865A84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3C81-F843-43C7-890F-C206762B43C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9FE83-4717-4D21-B76E-7676E74AE8A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5338A-254B-412F-BD6C-CEAFE2FAAAF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B92F-862A-49BD-8BD9-F5AF5EEF118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26686-F9EA-431B-9EA4-85271BCB977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F7673-8A5E-4836-9DC0-3D451F35D61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97A5-FFE2-49BC-BA43-D4C5F3A5698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E56B5-16EE-45B1-A28C-3E7F0E667D5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5F43-54BF-4333-9650-98DF98E2518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4B72B-BD69-49FF-81B8-3E524F2D11B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7C44B-0FC4-4E4B-BB1E-07C7DDCA7B6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8A4C-70D9-447E-B67B-4F3429D1291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A966A-DF55-4C61-AE9B-46AA7BA1229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CDC3-5A98-4822-BE3F-A6E8C746381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A0651-CE2D-431E-8CF1-C7434771B84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34A9-7F06-4DCC-82B5-F6F865B3C59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3CDCC-6750-414B-9CFD-3C9250601A7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6C400-BA7B-4A9C-BD2C-6A9820CAE75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2C6A-BBEE-422F-8039-8D2A716A6A5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0D8F-C7CE-45F3-8AFA-0E857D2C43F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72A8D-4010-4F91-90D6-39416C0C59F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14BD-321A-4CA4-8D2D-B05CBCEEE0A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4E35-6546-49AC-998E-6319ADC3272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14CD-A146-4DDC-AD01-637C1B505BD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0B261-65C2-40F8-89C8-D94DD3C9A36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768A2-EC0D-446C-A08D-18BD891EF7A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FA96-D809-4D28-97A8-4730E7BB94D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BAAD-CC60-4369-94E6-2361D6E7BA1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41D9E-9687-45F2-9EFC-2EF8E2497DA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5F35B-731B-4C0D-A6FA-1E7EB0804AB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66532-5445-4FDA-8E2D-6FA37192CF3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DA02E-275A-4798-B634-7F619013C8D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AAC8-020A-4691-B91D-8C465B598B0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A3ACF-F1A2-490B-879D-93802C48C7D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AD427-DFAC-446B-A4FE-AA7F45768E1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F37FE-2E47-4DCA-8CD4-56FCEF67B58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A774B-CCEE-45A1-A2E6-A2A0C68C1B0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369B8-6507-49F7-8859-0CE3A21C57D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C69BB-B816-4427-A9CD-DC37AA945FB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1E98-C8B8-4401-B933-525392B7B88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9:34Z</dcterms:modified>
  <cp:revision>74</cp:revision>
  <dc:subject/>
  <dc:title>Aims and Objectives</dc:title>
</cp:coreProperties>
</file>