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6"/>
          </p:nvPr>
        </p:nvSpPr>
        <p:spPr>
          <a:xfrm>
            <a:off x="3868200" y="0"/>
            <a:ext cx="301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5364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7"/>
          </p:nvPr>
        </p:nvSpPr>
        <p:spPr>
          <a:xfrm>
            <a:off x="0" y="9443880"/>
            <a:ext cx="301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8"/>
          </p:nvPr>
        </p:nvSpPr>
        <p:spPr>
          <a:xfrm>
            <a:off x="386820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E1FC-F04B-4EB6-8080-D73272EC7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5400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6856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D14C-1452-4D1E-97D9-DB388AA07F9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0F87-AF25-4ED1-9032-85CF789B3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9FF5-1C7C-4EE3-9057-C2AFA1F2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82AC-7C2C-4AAA-A6A2-7A5186E2F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A9EC-487A-4BD2-A706-1901110A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4BF8-4F4A-4EE0-8474-EB3E91F6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085F-A993-4A6F-BCA7-F38E032A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ABD2-1F86-4AD5-8934-F75A718C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9D8F-3724-4E8E-B151-4AE0F2C9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48A3-DFE3-4EA1-ADCE-A85097AD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90E7-75A3-4430-B01C-44F5DCF6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5456-86EE-4C53-9DEF-AD8C37F2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6AE0-2045-4EFC-A175-219F1F71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2689-930A-4E4E-A40F-4DC521FA726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68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33" name="AutoShape 16"/>
          <p:cNvCxnSpPr>
            <a:stCxn id="228" idx="2"/>
            <a:endCxn id="229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4" name="AutoShape 17"/>
          <p:cNvCxnSpPr>
            <a:stCxn id="228" idx="2"/>
            <a:endCxn id="230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5" name="AutoShape 18"/>
          <p:cNvCxnSpPr>
            <a:stCxn id="228" idx="2"/>
            <a:endCxn id="231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6" name="AutoShape 19"/>
          <p:cNvCxnSpPr>
            <a:stCxn id="228" idx="2"/>
            <a:endCxn id="232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7" name="AutoShape 20"/>
          <p:cNvCxnSpPr>
            <a:stCxn id="226" idx="2"/>
            <a:endCxn id="227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8" name="AutoShape 21"/>
          <p:cNvCxnSpPr>
            <a:stCxn id="226" idx="2"/>
            <a:endCxn id="228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39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56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9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0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76" name="AutoShape 9"/>
          <p:cNvCxnSpPr>
            <a:stCxn id="275" idx="2"/>
            <a:endCxn id="271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7" name="AutoShape 10"/>
          <p:cNvCxnSpPr>
            <a:stCxn id="275" idx="2"/>
            <a:endCxn id="272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8" name="AutoShape 11"/>
          <p:cNvCxnSpPr>
            <a:stCxn id="272" idx="2"/>
            <a:endCxn id="273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9" name="AutoShape 12"/>
          <p:cNvCxnSpPr>
            <a:stCxn id="272" idx="2"/>
            <a:endCxn id="274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80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87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94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302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309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322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1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344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54" name="AutoShape 7"/>
          <p:cNvCxnSpPr>
            <a:stCxn id="353" idx="2"/>
            <a:endCxn id="349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5" name="AutoShape 8"/>
          <p:cNvCxnSpPr>
            <a:stCxn id="353" idx="2"/>
            <a:endCxn id="350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6" name="AutoShape 9"/>
          <p:cNvCxnSpPr>
            <a:stCxn id="350" idx="2"/>
            <a:endCxn id="351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7" name="AutoShape 10"/>
          <p:cNvCxnSpPr>
            <a:stCxn id="350" idx="2"/>
            <a:endCxn id="352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58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411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421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5" name="AutoShape 4"/>
          <p:cNvCxnSpPr>
            <a:endCxn id="436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7" name="AutoShape 5"/>
          <p:cNvCxnSpPr>
            <a:stCxn id="434" idx="3"/>
            <a:endCxn id="438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6"/>
          <p:cNvCxnSpPr>
            <a:stCxn id="434" idx="3"/>
            <a:endCxn id="440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36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51" name="AutoShape 7"/>
          <p:cNvCxnSpPr>
            <a:stCxn id="450" idx="2"/>
            <a:endCxn id="446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2" name="AutoShape 8"/>
          <p:cNvCxnSpPr>
            <a:stCxn id="450" idx="2"/>
            <a:endCxn id="447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3" name="AutoShape 9"/>
          <p:cNvCxnSpPr>
            <a:stCxn id="447" idx="2"/>
            <a:endCxn id="448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4" name="AutoShape 10"/>
          <p:cNvCxnSpPr>
            <a:stCxn id="447" idx="2"/>
            <a:endCxn id="449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55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61" name="AutoShape 18"/>
          <p:cNvCxnSpPr>
            <a:stCxn id="448" idx="2"/>
            <a:endCxn id="455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2" name="AutoShape 19"/>
          <p:cNvCxnSpPr>
            <a:stCxn id="448" idx="2"/>
            <a:endCxn id="456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3" name="AutoShape 20"/>
          <p:cNvCxnSpPr>
            <a:stCxn id="448" idx="2"/>
            <a:endCxn id="457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4" name="AutoShape 21"/>
          <p:cNvCxnSpPr>
            <a:stCxn id="449" idx="2"/>
            <a:endCxn id="458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5" name="AutoShape 22"/>
          <p:cNvCxnSpPr>
            <a:stCxn id="449" idx="2"/>
            <a:endCxn id="459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6" name="AutoShape 23"/>
          <p:cNvCxnSpPr>
            <a:stCxn id="449" idx="2"/>
            <a:endCxn id="460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0" name="AutoShape 7"/>
          <p:cNvCxnSpPr>
            <a:stCxn id="499" idx="2"/>
            <a:endCxn id="495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1" name="AutoShape 8"/>
          <p:cNvCxnSpPr>
            <a:stCxn id="499" idx="2"/>
            <a:endCxn id="496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2" name="AutoShape 9"/>
          <p:cNvCxnSpPr>
            <a:stCxn id="496" idx="2"/>
            <a:endCxn id="497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3" name="AutoShape 10"/>
          <p:cNvCxnSpPr>
            <a:stCxn id="496" idx="2"/>
            <a:endCxn id="498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04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8" name="AutoShape 24"/>
          <p:cNvCxnSpPr>
            <a:stCxn id="495" idx="2"/>
            <a:endCxn id="507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9" name="AutoShape 25"/>
          <p:cNvCxnSpPr>
            <a:stCxn id="495" idx="2"/>
            <a:endCxn id="506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0" name="AutoShape 26"/>
          <p:cNvCxnSpPr>
            <a:stCxn id="498" idx="2"/>
            <a:endCxn id="504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1" name="AutoShape 27"/>
          <p:cNvCxnSpPr>
            <a:stCxn id="498" idx="2"/>
            <a:endCxn id="505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12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73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79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80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1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84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86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90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3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57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601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3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63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21-09-29T12:20:52Z</dcterms:modified>
  <cp:revision>92</cp:revision>
  <dc:subject/>
  <dc:title>No Slide Title</dc:title>
</cp:coreProperties>
</file>