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6.wmf" ContentType="image/x-wmf"/>
  <Override PartName="/ppt/media/image23.png" ContentType="image/png"/>
  <Override PartName="/ppt/media/image22.wmf" ContentType="image/x-wmf"/>
  <Override PartName="/ppt/media/image20.jpeg" ContentType="image/jpeg"/>
  <Override PartName="/ppt/media/image21.png" ContentType="image/png"/>
  <Override PartName="/ppt/media/image19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9.png" ContentType="image/png"/>
  <Override PartName="/ppt/media/image11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3.png" ContentType="image/png"/>
  <Override PartName="/ppt/media/image33.png" ContentType="image/png"/>
  <Override PartName="/ppt/media/image8.png" ContentType="image/png"/>
  <Override PartName="/ppt/media/image32.wmf" ContentType="image/x-wmf"/>
  <Override PartName="/ppt/media/image12.wmf" ContentType="image/x-wmf"/>
  <Override PartName="/ppt/media/image13.png" ContentType="image/png"/>
  <Override PartName="/ppt/media/image36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7.wmf" ContentType="image/x-wmf"/>
  <Override PartName="/ppt/media/image37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15.png" ContentType="image/png"/>
  <Override PartName="/ppt/media/image14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2.png" ContentType="image/png"/>
  <Override PartName="/ppt/media/image25.png" ContentType="image/png"/>
  <Override PartName="/ppt/media/image24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  <p:sldId id="289" r:id="rId54"/>
    <p:sldId id="290" r:id="rId55"/>
    <p:sldId id="291" r:id="rId56"/>
    <p:sldId id="292" r:id="rId57"/>
    <p:sldId id="293" r:id="rId58"/>
    <p:sldId id="294" r:id="rId59"/>
    <p:sldId id="295" r:id="rId60"/>
    <p:sldId id="296" r:id="rId61"/>
    <p:sldId id="297" r:id="rId62"/>
    <p:sldId id="298" r:id="rId63"/>
    <p:sldId id="299" r:id="rId64"/>
    <p:sldId id="300" r:id="rId65"/>
    <p:sldId id="301" r:id="rId66"/>
    <p:sldId id="302" r:id="rId67"/>
    <p:sldId id="303" r:id="rId68"/>
    <p:sldId id="304" r:id="rId69"/>
    <p:sldId id="305" r:id="rId70"/>
    <p:sldId id="306" r:id="rId71"/>
    <p:sldId id="307" r:id="rId72"/>
    <p:sldId id="308" r:id="rId73"/>
    <p:sldId id="309" r:id="rId74"/>
    <p:sldId id="310" r:id="rId75"/>
    <p:sldId id="311" r:id="rId76"/>
    <p:sldId id="312" r:id="rId77"/>
    <p:sldId id="313" r:id="rId78"/>
  </p:sldIdLst>
  <p:sldSz cx="9902825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slide" Target="slides/slide34.xml"/><Relationship Id="rId55" Type="http://schemas.openxmlformats.org/officeDocument/2006/relationships/slide" Target="slides/slide35.xml"/><Relationship Id="rId56" Type="http://schemas.openxmlformats.org/officeDocument/2006/relationships/slide" Target="slides/slide36.xml"/><Relationship Id="rId57" Type="http://schemas.openxmlformats.org/officeDocument/2006/relationships/slide" Target="slides/slide37.xml"/><Relationship Id="rId58" Type="http://schemas.openxmlformats.org/officeDocument/2006/relationships/slide" Target="slides/slide38.xml"/><Relationship Id="rId59" Type="http://schemas.openxmlformats.org/officeDocument/2006/relationships/slide" Target="slides/slide39.xml"/><Relationship Id="rId60" Type="http://schemas.openxmlformats.org/officeDocument/2006/relationships/slide" Target="slides/slide40.xml"/><Relationship Id="rId61" Type="http://schemas.openxmlformats.org/officeDocument/2006/relationships/slide" Target="slides/slide41.xml"/><Relationship Id="rId62" Type="http://schemas.openxmlformats.org/officeDocument/2006/relationships/slide" Target="slides/slide42.xml"/><Relationship Id="rId63" Type="http://schemas.openxmlformats.org/officeDocument/2006/relationships/slide" Target="slides/slide43.xml"/><Relationship Id="rId64" Type="http://schemas.openxmlformats.org/officeDocument/2006/relationships/slide" Target="slides/slide44.xml"/><Relationship Id="rId65" Type="http://schemas.openxmlformats.org/officeDocument/2006/relationships/slide" Target="slides/slide45.xml"/><Relationship Id="rId66" Type="http://schemas.openxmlformats.org/officeDocument/2006/relationships/slide" Target="slides/slide46.xml"/><Relationship Id="rId67" Type="http://schemas.openxmlformats.org/officeDocument/2006/relationships/slide" Target="slides/slide47.xml"/><Relationship Id="rId68" Type="http://schemas.openxmlformats.org/officeDocument/2006/relationships/slide" Target="slides/slide48.xml"/><Relationship Id="rId69" Type="http://schemas.openxmlformats.org/officeDocument/2006/relationships/slide" Target="slides/slide49.xml"/><Relationship Id="rId70" Type="http://schemas.openxmlformats.org/officeDocument/2006/relationships/slide" Target="slides/slide50.xml"/><Relationship Id="rId71" Type="http://schemas.openxmlformats.org/officeDocument/2006/relationships/slide" Target="slides/slide51.xml"/><Relationship Id="rId72" Type="http://schemas.openxmlformats.org/officeDocument/2006/relationships/slide" Target="slides/slide52.xml"/><Relationship Id="rId73" Type="http://schemas.openxmlformats.org/officeDocument/2006/relationships/slide" Target="slides/slide53.xml"/><Relationship Id="rId74" Type="http://schemas.openxmlformats.org/officeDocument/2006/relationships/slide" Target="slides/slide54.xml"/><Relationship Id="rId75" Type="http://schemas.openxmlformats.org/officeDocument/2006/relationships/slide" Target="slides/slide55.xml"/><Relationship Id="rId76" Type="http://schemas.openxmlformats.org/officeDocument/2006/relationships/slide" Target="slides/slide56.xml"/><Relationship Id="rId77" Type="http://schemas.openxmlformats.org/officeDocument/2006/relationships/slide" Target="slides/slide57.xml"/><Relationship Id="rId78" Type="http://schemas.openxmlformats.org/officeDocument/2006/relationships/slide" Target="slides/slide58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"/>
          <p:cNvSpPr/>
          <p:nvPr/>
        </p:nvSpPr>
        <p:spPr>
          <a:xfrm>
            <a:off x="0" y="0"/>
            <a:ext cx="67932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dt" idx="52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 type="ftr" idx="53"/>
          </p:nvPr>
        </p:nvSpPr>
        <p:spPr>
          <a:xfrm>
            <a:off x="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6"/>
          <p:cNvSpPr>
            <a:spLocks noGrp="1"/>
          </p:cNvSpPr>
          <p:nvPr>
            <p:ph type="sldNum" idx="54"/>
          </p:nvPr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717E51F-E7F4-4BF7-B9F4-A63D21A380A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Slide Number Placeholder 3"/>
          <p:cNvSpPr/>
          <p:nvPr/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A1B2ED-759A-46C2-ACFB-E8F6C70B6E51}" type="slidenum">
              <a:rPr b="0" lang="en-GB" sz="1200" spc="-1" strike="noStrike">
                <a:solidFill>
                  <a:srgbClr val="8f210b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Slide Number Placeholder 3"/>
          <p:cNvSpPr/>
          <p:nvPr/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381649E-04BC-43FF-B61F-07A429CD5253}" type="slidenum">
              <a:rPr b="0" lang="en-GB" sz="1200" spc="-1" strike="noStrike">
                <a:solidFill>
                  <a:srgbClr val="8f210b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784C-19BA-4F19-8661-3405D80A8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E19D-28C7-4232-A44F-6A10C7018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E6F0EE-5E88-436B-9554-F6AB28D3D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9083E3-C47A-4FE7-929B-4AF94AB70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46E7C6-4D69-4747-95D9-C89E20C1B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660E0-BC95-448C-99B5-49210195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175278-C86D-40C9-89E1-BA193EEF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34D196-CC6B-4FA5-9A88-68922B1C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67BC7F-BB1C-487F-9942-60777A823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F37D93-C8D5-4FC1-96FA-975FC5EA2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CC09CF-33B7-4C51-A2BA-A29F245A7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DB490D-F1A2-4418-B531-A1DFE7C9C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EBEC-03B8-4961-A622-900A5BA86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8899DA-A133-4D6B-99BA-EF1B024EC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324DD4-BB4F-442B-AF76-B76998A15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4C8F7C-B5A9-41B2-B3FD-B9B948FE7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82F729-B02F-46A1-A4ED-B183F75F0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A969C8-4BE5-4101-89DF-6AFC660A1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D03497-BB40-4597-AF5C-30B399E0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D70C82-3E04-4D2E-BB5A-7BB29530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9522D7-679F-4F03-A03F-9574489D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C2663E-2D59-4FDD-AFB1-5931BE453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96C520-F016-49F4-96BD-20C42BB70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038B-B840-4180-BAAB-9A9A05166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76C5D4-BEAC-491F-AE59-12DF6324B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EAAFC9-866A-4B61-B7C1-927C1C3BA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D0E679-E3C4-45C2-8D58-5AB6F6C58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745F0C-7910-4ECB-8C22-AFBFBDAE7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630626-FBEF-468C-B0A0-3FE8BEC8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376F89-2CD1-4AD3-A50B-6B02C7732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E1EAE7-6161-4237-94D9-7B7DFEF91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59164A-A0FE-4109-9B17-3F39D8D5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427994-AFD3-4EAC-A5BA-77E7202C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AF22EE-CE1E-4F23-8A02-A6A3B975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8B653E-813B-4573-B397-684EB1AA0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F6972A-2DEA-41BF-9D6B-E3E4DE00E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6AAA70-48B7-4A9F-9D1A-BCDD59C14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EA77FC-8E95-406B-AD91-6190A7F5C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74E8E6-3D3B-4330-A812-50A01E765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26412C-7E5F-4200-99B0-FCCB0534C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892D81-1471-4A28-A220-72CA0C5DA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6500F6-AD5D-402D-9CDA-15B2F8187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3EA7DB-D324-4521-A53D-933C9DE1C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A4AF91-06C5-43E8-BCEB-922CDA1B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0336BE-2F46-4284-BBED-F30795A5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539174-BD16-4038-B692-6F74A4AE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B33B9C-CCCC-4089-9476-F5B147C5A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C48C92-3754-43FE-9402-64433AFE3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EBED13-28A2-4B55-9DEF-716BE7CDA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47F8F2-F7F0-407B-A326-C871096F8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51FF0C-1E8D-42F4-BC9F-2D863B143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6F2CA0-27F9-4D87-A2FB-1E819A095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51A85E-B998-47BF-9C48-2409A3053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CF9E5F-707B-4A2D-B3B5-DF95C6E6D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C1DD9B-CB9C-47EC-B1CF-9B2FD3EEA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3BA842-A0FD-4B67-BA75-EDAE24F8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9016BB-D874-4FBF-A34A-87ED2AF1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B00BBE-51D4-44C0-B95E-9CB30CC4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351D2C-7AA8-496D-9EA1-DDDFDB7E6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E9FB80-FE15-453E-B083-0FFA6120B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0E4D9B-A982-4BC8-A6E9-3B59082B6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9DFFFB-EF2A-4070-A5C1-89E0778A0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2DB80F-7A72-4DD7-A60C-01EF7C91A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482E93-6C9E-4C92-B65E-3486E74D6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DE9862-7264-40EF-BBF0-358BC2E75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AFC1C6-1A25-4B75-A485-A9B3B03B6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762EEB-784A-47B5-94C9-38EF51753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3BE794-25D7-4541-9EB5-F9A1FC98F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89BC6F-5C39-43E8-AEB6-14FBA4E8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ECCCFC-6DC7-4A78-953D-7AAFDB15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70CC13-0830-4CE4-9A24-D00E283B2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A4602F-1A5D-4C9B-B4CA-D153AA708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F406C1-9904-4930-AA54-FE5D29172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71A25A-E29C-4DD5-94E4-ED389A9BF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BD3B22-A3AF-40E2-B55E-95A8DA287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ED0A5F-3240-41D0-B74D-3D74BCBE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6DE504-A636-4B5E-A64E-E3E1412D0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8E4F01-9B1D-4033-B74D-9F0B46C3B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63CD4E-F29A-4FD6-9FCA-8C04AC75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546B58-8771-4E41-BDF8-A996C303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351728-493D-4E5B-BAA2-0EAB56DD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A702A0-5786-40B8-B826-510A298E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029D43-F6FE-4742-8B81-700F18A83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60FE29-5077-47E8-91B8-4BC03B24F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5876C3-847A-4D4A-85FB-01DD3DA62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43FE38-89F6-4EBC-9008-715D56F04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947B70-9B88-4C57-816F-7E1585831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069FFF-D481-4677-B5B3-8CD7FA3F7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D66D03-293F-4CB5-97DE-78FD77766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D5459C-BD6F-43C7-80D3-9FA26E71D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19F7B7-A581-4A55-9ED9-5A58D209E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5C68D3-F17C-4A6E-8048-AD83E7F0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E4E623-48DE-4B53-BDAE-1F12ABB8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BE0B9B-EBA6-43C2-8AC5-14EC90BF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10AA28-E2B1-407E-A8AB-1DA414EC4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146882-79D4-44CC-820B-DA6B0DBF8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280C8D-D7C7-404A-A49A-C924EAB2B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C6BCE7-3EF8-4E5C-B0C0-0DFCCE773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5AD514-BE40-448E-ADE3-30C601BE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6876A4-05DD-4081-BC49-BF1F08994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05F431-D24D-41C8-A60A-A0B6CB28C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9579D7-C762-4F1D-B6D4-1A4F02A17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6F3DEF-A2D6-4A78-BB73-B5DA1B9D7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F5A83B-16B1-4D71-BF58-2E26B8E7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200A-77D6-43B3-82CE-785010632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134E50-7EFD-4B55-8873-69C1D326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7A3F88-B33B-4A9B-B918-C092AA89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EB8E17-41CD-4258-A150-AF5F009D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E9E374-9115-4BEE-ADF8-22BA6C68D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9ACA38-3E63-454E-9BED-9B61A7119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57F9FD-69DD-4DA1-876B-497D10015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02179F-73AC-40B9-ADE5-A7A624702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218112-9C7D-4A70-BAFF-61DE9658C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8831DE-0206-45AC-B736-91206FCD8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CD6050-BBD1-4C10-A6EF-DE05A6CF9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87011A-5FC2-4E04-B32A-A47999018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80C990-A507-41E6-A734-53DCB99E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80EEDF-5E9E-42E1-AD36-56017DF3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88BD93-1FBA-46F1-9F88-D67A16CF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9A00FB-F7C2-4A64-80C9-2AA410901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523E87-FDFA-4C31-BC62-A495F94BB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64A16E-3FC9-49FF-928E-590210E78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2AE8-8401-4927-912E-A57A08D05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5EAC-EE9C-40A3-8423-E243F54DA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42803-9CE1-4F33-A9E7-20E18E1BC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AD08-6801-4303-AC83-83E3F96AE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57128-D8F1-4802-9B7E-9DA7D2B8A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5C7C5-14F3-47A1-A36C-41C91C0CC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39C9C-DAB2-42D3-B84A-92B97267E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A38BF-CEB7-48EA-B1CA-841BD296B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F4C9B-E159-417C-9C0C-E2E58B20D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B0363-2DEA-4338-B861-D20258BE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F8A31-2A7E-4D1F-9ACC-2D28EBA1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9AC8C-5F54-4CC7-8D32-EE80EF7A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68886-7F6C-40F4-8B20-B0EE06796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E553F-C297-48BF-804C-60B9B1338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4039-DFB0-4970-9EA2-3982A530A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F5D14-78D2-48E8-8B80-29E98593E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F7D2B-F759-494A-93A4-2CC4F64EE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711E4-74D5-4694-BF6C-A1D4AEE99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737B6-9505-4E69-A46F-979320D99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0F6DE-AA0D-444A-A9D5-58C0AC43A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06E3A-A969-4EED-8023-70A369001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3A483-3EE6-42DD-810D-D0049E1C3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F5969-C5C4-47A7-888D-3792249B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F82F9-B7D5-4F1E-A66E-3B9371CC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A242B-D8C7-4511-B3A3-7A09A4C1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F28F-E431-4880-985F-83747DF8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A4E5B-FF82-4555-ACC7-AF77EF7D1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5F1EF-F4D4-4E6D-B9A2-57EE42B70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014CB-FBA5-4978-93D1-BE1F673BB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9656A-DAB9-4866-88C8-6531F91F1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B0F452-C19B-4939-B02E-F4F31612A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3412BF-2467-4113-8390-6556FEF09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6F35E2-5C7D-47AE-8EDA-ADF497A91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D0507-150A-44A5-9A10-6B4AC7665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AB506-3EB6-4C0C-B3D6-762743767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377E3-F5E4-45D9-8958-E2CAC0E2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5DE6-76C0-489C-AAE2-51FAC6AB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E52AC-EABE-4C61-8692-CAC3DDC6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9A938F-30AF-41D2-BCA6-D1728484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C34ED-69DE-4778-8C74-738CFFD56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45F608-2CB3-451F-A360-C1B33EAD1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41810-F62F-450F-8F37-8A4C7DBBA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4191EE-9148-4CF2-9D23-F21350BDD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BA76E-6C5E-4AED-AC9A-694F461D2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8E6761-1600-4B61-9445-E158FA032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19B99A-49B1-47DB-BCB6-6401A24F8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AA899-6A86-497D-A870-A93F94433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0EFC-7F46-4C1B-BFFF-02D25013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BBB41-353A-4EC5-9413-AD67C5F88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927F0B-FE82-4DA0-8BF6-F9B08A47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7EA350-1766-46D3-AE21-73EA06A1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CEF41-5559-426A-9FCA-94D1E251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F41845-E6AC-489C-B552-4A50B1D33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C7398-38A2-410B-9855-7CA9C6BEC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D2EB3-7A53-458C-925E-F2DF940F2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885C21-E025-4525-B354-C4C0C4DC4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91E6C1-04A7-4B9D-A16A-E786C17C8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A23209-1548-4598-B092-051F43603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1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2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35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25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26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27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D3389-39B2-47C9-B772-037C1727113A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7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7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93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2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2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30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11C9E-AFC4-451B-9037-6E11FC9F18F2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3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651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3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3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3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46211-C81A-4901-A6DE-909A37269A09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9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09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dt" idx="3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ftr" idx="3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 type="sldNum" idx="36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054F0-7D1B-4C9D-9C81-0105CEDF106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1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752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3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4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5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6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7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8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9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0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1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2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3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4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5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6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67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dt" idx="37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ftr" idx="38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 type="sldNum" idx="39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A291E-499B-4122-B271-306BAEB57A6F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1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25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4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4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4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EDE53-BC98-464F-B552-24E370F1F05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6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6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83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 type="dt" idx="4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 type="ftr" idx="4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 type="sldNum" idx="4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8B803-C3C7-4714-8534-AEEABCB112C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2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41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 type="dt" idx="4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 type="ftr" idx="4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 type="sldNum" idx="4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59E40-8C60-4993-B6FB-23FB475BA42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8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99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 type="dt" idx="4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 type="ftr" idx="5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 type="sldNum" idx="5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88132-C087-4EFB-A2E5-499E96A57A80}" type="slidenum">
              <a:rPr b="0" lang="en-GB" sz="1000" spc="-1" strike="noStrike">
                <a:solidFill>
                  <a:srgbClr val="8f210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4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1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31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7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88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3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45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5CA0F-A8CC-4299-993D-45EB41CF8C38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8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8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03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2C309-8604-4251-9144-7DAD1448671F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34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61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1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1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1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68365-A6D0-498B-8A59-FFF9BB88DD05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0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19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1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62558-5634-44CD-9B85-9BC1FA2348A7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62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3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4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5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6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7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8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9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0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1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2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3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4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5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6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77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22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3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24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5CCEB-020E-4C89-ADB6-ABB05679FA3B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8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9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9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9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9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9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9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9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4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BinomialConfidence" TargetMode="External"/><Relationship Id="rId2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kappa" TargetMode="External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4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4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hyperlink" Target="http://imaging.mrc-cbu.cam.ac.uk/statswiki/FAQ/BinomialConfidence/2gpp" TargetMode="External"/><Relationship Id="rId3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9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9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4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7F372-A15A-4CDF-A522-AFA300C4DEA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990720" y="2438280"/>
            <a:ext cx="84168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</a:t>
            </a: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 </a:t>
            </a:r>
            <a:br>
              <a:rPr sz="3600"/>
            </a:br>
            <a:r>
              <a:rPr b="0" lang="en-GB" sz="3600" spc="-1" strike="noStrike">
                <a:solidFill>
                  <a:srgbClr val="8f210b"/>
                </a:solidFill>
                <a:latin typeface="Albertus Medium"/>
              </a:rPr>
              <a:t>Graduate Statistics Course 2019</a:t>
            </a:r>
            <a:br>
              <a:rPr sz="3600"/>
            </a:br>
            <a:r>
              <a:rPr b="0" lang="en-US" sz="1800" spc="-1" strike="noStrike">
                <a:solidFill>
                  <a:srgbClr val="515f7b"/>
                </a:solidFill>
                <a:latin typeface="Verdana"/>
              </a:rPr>
              <a:t>http://imaging.mrc-cbu.cam.ac.uk/statswiki/StatsCourse2019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B34CB-F055-44E6-A9DB-4B268F11067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s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bservations are classified according to some sche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numbers of observations falling into each category of the classification are called the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5A2C6-703C-44D3-8125-F438AE16945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isual Field Deficit Problems in Hemiplegic Patien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02" name="Picture 4" descr=""/>
          <p:cNvPicPr/>
          <p:nvPr/>
        </p:nvPicPr>
        <p:blipFill>
          <a:blip r:embed="rId1"/>
          <a:stretch/>
        </p:blipFill>
        <p:spPr>
          <a:xfrm>
            <a:off x="3943440" y="1844640"/>
            <a:ext cx="343692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4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5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4A74A-5B07-4513-B52F-2174BD00D03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07" name="Line 10"/>
          <p:cNvSpPr/>
          <p:nvPr/>
        </p:nvSpPr>
        <p:spPr>
          <a:xfrm flipH="1" flipV="1">
            <a:off x="6436800" y="2895120"/>
            <a:ext cx="90828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95360" y="2133720"/>
            <a:ext cx="536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ut the variable that holds the category information into the Variables(s) bo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ess OK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09" name="Picture 14" descr=""/>
          <p:cNvPicPr/>
          <p:nvPr/>
        </p:nvPicPr>
        <p:blipFill>
          <a:blip r:embed="rId1"/>
          <a:stretch/>
        </p:blipFill>
        <p:spPr>
          <a:xfrm>
            <a:off x="5611680" y="2362320"/>
            <a:ext cx="41259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E0A81-7340-4DE7-BEFC-6A331C22005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14" name="Picture 4" descr=""/>
          <p:cNvPicPr/>
          <p:nvPr/>
        </p:nvPicPr>
        <p:blipFill>
          <a:blip r:embed="rId1"/>
          <a:stretch/>
        </p:blipFill>
        <p:spPr>
          <a:xfrm>
            <a:off x="1155600" y="1981080"/>
            <a:ext cx="841716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0611F-51CF-4AE6-A011-A4F229A12E8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Bar ch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ing ‘Bar Chart’ from the ‘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arts’ options gives you a graphic which you can cut and past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0" name="Picture 10" descr=""/>
          <p:cNvPicPr/>
          <p:nvPr/>
        </p:nvPicPr>
        <p:blipFill>
          <a:blip r:embed="rId1"/>
          <a:stretch/>
        </p:blipFill>
        <p:spPr>
          <a:xfrm>
            <a:off x="5199120" y="2057400"/>
            <a:ext cx="412596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7E889-A6EE-46AA-A313-B672FBAAB02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tingency Table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	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329760" y="2017800"/>
            <a:ext cx="50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tems are classified by two or more classifications simultaneous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.g.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ide of Damag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and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everity of Visual Field Defici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rosstab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Side of Damage’ and ‘Visual Field Deficit’ to define the row/column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6" name="Picture 4" descr=""/>
          <p:cNvPicPr/>
          <p:nvPr/>
        </p:nvPicPr>
        <p:blipFill>
          <a:blip r:embed="rId1"/>
          <a:stretch/>
        </p:blipFill>
        <p:spPr>
          <a:xfrm>
            <a:off x="5599080" y="2205000"/>
            <a:ext cx="41259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6A21A-0B70-402D-8CDC-2A94BA325B5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1" name="Picture 4" descr=""/>
          <p:cNvPicPr/>
          <p:nvPr/>
        </p:nvPicPr>
        <p:blipFill>
          <a:blip r:embed="rId1"/>
          <a:stretch/>
        </p:blipFill>
        <p:spPr>
          <a:xfrm>
            <a:off x="1155600" y="2286000"/>
            <a:ext cx="8417160" cy="2262240"/>
          </a:xfrm>
          <a:prstGeom prst="rect">
            <a:avLst/>
          </a:prstGeom>
          <a:ln w="0">
            <a:noFill/>
          </a:ln>
        </p:spPr>
      </p:pic>
      <p:sp>
        <p:nvSpPr>
          <p:cNvPr id="1132" name="Text Box 6"/>
          <p:cNvSpPr/>
          <p:nvPr/>
        </p:nvSpPr>
        <p:spPr>
          <a:xfrm>
            <a:off x="1238400" y="4876920"/>
            <a:ext cx="79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looks as if there may be more VFD in RBD than in LB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4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5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936C-CA85-434E-9F8E-4123C1339F1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nalysing a frequency table directly from the 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1"/>
          <a:stretch/>
        </p:blipFill>
        <p:spPr>
          <a:xfrm>
            <a:off x="4951440" y="1981080"/>
            <a:ext cx="4125960" cy="4114800"/>
          </a:xfrm>
          <a:prstGeom prst="rect">
            <a:avLst/>
          </a:prstGeom>
          <a:ln w="0">
            <a:noFill/>
          </a:ln>
        </p:spPr>
      </p:pic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577440" y="2133360"/>
            <a:ext cx="41259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Sometimes the observations have already been aggregated into frequenci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nter the frequencies for each cells of the table, identified by the levels of the classifying factors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.g. Lexical Decis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Type: {1 = Word , 2 = Nonword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Outcome: {1 = ‘Word’ , 2 = ‘Nonword’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y count for response ‘Word’ to Word items is 8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ies are stored in the variable called ‘freq’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0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1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93B62-9D85-4363-83FF-29C549B3B62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Weight Cases’ to analys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43" name="Picture 3" descr=""/>
          <p:cNvPicPr/>
          <p:nvPr/>
        </p:nvPicPr>
        <p:blipFill>
          <a:blip r:embed="rId1"/>
          <a:stretch/>
        </p:blipFill>
        <p:spPr>
          <a:xfrm>
            <a:off x="4621320" y="2057400"/>
            <a:ext cx="4125960" cy="1417680"/>
          </a:xfrm>
          <a:prstGeom prst="rect">
            <a:avLst/>
          </a:prstGeom>
          <a:ln w="0">
            <a:noFill/>
          </a:ln>
        </p:spPr>
      </p:pic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659880" y="2286000"/>
            <a:ext cx="4125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variable ‘freq’ contains the frequencie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CC513-AF7F-4799-84F3-3FF4CE4F531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Crosstabs’ to  generat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660240" y="2286000"/>
            <a:ext cx="4368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ross-classification by ‘typ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Stimulus = {Word, Non-word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d by ‘outcom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esponse = {‘Word’, Non-word’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50" name="Picture 6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29084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74492-213F-4D59-810B-F00EEBE2A1C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4: Categorical Data Analysi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6" name="Text Box 1029"/>
          <p:cNvSpPr/>
          <p:nvPr/>
        </p:nvSpPr>
        <p:spPr>
          <a:xfrm>
            <a:off x="1320840" y="2362320"/>
            <a:ext cx="8169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f210b"/>
                </a:solidFill>
                <a:latin typeface="Albertus Medium"/>
              </a:rPr>
              <a:t>Categorical Data, Contingency Tables and the Pearson Chi-Squared Statistic</a:t>
            </a:r>
            <a:endParaRPr b="0" lang="en-US" sz="3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7" name="Text Box 1030"/>
          <p:cNvSpPr/>
          <p:nvPr/>
        </p:nvSpPr>
        <p:spPr>
          <a:xfrm>
            <a:off x="1486080" y="3505320"/>
            <a:ext cx="7839000" cy="27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25 October 2018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cd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AA604-027C-4BA8-B685-0127747E2FB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mple use of SPSS 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55" name="Picture 3" descr=""/>
          <p:cNvPicPr/>
          <p:nvPr/>
        </p:nvPicPr>
        <p:blipFill>
          <a:blip r:embed="rId1"/>
          <a:stretch/>
        </p:blipFill>
        <p:spPr>
          <a:xfrm>
            <a:off x="5281560" y="2590920"/>
            <a:ext cx="3979800" cy="1463400"/>
          </a:xfrm>
          <a:prstGeom prst="rect">
            <a:avLst/>
          </a:prstGeom>
          <a:ln w="0">
            <a:noFill/>
          </a:ln>
        </p:spPr>
      </p:pic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77440" y="213372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ord recognition looks quite good (8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Non-word rejection is low (5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068BE-C43F-4F67-BFB0-7A541ACEE51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Goodness-of-Fit Chi-squared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ppose we have a Theor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.e. a ‘model’ that predicts the expected frequencies (E) in each categ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actually observe the frequencies (O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measure how good a fit the data are to the theory by the formula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= </a:t>
            </a:r>
            <a:r>
              <a:rPr b="0" lang="en-US" sz="3200" spc="-1" strike="noStrike">
                <a:solidFill>
                  <a:srgbClr val="8f210b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O-E)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/E where the sum is over all th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is called Pearson’s Chi-Squared Statist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DF781-39D9-4BAA-A376-2BED09841B9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ifica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arge values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uggest the model doesn’t fit the data wel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leads to Goodness-of-fit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look at the value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see whether it is unusually large by reference to a </a:t>
            </a:r>
            <a:r>
              <a:rPr b="0" lang="en-US" sz="36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38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-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istribution with k-1 degrees-of-freedom where k is the number of categories in the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714A6-0EDA-4E8F-A2EA-9F80B62AFDB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Degrees of Freedom’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 elusive concept that occurs throughout statistics. In essence it means the number of independent pieces of information in a sample relevant to the estimation of some parameters or calculation of a statisti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or example in a two-by-two contingency table with a given set of marginal totals only 1 of the cells at a time is ‘free’ -- once it is specified all the others are determined -- and the table thus has a single degree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important point here is we can only interpret X</a:t>
            </a:r>
            <a:r>
              <a:rPr b="0" lang="en-US" sz="2000" spc="-1" strike="noStrike" baseline="4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f we also know its degrees of freedom, as we see later when we look at the chi-squared distribution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F0F96-0E99-4754-9ECB-48207C93D56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Degrees of Freedom = 1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76" name=""/>
          <p:cNvGraphicFramePr/>
          <p:nvPr/>
        </p:nvGraphicFramePr>
        <p:xfrm>
          <a:off x="1281240" y="2017800"/>
          <a:ext cx="8416800" cy="4114800"/>
        </p:xfrm>
        <a:graphic>
          <a:graphicData uri="http://schemas.openxmlformats.org/drawingml/2006/table">
            <a:tbl>
              <a:tblPr/>
              <a:tblGrid>
                <a:gridCol w="2805120"/>
                <a:gridCol w="2806560"/>
                <a:gridCol w="2805120"/>
              </a:tblGrid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3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-3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3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2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CD852-3190-4B95-8ECB-D6A49EFB5A9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Degrees of Freedom = 4 (#rows-1) times (#cols -1)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81" name=""/>
          <p:cNvGraphicFramePr/>
          <p:nvPr/>
        </p:nvGraphicFramePr>
        <p:xfrm>
          <a:off x="487440" y="2017800"/>
          <a:ext cx="9210600" cy="4114800"/>
        </p:xfrm>
        <a:graphic>
          <a:graphicData uri="http://schemas.openxmlformats.org/drawingml/2006/table">
            <a:tbl>
              <a:tblPr/>
              <a:tblGrid>
                <a:gridCol w="2303280"/>
                <a:gridCol w="2301840"/>
                <a:gridCol w="2303640"/>
                <a:gridCol w="2301840"/>
              </a:tblGrid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-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u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2-x-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7-y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+y+u+v-9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3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2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2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11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3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28AF4-79E5-4951-9E4E-06395199599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olman, Ritchie and Kalish (1946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41324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ce learning in ra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1187" name="Group 1062"/>
          <p:cNvGrpSpPr/>
          <p:nvPr/>
        </p:nvGrpSpPr>
        <p:grpSpPr>
          <a:xfrm>
            <a:off x="914400" y="2971800"/>
            <a:ext cx="3341880" cy="3263760"/>
            <a:chOff x="914400" y="2971800"/>
            <a:chExt cx="3341880" cy="3263760"/>
          </a:xfrm>
        </p:grpSpPr>
        <p:grpSp>
          <p:nvGrpSpPr>
            <p:cNvPr id="1188" name="Group 1058"/>
            <p:cNvGrpSpPr/>
            <p:nvPr/>
          </p:nvGrpSpPr>
          <p:grpSpPr>
            <a:xfrm>
              <a:off x="914400" y="2971800"/>
              <a:ext cx="3341880" cy="2819160"/>
              <a:chOff x="914400" y="2971800"/>
              <a:chExt cx="3341880" cy="2819160"/>
            </a:xfrm>
          </p:grpSpPr>
          <p:sp>
            <p:nvSpPr>
              <p:cNvPr id="1189" name="Oval 1033"/>
              <p:cNvSpPr/>
              <p:nvPr/>
            </p:nvSpPr>
            <p:spPr>
              <a:xfrm>
                <a:off x="914400" y="4267080"/>
                <a:ext cx="1447920" cy="1523880"/>
              </a:xfrm>
              <a:prstGeom prst="ellipse">
                <a:avLst/>
              </a:pr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0" name="AutoShape 1034"/>
              <p:cNvSpPr/>
              <p:nvPr/>
            </p:nvSpPr>
            <p:spPr>
              <a:xfrm>
                <a:off x="1524240" y="2971800"/>
                <a:ext cx="1904760" cy="1295280"/>
              </a:xfrm>
              <a:custGeom>
                <a:avLst/>
                <a:gdLst>
                  <a:gd name="textAreaLeft" fmla="*/ 1095120 w 1904760"/>
                  <a:gd name="textAreaRight" fmla="*/ 1841400 w 1904760"/>
                  <a:gd name="textAreaTop" fmla="*/ 290520 h 1295280"/>
                  <a:gd name="textAreaBottom" fmla="*/ 438120 h 129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8078" y="0"/>
                    </a:lnTo>
                    <a:lnTo>
                      <a:pt x="18078" y="4846"/>
                    </a:lnTo>
                    <a:lnTo>
                      <a:pt x="12427" y="4846"/>
                    </a:lnTo>
                    <a:cubicBezTo>
                      <a:pt x="5564" y="4846"/>
                      <a:pt x="0" y="8120"/>
                      <a:pt x="0" y="12158"/>
                    </a:cubicBezTo>
                    <a:lnTo>
                      <a:pt x="0" y="21600"/>
                    </a:lnTo>
                    <a:lnTo>
                      <a:pt x="2521" y="21600"/>
                    </a:lnTo>
                    <a:lnTo>
                      <a:pt x="2521" y="12158"/>
                    </a:lnTo>
                    <a:cubicBezTo>
                      <a:pt x="2521" y="9482"/>
                      <a:pt x="6956" y="7312"/>
                      <a:pt x="12427" y="7312"/>
                    </a:cubicBezTo>
                    <a:lnTo>
                      <a:pt x="18078" y="7312"/>
                    </a:lnTo>
                    <a:lnTo>
                      <a:pt x="18078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1" name="Text Box 1035"/>
              <p:cNvSpPr/>
              <p:nvPr/>
            </p:nvSpPr>
            <p:spPr>
              <a:xfrm>
                <a:off x="3094560" y="3047760"/>
                <a:ext cx="1161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f210b"/>
                    </a:solidFill>
                    <a:latin typeface="Albertus Medium"/>
                  </a:rPr>
                  <a:t>Food</a:t>
                </a: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2" name="Text Box 1057"/>
              <p:cNvSpPr/>
              <p:nvPr/>
            </p:nvSpPr>
            <p:spPr>
              <a:xfrm>
                <a:off x="1467000" y="320040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A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</p:grpSp>
        <p:sp>
          <p:nvSpPr>
            <p:cNvPr id="1193" name="Text Box 1060"/>
            <p:cNvSpPr/>
            <p:nvPr/>
          </p:nvSpPr>
          <p:spPr>
            <a:xfrm>
              <a:off x="2142000" y="5715000"/>
              <a:ext cx="162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buClr>
                  <a:srgbClr val="a3ce82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f210b"/>
                  </a:solidFill>
                  <a:latin typeface="Albertus Medium"/>
                </a:rPr>
                <a:t>Phase 1</a:t>
              </a: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grpSp>
        <p:nvGrpSpPr>
          <p:cNvPr id="1194" name="Group 1067"/>
          <p:cNvGrpSpPr/>
          <p:nvPr/>
        </p:nvGrpSpPr>
        <p:grpSpPr>
          <a:xfrm>
            <a:off x="4469760" y="2590920"/>
            <a:ext cx="5128200" cy="3582720"/>
            <a:chOff x="4469760" y="2590920"/>
            <a:chExt cx="5128200" cy="3582720"/>
          </a:xfrm>
        </p:grpSpPr>
        <p:grpSp>
          <p:nvGrpSpPr>
            <p:cNvPr id="1195" name="Group 1064"/>
            <p:cNvGrpSpPr/>
            <p:nvPr/>
          </p:nvGrpSpPr>
          <p:grpSpPr>
            <a:xfrm>
              <a:off x="4572000" y="2590920"/>
              <a:ext cx="5025960" cy="3582720"/>
              <a:chOff x="4572000" y="2590920"/>
              <a:chExt cx="5025960" cy="3582720"/>
            </a:xfrm>
          </p:grpSpPr>
          <p:sp>
            <p:nvSpPr>
              <p:cNvPr id="1196" name="Text Box 1046"/>
              <p:cNvSpPr/>
              <p:nvPr/>
            </p:nvSpPr>
            <p:spPr>
              <a:xfrm>
                <a:off x="7696080" y="3886200"/>
                <a:ext cx="1901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D: New alley to original food source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grpSp>
            <p:nvGrpSpPr>
              <p:cNvPr id="1197" name="Group 1063"/>
              <p:cNvGrpSpPr/>
              <p:nvPr/>
            </p:nvGrpSpPr>
            <p:grpSpPr>
              <a:xfrm>
                <a:off x="4572000" y="2590920"/>
                <a:ext cx="3798720" cy="3582720"/>
                <a:chOff x="4572000" y="2590920"/>
                <a:chExt cx="3798720" cy="3582720"/>
              </a:xfrm>
            </p:grpSpPr>
            <p:grpSp>
              <p:nvGrpSpPr>
                <p:cNvPr id="1198" name="Group 1059"/>
                <p:cNvGrpSpPr/>
                <p:nvPr/>
              </p:nvGrpSpPr>
              <p:grpSpPr>
                <a:xfrm>
                  <a:off x="4572000" y="2590920"/>
                  <a:ext cx="3798720" cy="3352680"/>
                  <a:chOff x="4572000" y="2590920"/>
                  <a:chExt cx="3798720" cy="3352680"/>
                </a:xfrm>
              </p:grpSpPr>
              <p:sp>
                <p:nvSpPr>
                  <p:cNvPr id="1199" name="Oval 1038"/>
                  <p:cNvSpPr/>
                  <p:nvPr/>
                </p:nvSpPr>
                <p:spPr>
                  <a:xfrm>
                    <a:off x="4876560" y="4419720"/>
                    <a:ext cx="1447920" cy="1523880"/>
                  </a:xfrm>
                  <a:prstGeom prst="ellipse">
                    <a:avLst/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0" name="AutoShape 1040"/>
                  <p:cNvSpPr/>
                  <p:nvPr/>
                </p:nvSpPr>
                <p:spPr>
                  <a:xfrm rot="20100000">
                    <a:off x="4952520" y="3809880"/>
                    <a:ext cx="380880" cy="762120"/>
                  </a:xfrm>
                  <a:prstGeom prst="upArrow">
                    <a:avLst>
                      <a:gd name="adj1" fmla="val 46259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1" name="AutoShape 1041"/>
                  <p:cNvSpPr/>
                  <p:nvPr/>
                </p:nvSpPr>
                <p:spPr>
                  <a:xfrm rot="1500000">
                    <a:off x="5943600" y="38095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2" name="AutoShape 1042"/>
                  <p:cNvSpPr/>
                  <p:nvPr/>
                </p:nvSpPr>
                <p:spPr>
                  <a:xfrm>
                    <a:off x="5467320" y="37051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3" name="AutoShape 1043"/>
                  <p:cNvSpPr/>
                  <p:nvPr/>
                </p:nvSpPr>
                <p:spPr>
                  <a:xfrm rot="2700000">
                    <a:off x="6666840" y="3086280"/>
                    <a:ext cx="457200" cy="2057400"/>
                  </a:xfrm>
                  <a:prstGeom prst="upArrow">
                    <a:avLst>
                      <a:gd name="adj1" fmla="val 50000"/>
                      <a:gd name="adj2" fmla="val 11250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4" name="Text Box 1045"/>
                  <p:cNvSpPr/>
                  <p:nvPr/>
                </p:nvSpPr>
                <p:spPr>
                  <a:xfrm>
                    <a:off x="7209000" y="3352680"/>
                    <a:ext cx="1161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Food</a:t>
                    </a: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5" name="Text Box 1047"/>
                  <p:cNvSpPr/>
                  <p:nvPr/>
                </p:nvSpPr>
                <p:spPr>
                  <a:xfrm>
                    <a:off x="5505480" y="3276720"/>
                    <a:ext cx="326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A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6" name="Text Box 1048"/>
                  <p:cNvSpPr/>
                  <p:nvPr/>
                </p:nvSpPr>
                <p:spPr>
                  <a:xfrm>
                    <a:off x="6103080" y="3505320"/>
                    <a:ext cx="3254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C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7" name="Text Box 1049"/>
                  <p:cNvSpPr/>
                  <p:nvPr/>
                </p:nvSpPr>
                <p:spPr>
                  <a:xfrm>
                    <a:off x="4572000" y="3505320"/>
                    <a:ext cx="460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8" name="Text Box 1052"/>
                  <p:cNvSpPr/>
                  <p:nvPr/>
                </p:nvSpPr>
                <p:spPr>
                  <a:xfrm>
                    <a:off x="7465680" y="3048120"/>
                    <a:ext cx="3484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9" name="Line 1053"/>
                  <p:cNvSpPr/>
                  <p:nvPr/>
                </p:nvSpPr>
                <p:spPr>
                  <a:xfrm flipH="1" flipV="1">
                    <a:off x="7009920" y="4114800"/>
                    <a:ext cx="68580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10" name="Text Box 1054"/>
                  <p:cNvSpPr/>
                  <p:nvPr/>
                </p:nvSpPr>
                <p:spPr>
                  <a:xfrm>
                    <a:off x="5140800" y="2590920"/>
                    <a:ext cx="10296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locke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11" name="Line 1056"/>
                  <p:cNvSpPr/>
                  <p:nvPr/>
                </p:nvSpPr>
                <p:spPr>
                  <a:xfrm>
                    <a:off x="5410080" y="2895480"/>
                    <a:ext cx="228600" cy="838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</p:grpSp>
            <p:sp>
              <p:nvSpPr>
                <p:cNvPr id="1212" name="Text Box 1061"/>
                <p:cNvSpPr/>
                <p:nvPr/>
              </p:nvSpPr>
              <p:spPr>
                <a:xfrm>
                  <a:off x="6210720" y="5653080"/>
                  <a:ext cx="162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00"/>
                    </a:spcBef>
                    <a:buClr>
                      <a:srgbClr val="a3ce82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f210b"/>
                      </a:solidFill>
                      <a:latin typeface="Albertus Medium"/>
                    </a:rPr>
                    <a:t>Phase 2</a:t>
                  </a:r>
                  <a:endParaRPr b="0" lang="en-US" sz="2800" spc="-1" strike="noStrike">
                    <a:solidFill>
                      <a:srgbClr val="8f210b"/>
                    </a:solidFill>
                    <a:latin typeface="Albertus Medium"/>
                  </a:endParaRPr>
                </a:p>
              </p:txBody>
            </p:sp>
          </p:grpSp>
        </p:grpSp>
        <p:sp>
          <p:nvSpPr>
            <p:cNvPr id="1213" name="Text Box 1065"/>
            <p:cNvSpPr/>
            <p:nvPr/>
          </p:nvSpPr>
          <p:spPr>
            <a:xfrm>
              <a:off x="4469760" y="31860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4" name="Text Box 1066"/>
            <p:cNvSpPr/>
            <p:nvPr/>
          </p:nvSpPr>
          <p:spPr>
            <a:xfrm>
              <a:off x="5954040" y="32004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67B82-1BDA-428C-8D5D-9E393E36F0F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Goodness of Fit Test by han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1280880" y="3123720"/>
            <a:ext cx="812628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olman, Ritchie and Kalish (1946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=(4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8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1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 = 9.2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e 95% percentile of the 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(3) distribution is 7.82 (from table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 &lt; 0.0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xact P = 0.026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499"/>
              </a:spcBef>
              <a:spcAft>
                <a:spcPts val="499"/>
              </a:spcAft>
              <a:buClr>
                <a:srgbClr val="a3dc96"/>
              </a:buClr>
              <a:buSzPct val="50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f210b"/>
                </a:solidFill>
                <a:latin typeface="Albertus Medium"/>
              </a:rPr>
              <a:t>Via MATLAB: 1-chi2cdf(9.25,3)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We reject the Null Hypothesis that Alleys are chosen equiprobably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220" name="Object 1030"/>
          <p:cNvGraphicFramePr/>
          <p:nvPr/>
        </p:nvGraphicFramePr>
        <p:xfrm>
          <a:off x="1733400" y="1981080"/>
          <a:ext cx="4125960" cy="248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1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3400" y="1981080"/>
                    <a:ext cx="4125960" cy="24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B90D7-E33F-4F68-A281-C72095D9669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lley’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1,2,3,4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hoices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4,5,8,1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27" name="Picture 1031" descr=""/>
          <p:cNvPicPr/>
          <p:nvPr/>
        </p:nvPicPr>
        <p:blipFill>
          <a:blip r:embed="rId1"/>
          <a:stretch/>
        </p:blipFill>
        <p:spPr>
          <a:xfrm>
            <a:off x="5694480" y="2133720"/>
            <a:ext cx="31874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E4B6A-8C78-4EFD-8D9F-A364DFF05BA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ive the alleys lab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1 = ‘A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2 = ‘B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3" name="Picture 5" descr=""/>
          <p:cNvPicPr/>
          <p:nvPr/>
        </p:nvPicPr>
        <p:blipFill>
          <a:blip r:embed="rId1"/>
          <a:stretch/>
        </p:blipFill>
        <p:spPr>
          <a:xfrm>
            <a:off x="6024600" y="2209680"/>
            <a:ext cx="270180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FF345-1B5F-43D2-BDD6-4CFD8036E15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The Naming of P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ategorical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requency Tab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Goodness-of-Fit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Distribu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Binomial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test for associ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son, Cohen and McNema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C9BA3-011B-4C6E-9388-DE557C5FB98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choices’ as this contains the frequency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9" name="Picture 1030" descr=""/>
          <p:cNvPicPr/>
          <p:nvPr/>
        </p:nvPicPr>
        <p:blipFill>
          <a:blip r:embed="rId1"/>
          <a:stretch/>
        </p:blipFill>
        <p:spPr>
          <a:xfrm>
            <a:off x="5364000" y="2514600"/>
            <a:ext cx="397044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1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2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9DE16-FF9C-4FBB-9EF5-1F32B987334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hi-squar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hypothetical probabiliti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 the expected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45" name="Picture 5" descr=""/>
          <p:cNvPicPr/>
          <p:nvPr/>
        </p:nvPicPr>
        <p:blipFill>
          <a:blip r:embed="rId1"/>
          <a:stretch/>
        </p:blipFill>
        <p:spPr>
          <a:xfrm>
            <a:off x="4951440" y="1371600"/>
            <a:ext cx="4019400" cy="2327400"/>
          </a:xfrm>
          <a:prstGeom prst="rect">
            <a:avLst/>
          </a:prstGeom>
          <a:ln w="0">
            <a:noFill/>
          </a:ln>
        </p:spPr>
      </p:pic>
      <p:pic>
        <p:nvPicPr>
          <p:cNvPr id="1246" name="Picture 6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501336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1810A-AA34-4F97-8D10-0B0E53963A5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from Chi-Square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51" name="Rectangle 4"/>
          <p:cNvSpPr/>
          <p:nvPr/>
        </p:nvSpPr>
        <p:spPr>
          <a:xfrm>
            <a:off x="2313360" y="198108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-Square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52" name="Picture 5" descr=""/>
          <p:cNvPicPr/>
          <p:nvPr/>
        </p:nvPicPr>
        <p:blipFill>
          <a:blip r:embed="rId1"/>
          <a:stretch/>
        </p:blipFill>
        <p:spPr>
          <a:xfrm>
            <a:off x="2394000" y="2590920"/>
            <a:ext cx="3870360" cy="1636560"/>
          </a:xfrm>
          <a:prstGeom prst="rect">
            <a:avLst/>
          </a:prstGeom>
          <a:ln w="0">
            <a:noFill/>
          </a:ln>
        </p:spPr>
      </p:pic>
      <p:pic>
        <p:nvPicPr>
          <p:cNvPr id="1253" name="Picture 6" descr=""/>
          <p:cNvPicPr/>
          <p:nvPr/>
        </p:nvPicPr>
        <p:blipFill>
          <a:blip r:embed="rId2"/>
          <a:stretch/>
        </p:blipFill>
        <p:spPr>
          <a:xfrm>
            <a:off x="2394000" y="4419720"/>
            <a:ext cx="366228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923D8-B94A-4E95-9118-B8294E94535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(</a:t>
            </a:r>
            <a:r>
              <a:rPr b="0" lang="en-US" sz="4400" spc="-1" strike="noStrike">
                <a:solidFill>
                  <a:srgbClr val="515f7b"/>
                </a:solidFill>
                <a:latin typeface="Symbol"/>
                <a:ea typeface="Symbol"/>
              </a:rPr>
              <a:t></a:t>
            </a:r>
            <a:r>
              <a:rPr b="0" lang="en-US" sz="4000" spc="-1" strike="noStrike" baseline="38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) Distribution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58" name="Picture 7" descr="chisquared"/>
          <p:cNvPicPr/>
          <p:nvPr/>
        </p:nvPicPr>
        <p:blipFill>
          <a:blip r:embed="rId1"/>
          <a:stretch/>
        </p:blipFill>
        <p:spPr>
          <a:xfrm>
            <a:off x="4703760" y="2057400"/>
            <a:ext cx="5010120" cy="3429000"/>
          </a:xfrm>
          <a:prstGeom prst="rect">
            <a:avLst/>
          </a:prstGeom>
          <a:ln w="0">
            <a:noFill/>
          </a:ln>
        </p:spPr>
      </p:pic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hape determined by ‘degrees of freedom’ (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J-shaped for df = 1 or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nimodal for df &gt;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ode = df - 2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 = df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4C058-9A7E-488C-8B0B-C67232766AE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 performance and 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a multiple choice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-alternative forced choice (2AF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p(error) =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AFC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0.25, p(error) = 0.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as the subject just guessing when she got 14/20 in a 2AFC tes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86AA3-DABA-4D28-8EAF-2F8327C6FE4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12920" y="213372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Binomial Tes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70" name="Picture 5" descr=""/>
          <p:cNvPicPr/>
          <p:nvPr/>
        </p:nvPicPr>
        <p:blipFill>
          <a:blip r:embed="rId1"/>
          <a:stretch/>
        </p:blipFill>
        <p:spPr>
          <a:xfrm>
            <a:off x="4869000" y="2590920"/>
            <a:ext cx="43941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2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3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542B0-A975-4F56-8D70-7C6298F9FAE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of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75" name="Picture 3" descr=""/>
          <p:cNvPicPr/>
          <p:nvPr/>
        </p:nvPicPr>
        <p:blipFill>
          <a:blip r:embed="rId1"/>
          <a:stretch/>
        </p:blipFill>
        <p:spPr>
          <a:xfrm>
            <a:off x="2228760" y="2133720"/>
            <a:ext cx="6297840" cy="1261800"/>
          </a:xfrm>
          <a:prstGeom prst="rect">
            <a:avLst/>
          </a:prstGeom>
          <a:ln w="0">
            <a:noFill/>
          </a:ln>
        </p:spPr>
      </p:pic>
      <p:sp>
        <p:nvSpPr>
          <p:cNvPr id="1276" name="Text Box 4"/>
          <p:cNvSpPr/>
          <p:nvPr/>
        </p:nvSpPr>
        <p:spPr>
          <a:xfrm>
            <a:off x="1303200" y="3952800"/>
            <a:ext cx="7691400" cy="23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data (14/20) are consistent with chance performanc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nfidence interval approach can be a more informative altern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1EB90-21B5-4D72-87B2-C433D0CDEB9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fidence Intervals for Binomial Proportion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1" name="Text Box 4"/>
          <p:cNvSpPr/>
          <p:nvPr/>
        </p:nvSpPr>
        <p:spPr>
          <a:xfrm>
            <a:off x="907920" y="2438280"/>
            <a:ext cx="76914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X=14, N=20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ALD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99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901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ILSON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81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855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Consistent with the P values, the Confidence Interval only </a:t>
            </a:r>
            <a:r>
              <a:rPr b="1" i="1" lang="en-US" sz="2000" spc="-1" strike="noStrike">
                <a:solidFill>
                  <a:srgbClr val="000000"/>
                </a:solidFill>
                <a:latin typeface="Albertus Medium"/>
              </a:rPr>
              <a:t>just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 includes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(Calculated using a spreadsheet available on the CBU statistics website at </a:t>
            </a:r>
            <a:r>
              <a:rPr b="1" lang="en-US" sz="1600" spc="-1" strike="noStrike" u="sng">
                <a:solidFill>
                  <a:srgbClr val="a3ce82"/>
                </a:solidFill>
                <a:uFillTx/>
                <a:latin typeface="Times New Roman"/>
                <a:hlinkClick r:id="rId1"/>
              </a:rPr>
              <a:t>http://imaging.mrc-cbu.cam.ac.uk/statswiki/FAQ/BinomialConfidence</a:t>
            </a: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. which also features a similar solution to the difference in two (in)dependent propor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26825-195D-473C-9717-2F3CAD0F184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oah’s Ark, </a:t>
            </a: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or The World of Two by Two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arson’s Chi-square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ates’ Continuity Correc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sher’s Exact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dds and Odds Ratio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log odds and log odds ratio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nsitivity and Specific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erd Gigerenzer (2002).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Reckoning with Risk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Pengui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ignal Detection The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87" name="Picture 6" descr=""/>
          <p:cNvPicPr/>
          <p:nvPr/>
        </p:nvPicPr>
        <p:blipFill>
          <a:blip r:embed="rId1"/>
          <a:stretch/>
        </p:blipFill>
        <p:spPr>
          <a:xfrm>
            <a:off x="7467480" y="2743200"/>
            <a:ext cx="1197000" cy="18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9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0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590B2-B6C5-47CC-A762-C52BA4096A9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al Detection Theor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92" name="Picture 3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921120" cy="2654280"/>
          </a:xfrm>
          <a:prstGeom prst="rect">
            <a:avLst/>
          </a:prstGeom>
          <a:ln w="0">
            <a:noFill/>
          </a:ln>
        </p:spPr>
      </p:pic>
      <p:sp>
        <p:nvSpPr>
          <p:cNvPr id="1293" name="Text Box 4"/>
          <p:cNvSpPr/>
          <p:nvPr/>
        </p:nvSpPr>
        <p:spPr>
          <a:xfrm>
            <a:off x="457200" y="259092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Example 2a from Macmillan &amp; Creelman, 1991, p.3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94" name="Picture 5" descr=""/>
          <p:cNvPicPr/>
          <p:nvPr/>
        </p:nvPicPr>
        <p:blipFill>
          <a:blip r:embed="rId2"/>
          <a:stretch/>
        </p:blipFill>
        <p:spPr>
          <a:xfrm>
            <a:off x="1905120" y="4724280"/>
            <a:ext cx="3665520" cy="13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997C1-087E-44E5-9207-DEA70262982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PSS procedures that help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information about one classification at a tim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ROSSTAB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bined information about more than one classifica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HI-SQUA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paring observed frequencies with hypothetical on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BINOMI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testing whether performance differs from ‘chance’ </a:t>
            </a:r>
            <a:r>
              <a:rPr b="0" i="1" lang="en-US" sz="1400" spc="-1" strike="noStrike">
                <a:solidFill>
                  <a:srgbClr val="8f210b"/>
                </a:solidFill>
                <a:latin typeface="Albertus Medium"/>
              </a:rPr>
              <a:t>(whatever that is)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6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7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B2095-DFE6-4CA9-A6B2-FB312AD151F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ensitivity and Specificit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esting for the presence of a Disease in a person from a popul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nsitivity: Probability that a Positive result means when the Disease is present - P(+|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ecificity: Probability that a person who tests Positive has the Disease – P(D|+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nfluenced by the Prevalence of the Disease in the population: P(D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See Martin Bland: An Introduction to Medical Statistic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ay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49A9B-1CC6-4077-84D5-7E68CC65686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05" name="Object 0"/>
          <p:cNvGraphicFramePr/>
          <p:nvPr/>
        </p:nvGraphicFramePr>
        <p:xfrm>
          <a:off x="3135240" y="2895480"/>
          <a:ext cx="4656240" cy="263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5240" y="2895480"/>
                    <a:ext cx="465624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7" name="Text Box 5"/>
          <p:cNvSpPr/>
          <p:nvPr/>
        </p:nvSpPr>
        <p:spPr>
          <a:xfrm>
            <a:off x="1403280" y="510552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New treatment is positively associated with recovery (Recovery rate 10.6% vs 4.8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10789-E4D6-4BC3-93FE-7D2209A039F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13" name="Object 4"/>
          <p:cNvGraphicFramePr/>
          <p:nvPr/>
        </p:nvGraphicFramePr>
        <p:xfrm>
          <a:off x="3500280" y="2898720"/>
          <a:ext cx="4884840" cy="262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0280" y="2898720"/>
                    <a:ext cx="488484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5" name="Text Box 5"/>
          <p:cNvSpPr/>
          <p:nvPr/>
        </p:nvSpPr>
        <p:spPr>
          <a:xfrm>
            <a:off x="1403280" y="5181480"/>
            <a:ext cx="8155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gain, the New treatment is positively associated with recovery (Recovery rate 98.8% vs 67.2%)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1B2E9-F42A-4A89-A5A8-8423BBA1D07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bined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21" name="Object 4"/>
          <p:cNvGraphicFramePr/>
          <p:nvPr/>
        </p:nvGraphicFramePr>
        <p:xfrm>
          <a:off x="4381560" y="2819520"/>
          <a:ext cx="4113000" cy="311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560" y="2819520"/>
                    <a:ext cx="4113000" cy="31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3" name="Text Box 5"/>
          <p:cNvSpPr/>
          <p:nvPr/>
        </p:nvSpPr>
        <p:spPr>
          <a:xfrm>
            <a:off x="1403280" y="518148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en combined, the New treatment is negatively associated with recovery (Recovery rate 35.8% vs 57.9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EEBA4-7976-4312-91D8-69E2DBF9085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impson’s Paradox explaine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328" name="Object 5"/>
          <p:cNvGraphicFramePr/>
          <p:nvPr/>
        </p:nvGraphicFramePr>
        <p:xfrm>
          <a:off x="343080" y="2133720"/>
          <a:ext cx="5016240" cy="38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2133720"/>
                    <a:ext cx="501624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0" name="Text Box 7"/>
          <p:cNvSpPr/>
          <p:nvPr/>
        </p:nvSpPr>
        <p:spPr>
          <a:xfrm>
            <a:off x="5599080" y="2637000"/>
            <a:ext cx="396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end points of the in-between line are differently weighted averages of the end points of the upper and lower lin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9B310-932B-4244-9BE5-C43EC0D46A4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agreemen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Kapp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judges rate items on the same categorical sca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ow well do they agre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Crosstabs with two classifying variable having the sam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Kappa under the Statistics op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imaging.mrc-cbu.cam.ac.uk/statswiki/FAQ/kapp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Alternative kappa (Brennan and Prediger, 198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3BB7B-4E61-4011-8BF1-A8E11D28B87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1568520" y="4038480"/>
            <a:ext cx="73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% Agreement is 21/30 = 70% but could be high due to cha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41" name="Picture 5" descr=""/>
          <p:cNvPicPr/>
          <p:nvPr/>
        </p:nvPicPr>
        <p:blipFill>
          <a:blip r:embed="rId1"/>
          <a:stretch/>
        </p:blipFill>
        <p:spPr>
          <a:xfrm>
            <a:off x="3135240" y="2057400"/>
            <a:ext cx="4127400" cy="1490760"/>
          </a:xfrm>
          <a:prstGeom prst="rect">
            <a:avLst/>
          </a:prstGeom>
          <a:ln w="0">
            <a:noFill/>
          </a:ln>
        </p:spPr>
      </p:pic>
      <p:sp>
        <p:nvSpPr>
          <p:cNvPr id="1342" name="Oval 6"/>
          <p:cNvSpPr/>
          <p:nvPr/>
        </p:nvSpPr>
        <p:spPr>
          <a:xfrm>
            <a:off x="8915400" y="1219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3" name="Oval 7"/>
          <p:cNvSpPr/>
          <p:nvPr/>
        </p:nvSpPr>
        <p:spPr>
          <a:xfrm>
            <a:off x="5045040" y="28432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4" name="Oval 8"/>
          <p:cNvSpPr/>
          <p:nvPr/>
        </p:nvSpPr>
        <p:spPr>
          <a:xfrm>
            <a:off x="5646600" y="298764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5" name="Oval 9"/>
          <p:cNvSpPr/>
          <p:nvPr/>
        </p:nvSpPr>
        <p:spPr>
          <a:xfrm>
            <a:off x="6248520" y="3124080"/>
            <a:ext cx="152280" cy="1526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44ABA-7E48-4D91-BC46-3C12896A321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-corrected 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50" name="Picture 6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5305680" cy="1360440"/>
          </a:xfrm>
          <a:prstGeom prst="rect">
            <a:avLst/>
          </a:prstGeom>
          <a:ln w="0">
            <a:noFill/>
          </a:ln>
        </p:spPr>
      </p:pic>
      <p:sp>
        <p:nvSpPr>
          <p:cNvPr id="1351" name="Text Box 7"/>
          <p:cNvSpPr/>
          <p:nvPr/>
        </p:nvSpPr>
        <p:spPr>
          <a:xfrm>
            <a:off x="495360" y="4876920"/>
            <a:ext cx="818676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ohen’s Kappa (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= 0.473) is chance-corrected: 47.3%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reement between the judges is well above chance, but is it good enough?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D16E6-9258-422E-A836-F7D40085A8A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chang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1320840" y="1980720"/>
            <a:ext cx="841680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patient with acquired dyslexia does a 40 item picture naming task twice at a 6 month interv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7" name="Rectangle 5"/>
          <p:cNvSpPr/>
          <p:nvPr/>
        </p:nvSpPr>
        <p:spPr>
          <a:xfrm>
            <a:off x="1403280" y="4836960"/>
            <a:ext cx="8417160" cy="14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ccuracy falls from 19/40 to 11/4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s this a real deterioration, noting that 28/40 items show no change across the two test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58" name="Picture 6" descr=""/>
          <p:cNvPicPr/>
          <p:nvPr/>
        </p:nvPicPr>
        <p:blipFill>
          <a:blip r:embed="rId1"/>
          <a:stretch/>
        </p:blipFill>
        <p:spPr>
          <a:xfrm>
            <a:off x="3382920" y="3352680"/>
            <a:ext cx="3565440" cy="1463760"/>
          </a:xfrm>
          <a:prstGeom prst="rect">
            <a:avLst/>
          </a:prstGeom>
          <a:ln w="0">
            <a:noFill/>
          </a:ln>
        </p:spPr>
      </p:pic>
      <p:sp>
        <p:nvSpPr>
          <p:cNvPr id="1359" name="Oval 7"/>
          <p:cNvSpPr/>
          <p:nvPr/>
        </p:nvSpPr>
        <p:spPr>
          <a:xfrm>
            <a:off x="5073480" y="417528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0" name="Oval 8"/>
          <p:cNvSpPr/>
          <p:nvPr/>
        </p:nvSpPr>
        <p:spPr>
          <a:xfrm>
            <a:off x="5765760" y="43354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4FEC-A4C6-418F-A93D-9217F8CFEF7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4825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is is specifically designed for this type of hypothesi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quivalent to a Binomial Test (with p=0.5) of Freq(Correct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rror) vs. Freq(Error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Correct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In this case 10 vs. 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66" name="Picture 4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951360" cy="2838240"/>
          </a:xfrm>
          <a:prstGeom prst="rect">
            <a:avLst/>
          </a:prstGeom>
          <a:ln w="0">
            <a:noFill/>
          </a:ln>
        </p:spPr>
      </p:pic>
      <p:pic>
        <p:nvPicPr>
          <p:cNvPr id="1367" name="Picture 5" descr=""/>
          <p:cNvPicPr/>
          <p:nvPr/>
        </p:nvPicPr>
        <p:blipFill>
          <a:blip r:embed="rId2"/>
          <a:stretch/>
        </p:blipFill>
        <p:spPr>
          <a:xfrm>
            <a:off x="1066680" y="4191120"/>
            <a:ext cx="3565800" cy="1463400"/>
          </a:xfrm>
          <a:prstGeom prst="rect">
            <a:avLst/>
          </a:prstGeom>
          <a:ln w="0">
            <a:noFill/>
          </a:ln>
        </p:spPr>
      </p:pic>
      <p:sp>
        <p:nvSpPr>
          <p:cNvPr id="1368" name="Oval 7"/>
          <p:cNvSpPr/>
          <p:nvPr/>
        </p:nvSpPr>
        <p:spPr>
          <a:xfrm>
            <a:off x="3405240" y="49687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9" name="Oval 8"/>
          <p:cNvSpPr/>
          <p:nvPr/>
        </p:nvSpPr>
        <p:spPr>
          <a:xfrm>
            <a:off x="2717640" y="51325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26D2E-4D2E-4E33-9759-14364FC2BDA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nt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umerical measurements or cou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ntinuous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Reaction time, BOLD signal, EEG signal,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iscrete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ole numbers, like numbers of errors, marks in an exam …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27EF1-D7C8-4F37-9520-8A94D58131D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12560" y="1981080"/>
            <a:ext cx="482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this case we can assert that there is evidence of deterior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75" name="Picture 6" descr=""/>
          <p:cNvPicPr/>
          <p:nvPr/>
        </p:nvPicPr>
        <p:blipFill>
          <a:blip r:embed="rId1"/>
          <a:stretch/>
        </p:blipFill>
        <p:spPr>
          <a:xfrm>
            <a:off x="5281560" y="2057400"/>
            <a:ext cx="4446720" cy="1289160"/>
          </a:xfrm>
          <a:prstGeom prst="rect">
            <a:avLst/>
          </a:prstGeom>
          <a:ln w="0">
            <a:noFill/>
          </a:ln>
        </p:spPr>
      </p:pic>
      <p:sp>
        <p:nvSpPr>
          <p:cNvPr id="1376" name="Rectangle 7"/>
          <p:cNvSpPr/>
          <p:nvPr/>
        </p:nvSpPr>
        <p:spPr>
          <a:xfrm>
            <a:off x="271440" y="4076640"/>
            <a:ext cx="8612280" cy="18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obtain confidence intervals for the difference in proportions: </a:t>
            </a:r>
            <a:r>
              <a:rPr b="0" lang="en-GB" sz="2000" spc="-1" strike="noStrike" u="sng">
                <a:solidFill>
                  <a:srgbClr val="a3ce82"/>
                </a:solidFill>
                <a:uFillTx/>
                <a:latin typeface="Albertus Medium"/>
                <a:hlinkClick r:id="rId2"/>
              </a:rPr>
              <a:t>http://imaging.mrc-cbu.cam.ac.uk/statswiki/FAQ/BinomialConfidence/2gp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lso McNemar-Bowker tests for changes in times in a k x k table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F8AFF-EAAF-4E61-BCED-C692E90B6EC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hi-squared test of associ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paring two or more classified sampl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esting whether the frequencies for one classification depend on the category of another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nly to be used when the numbers in the cells are frequencies, never with proportions, percentages or measureme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10F03-8568-4B6A-82CF-002C3094698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12920" y="22096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s Side of Lesion associated with Sex of Patien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Frequencies and then ‘Chi-square’ and ‘Phi’ under Statistics, and  ‘Exact’ under Exact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87" name="Picture 5" descr=""/>
          <p:cNvPicPr/>
          <p:nvPr/>
        </p:nvPicPr>
        <p:blipFill>
          <a:blip r:embed="rId1"/>
          <a:stretch/>
        </p:blipFill>
        <p:spPr>
          <a:xfrm>
            <a:off x="4869000" y="2286000"/>
            <a:ext cx="495144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BACDF-18CC-4EC8-ADC9-0B2E8E90415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Output ...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329760" y="3962160"/>
            <a:ext cx="41259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any above-chance association between Sex and Side of Les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93" name="Picture 5" descr=""/>
          <p:cNvPicPr/>
          <p:nvPr/>
        </p:nvPicPr>
        <p:blipFill>
          <a:blip r:embed="rId1"/>
          <a:stretch/>
        </p:blipFill>
        <p:spPr>
          <a:xfrm>
            <a:off x="3630600" y="1905120"/>
            <a:ext cx="6083280" cy="2157120"/>
          </a:xfrm>
          <a:prstGeom prst="rect">
            <a:avLst/>
          </a:prstGeom>
          <a:ln w="0">
            <a:noFill/>
          </a:ln>
        </p:spPr>
      </p:pic>
      <p:pic>
        <p:nvPicPr>
          <p:cNvPr id="1394" name="Picture 6" descr=""/>
          <p:cNvPicPr/>
          <p:nvPr/>
        </p:nvPicPr>
        <p:blipFill>
          <a:blip r:embed="rId2"/>
          <a:stretch/>
        </p:blipFill>
        <p:spPr>
          <a:xfrm>
            <a:off x="4621320" y="4114800"/>
            <a:ext cx="4811760" cy="1646280"/>
          </a:xfrm>
          <a:prstGeom prst="rect">
            <a:avLst/>
          </a:prstGeom>
          <a:ln w="0">
            <a:noFill/>
          </a:ln>
        </p:spPr>
      </p:pic>
      <p:sp>
        <p:nvSpPr>
          <p:cNvPr id="1395" name="Rectangle 7"/>
          <p:cNvSpPr/>
          <p:nvPr/>
        </p:nvSpPr>
        <p:spPr>
          <a:xfrm>
            <a:off x="382680" y="5734080"/>
            <a:ext cx="9007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derive confidence intervals for difference in proportio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inomialConfidence/2g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2E00C-09B0-4D64-953D-A9009E1A016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Larger tabl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wo way tables can be analysed the same wa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ree- (or more)  way classifications need a more analytical approach such as Log Linear Modelling, available with the Loglinear procedure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5E33A-99B2-4756-B566-91210D4DBB9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 3 x 3 Examp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05" name="Picture 5" descr=""/>
          <p:cNvPicPr/>
          <p:nvPr/>
        </p:nvPicPr>
        <p:blipFill>
          <a:blip r:embed="rId1"/>
          <a:stretch/>
        </p:blipFill>
        <p:spPr>
          <a:xfrm>
            <a:off x="247680" y="1981080"/>
            <a:ext cx="5010120" cy="1636920"/>
          </a:xfrm>
          <a:prstGeom prst="rect">
            <a:avLst/>
          </a:prstGeom>
          <a:ln w="0">
            <a:noFill/>
          </a:ln>
        </p:spPr>
      </p:pic>
      <p:pic>
        <p:nvPicPr>
          <p:cNvPr id="1406" name="Picture 6" descr=""/>
          <p:cNvPicPr/>
          <p:nvPr/>
        </p:nvPicPr>
        <p:blipFill>
          <a:blip r:embed="rId2"/>
          <a:stretch/>
        </p:blipFill>
        <p:spPr>
          <a:xfrm>
            <a:off x="5199120" y="2057400"/>
            <a:ext cx="3960720" cy="1920960"/>
          </a:xfrm>
          <a:prstGeom prst="rect">
            <a:avLst/>
          </a:prstGeom>
          <a:ln w="0">
            <a:noFill/>
          </a:ln>
        </p:spPr>
      </p:pic>
      <p:pic>
        <p:nvPicPr>
          <p:cNvPr id="1407" name="Picture 7" descr=""/>
          <p:cNvPicPr/>
          <p:nvPr/>
        </p:nvPicPr>
        <p:blipFill>
          <a:blip r:embed="rId3"/>
          <a:stretch/>
        </p:blipFill>
        <p:spPr>
          <a:xfrm>
            <a:off x="2146320" y="4267080"/>
            <a:ext cx="465300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82614-F0BD-4020-97BE-CF5081CE47C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ooling of data can mislead, or even violate the assumptions of the tests (cf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imp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ach individual observation is supposed to be independent of the othe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 pooling multiple observations across a group of subjects will typically violate this rul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needs to be handled using either summary measures (e.g. Log Odds), Generalised Linear Mixed Models or Matched Pairs: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MatchedPai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0DE42-F0A0-44EE-B965-D1D74DE2C0A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is conventional to be cautious if there are low  Expected values in any cell (e.g. E&lt;5)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research suggest this is overcautious, though use of Fisher’s Exact Test is recommended in the general case. Campbell (2007) however suggests (N-1/N) x chi-square for 2x2 tables with Expected Values &gt; 1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lternatively one can amalgamate across two or more categori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19CF7-E017-4AD7-8272-67E9B54FBA7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ext week at 11am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OVA of balanced multi-factorial designs: between subject designs, and single subject studies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                                                                                             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F802B-7F79-4C48-A6BC-E62ACC8D8B1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l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dinal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46F44-DA21-4377-A320-909DDC68953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ominal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descriptive lab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utcome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rror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orrect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x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Fe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47B45-92E9-4060-A60E-91395A6086B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From ICD-10: Chapter V: Mental and behavioural disorders</a:t>
            </a:r>
            <a:br>
              <a:rPr sz="2000"/>
            </a:br>
            <a:r>
              <a:rPr b="0" lang="en-US" sz="1400" spc="-1" strike="noStrike">
                <a:solidFill>
                  <a:srgbClr val="515f7b"/>
                </a:solidFill>
                <a:latin typeface="Albertus Medium"/>
              </a:rPr>
              <a:t>(International Statistical Classification of Diseases and Related Health Problems)</a:t>
            </a:r>
            <a:endParaRPr b="0" lang="en-US" sz="1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34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00-F99 - Mental and behaviour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-F09) Organic, including symptomatic, ment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.) Dementia in Alzheimer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) Vascular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1) Multi-infarct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) Dementia in other diseases classified elsewher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0) Dementia in Pick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1) Dementia in Creutzfeldt-Jakob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2) Dementia in Huntingt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3) Dementia in Parkins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4) Dementia in human immunodeficiency virus (HIV)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3.) Unspecified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4.) Organic amnesic syndrome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5.) Delirium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6.) Other mental disorders due to brain damage and dysfunction and to physical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7.) Personality and behavioural disorders due to brain disease, damage and dysfunc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9.) Unspecified organic or symptomatic mental disorder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A256F-BC04-4797-BB19-52638519543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rdinal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ranged in an ord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ating scal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ndorsement of a statement: {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Neutral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Dis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disagre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g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e Group: {20+ to 30, 30+ to 40, 40+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osi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Birth order: {1st, 2nd, 3rd, 4th, ...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arget position: {Left, Central, Right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rial block: {1st, 2nd, 3rd, …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4-10-20T13:39:49Z</cp:lastPrinted>
  <dcterms:modified xsi:type="dcterms:W3CDTF">2021-09-29T12:16:41Z</dcterms:modified>
  <cp:revision>123</cp:revision>
  <dc:subject/>
  <dc:title>Aims and Objectives</dc:title>
</cp:coreProperties>
</file>