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D8EE-E254-4852-A2C4-5F1AFD295B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5416-70DF-4ABE-A019-6E508A5489E3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82A77-A9B7-4220-9944-0E6C06036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CD4F2-99F8-430C-930B-D277C8B65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C4AAF-42CD-425B-9C4B-4EE13CD1C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E7D1F-687F-4018-86B9-0AE96933E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EC4A7-A0C6-4548-881F-66CAEF54EE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4D8DB-232F-4338-94CA-02F2E961EC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AC770-B66A-43F6-8E22-DFC96AD9DF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59704-1FDD-4C37-B6AB-C4B37D3792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58604-0EBC-4D35-9268-324A91AFDC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4FC7E-287B-4D5B-BB39-1EC1D705D3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B82AF-80EB-487F-A0AA-114D1799F8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E2DEF-379E-4712-9258-AD58E3D03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11C29-E999-4515-8FAF-760A79A156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C283A-DAE5-4F23-8F02-FD4A9026C4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9B8C1-E72B-47CA-B2ED-E6068A922E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58B65-5AA4-4CAB-BF69-15BCA9D30F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F2C85-DE25-4280-9982-007AB45042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12EA4-6FC2-4FAE-91AA-9EF5B16DB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7A77F-2C57-4944-BDBD-EC14BFBAA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88744-226A-40B0-AC75-10FD3C69B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D1525-612A-4A80-890E-B5C2B929F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36A53-1503-4A9B-BAB1-6616F5069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9F0B8-4109-4424-9828-1C0EB6A39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60981-DFED-4349-AC8E-FB12AC532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0BCDEDC-79CD-4A56-BB03-E95EA68AFDC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C643DEA-69F2-4E52-AA22-571884FDCF4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908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9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51264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813FD60-1985-4F48-8D98-03BCBAE3542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A5DB3BD-AB43-4A27-9087-D6C9360BEF3C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http://onlinestatbook.com/stat_sim/sampling_dist/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"/>
          <p:cNvSpPr/>
          <p:nvPr/>
        </p:nvSpPr>
        <p:spPr>
          <a:xfrm>
            <a:off x="236520" y="5910120"/>
            <a:ext cx="88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Bland JM, Altman DG. Statistical methods for assessing agreement between two methods of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clinical measurement. </a:t>
            </a:r>
            <a:r>
              <a:rPr b="0" i="1" lang="en-GB" sz="1600" spc="-1" strike="noStrike">
                <a:solidFill>
                  <a:srgbClr val="9a044b"/>
                </a:solidFill>
                <a:latin typeface="Times New Roman"/>
              </a:rPr>
              <a:t>Lancet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 1986; </a:t>
            </a:r>
            <a:r>
              <a:rPr b="1" lang="en-GB" sz="1600" spc="-1" strike="noStrike">
                <a:solidFill>
                  <a:srgbClr val="9a044b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: 307-10. </a:t>
            </a:r>
            <a:r>
              <a:rPr b="0" lang="en-GB" sz="1600" spc="-1" strike="noStrike">
                <a:solidFill>
                  <a:srgbClr val="0070c0"/>
                </a:solidFill>
                <a:latin typeface="Times New Roman"/>
              </a:rPr>
              <a:t>Comparing within subject using paired t-test on deviation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21-09-29T12:02:39Z</dcterms:modified>
  <cp:revision>354</cp:revision>
  <dc:subject/>
  <dc:title>Exploratory Data Analysis</dc:title>
</cp:coreProperties>
</file>