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24114-43BB-4947-B843-DE436C06F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1DC9F-0E68-4E67-9172-90BA55625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A87C-BAF4-4B66-BFDC-8A7B3E72E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EA13-9D0A-4197-A57C-5E6F495C3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B3F6B-7E6C-4BD1-895A-CADE603090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50599-0D20-4CA7-8143-F6866B2262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06EC2-C727-45D1-9288-9AC7A4A5A5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08A9C-233F-49E2-813B-71E6B1D81E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19BF7-378A-4758-A79B-BDD5DF4F5D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343C5-8D8E-4ECB-A2E7-DE0776D525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8D51C-F5E4-451B-B498-F24247674B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6CC19-AD1B-4B2D-BE63-30720C25F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C2C20-B555-452E-B4E8-B123347162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724A4-84DC-4062-A951-589027AC27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05384-8C0A-4816-A545-5886970FC8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26C4A-EA4D-4D16-BD47-C3B5F65F59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FA91C-3644-4E90-9030-261A7C6DCC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F0D4C-54A9-4384-A4B0-8C228A10D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F9081-918F-4B7A-9784-971795D75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A911E-F55E-4EBF-9D29-EA6F108E7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D562E-EC7F-451B-B202-98C5C8721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15263-79CF-4831-9756-03D61A9EB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9BDBB-9DA4-4D5B-A84D-A1D27D891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8D328-B8B7-40C0-98A0-1F070E555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4454069-3354-4B40-83CA-92BE52D418B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4350243-A10F-428A-9B72-72162BB6F0F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8448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700360" y="60660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4D3B0FC-E10E-4EDE-8A89-CAF37065DFC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7533992-0B9A-4CCC-B4FF-96B030A48650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21-09-29T12:11:19Z</dcterms:modified>
  <cp:revision>319</cp:revision>
  <dc:subject/>
  <dc:title>REGRESSION ANALYSIS</dc:title>
</cp:coreProperties>
</file>