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6"/>
          </p:nvPr>
        </p:nvSpPr>
        <p:spPr>
          <a:xfrm>
            <a:off x="3868200" y="0"/>
            <a:ext cx="3016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5364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7"/>
          </p:nvPr>
        </p:nvSpPr>
        <p:spPr>
          <a:xfrm>
            <a:off x="0" y="9443880"/>
            <a:ext cx="301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8"/>
          </p:nvPr>
        </p:nvSpPr>
        <p:spPr>
          <a:xfrm>
            <a:off x="386820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340D-7B44-4064-9B56-8165E1B2E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95400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8440" y="4722840"/>
            <a:ext cx="502740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Slide Number Placeholder 3"/>
          <p:cNvSpPr/>
          <p:nvPr/>
        </p:nvSpPr>
        <p:spPr>
          <a:xfrm>
            <a:off x="3868560" y="9443880"/>
            <a:ext cx="301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C770-1968-4D63-B50E-CF012CBEF54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69D-85B8-4DBA-8CB0-3F3D2D22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06D-0DE1-40BF-9911-89DC574AF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9FA7-06B4-4638-B5DD-4C95C0A1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943-20A1-40F0-940E-2BCCA2B1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68CA-B106-4C1E-B19C-8748BF83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64CB-24A9-4B2E-93FD-0345274D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4B9-C9E3-47FA-8062-FEAFD451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7D9E-E5D8-458A-8965-3A7AF673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46F-0636-4AC6-8868-1D85995F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F771-946A-445C-B3F5-5B92B1CA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1164-5360-40D9-8223-B4DEBDE4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89F-0534-41A6-8B55-8276B75B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479B-71BD-4E9E-9E92-E0350C68D66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7329600" y="6388200"/>
            <a:ext cx="1495440" cy="260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MRC Graduate Talks 20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68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6 November 2017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0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33" name="AutoShape 16"/>
          <p:cNvCxnSpPr>
            <a:stCxn id="228" idx="2"/>
            <a:endCxn id="229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4" name="AutoShape 17"/>
          <p:cNvCxnSpPr>
            <a:stCxn id="228" idx="2"/>
            <a:endCxn id="230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5" name="AutoShape 18"/>
          <p:cNvCxnSpPr>
            <a:stCxn id="228" idx="2"/>
            <a:endCxn id="231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6" name="AutoShape 19"/>
          <p:cNvCxnSpPr>
            <a:stCxn id="228" idx="2"/>
            <a:endCxn id="232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7" name="AutoShape 20"/>
          <p:cNvCxnSpPr>
            <a:stCxn id="226" idx="2"/>
            <a:endCxn id="227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38" name="AutoShape 21"/>
          <p:cNvCxnSpPr>
            <a:stCxn id="226" idx="2"/>
            <a:endCxn id="228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39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56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7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0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76" name="AutoShape 9"/>
          <p:cNvCxnSpPr>
            <a:stCxn id="275" idx="2"/>
            <a:endCxn id="271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7" name="AutoShape 10"/>
          <p:cNvCxnSpPr>
            <a:stCxn id="275" idx="2"/>
            <a:endCxn id="272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8" name="AutoShape 11"/>
          <p:cNvCxnSpPr>
            <a:stCxn id="272" idx="2"/>
            <a:endCxn id="273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9" name="AutoShape 12"/>
          <p:cNvCxnSpPr>
            <a:stCxn id="272" idx="2"/>
            <a:endCxn id="274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0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87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94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1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302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8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309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322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0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1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344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54" name="AutoShape 7"/>
          <p:cNvCxnSpPr>
            <a:stCxn id="353" idx="2"/>
            <a:endCxn id="349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5" name="AutoShape 8"/>
          <p:cNvCxnSpPr>
            <a:stCxn id="353" idx="2"/>
            <a:endCxn id="350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6" name="AutoShape 9"/>
          <p:cNvCxnSpPr>
            <a:stCxn id="350" idx="2"/>
            <a:endCxn id="351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57" name="AutoShape 10"/>
          <p:cNvCxnSpPr>
            <a:stCxn id="350" idx="2"/>
            <a:endCxn id="352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58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SzPct val="60000"/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6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29560" y="2436840"/>
            <a:ext cx="7712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12) however notes the Mauchly test has low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ower for small 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411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421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5" name="AutoShape 4"/>
          <p:cNvCxnSpPr>
            <a:endCxn id="436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7" name="AutoShape 5"/>
          <p:cNvCxnSpPr>
            <a:stCxn id="434" idx="3"/>
            <a:endCxn id="438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6"/>
          <p:cNvCxnSpPr>
            <a:stCxn id="434" idx="3"/>
            <a:endCxn id="440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36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51" name="AutoShape 7"/>
          <p:cNvCxnSpPr>
            <a:stCxn id="450" idx="2"/>
            <a:endCxn id="446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2" name="AutoShape 8"/>
          <p:cNvCxnSpPr>
            <a:stCxn id="450" idx="2"/>
            <a:endCxn id="447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3" name="AutoShape 9"/>
          <p:cNvCxnSpPr>
            <a:stCxn id="447" idx="2"/>
            <a:endCxn id="448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54" name="AutoShape 10"/>
          <p:cNvCxnSpPr>
            <a:stCxn id="447" idx="2"/>
            <a:endCxn id="449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55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61" name="AutoShape 18"/>
          <p:cNvCxnSpPr>
            <a:stCxn id="448" idx="2"/>
            <a:endCxn id="455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2" name="AutoShape 19"/>
          <p:cNvCxnSpPr>
            <a:stCxn id="448" idx="2"/>
            <a:endCxn id="456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3" name="AutoShape 20"/>
          <p:cNvCxnSpPr>
            <a:stCxn id="448" idx="2"/>
            <a:endCxn id="457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4" name="AutoShape 21"/>
          <p:cNvCxnSpPr>
            <a:stCxn id="449" idx="2"/>
            <a:endCxn id="458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5" name="AutoShape 22"/>
          <p:cNvCxnSpPr>
            <a:stCxn id="449" idx="2"/>
            <a:endCxn id="459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66" name="AutoShape 23"/>
          <p:cNvCxnSpPr>
            <a:stCxn id="449" idx="2"/>
            <a:endCxn id="460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3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7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0" name="AutoShape 7"/>
          <p:cNvCxnSpPr>
            <a:stCxn id="499" idx="2"/>
            <a:endCxn id="495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1" name="AutoShape 8"/>
          <p:cNvCxnSpPr>
            <a:stCxn id="499" idx="2"/>
            <a:endCxn id="496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2" name="AutoShape 9"/>
          <p:cNvCxnSpPr>
            <a:stCxn id="496" idx="2"/>
            <a:endCxn id="497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3" name="AutoShape 10"/>
          <p:cNvCxnSpPr>
            <a:stCxn id="496" idx="2"/>
            <a:endCxn id="498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04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5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508" name="AutoShape 24"/>
          <p:cNvCxnSpPr>
            <a:stCxn id="495" idx="2"/>
            <a:endCxn id="507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09" name="AutoShape 25"/>
          <p:cNvCxnSpPr>
            <a:stCxn id="495" idx="2"/>
            <a:endCxn id="506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0" name="AutoShape 26"/>
          <p:cNvCxnSpPr>
            <a:stCxn id="498" idx="2"/>
            <a:endCxn id="504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511" name="AutoShape 27"/>
          <p:cNvCxnSpPr>
            <a:stCxn id="498" idx="2"/>
            <a:endCxn id="505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512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9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72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73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8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79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80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1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84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86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90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3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57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9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601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3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7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2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63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21-09-29T12:20:52Z</dcterms:modified>
  <cp:revision>92</cp:revision>
  <dc:subject/>
  <dc:title>No Slide Title</dc:title>
</cp:coreProperties>
</file>